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comments/comment3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<Relationship Id="rId67" Type="http://schemas.openxmlformats.org/officeDocument/2006/relationships/commentAuthors" Target="commentAuthors.xml"/>
</Relationships>
</file>

<file path=ppt/comments/comment31.xml><?xml version="1.0" encoding="utf-8"?>
<p:cmLst xmlns:p="http://schemas.openxmlformats.org/presentationml/2006/main">
  <p:cm authorId="0" dt="2010-11-23T20:51:23.335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657-2C87-4CC5-98D5-1642C552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41B-1193-42EC-AA4A-BF07F00F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AE5-0216-462E-A1F3-B3D32314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23D-2C55-4B58-BC95-916DF9A4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071E-AA08-4107-9C19-A83D811B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AB6C-65D7-46A1-93BB-999F627B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4B01-CE02-4420-BA7A-E1F2E950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DCA9-C9E7-4B5B-BE06-04E7147F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8B87-669B-41C8-9D55-450B5CAC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B15A-26EE-4C90-9F6D-EB954091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4595-0150-453F-9D54-55059CD4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282-92E4-450B-B82C-67B9B13B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A386-386D-421A-A41D-5D528DE6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9D0E-33F7-40F6-B63C-8F887F10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664A-DBEB-43F4-B8B6-3AB50C0D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5C3C-3093-4C35-98F2-B210F02E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466A-7F91-4416-B296-B24B2F51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93CAD-CBA1-44E7-906C-1AC0E7C7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624C2-E469-4713-BEC0-778CB028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FE505-B06F-45A4-AEC0-6ED0B256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BD3FD-0AC4-4532-A144-6D5EE801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4CB15-38E8-42EF-AEDC-3D4D2E57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125A-F39C-4D91-B9E5-F5B8B5F4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852D2-FA7E-4494-8D76-0D935788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D9493-2740-48DB-B0D7-568B5F81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3483B-70EF-4F00-AC8B-5E98AD7C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8E108-6841-40DC-A5BF-ADFEA152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B9C6C-F76E-4AC7-A70E-AD50A065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BB2BA-543B-4DEA-AAB0-C7351DA3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79717-D826-4EC7-A230-C51EFBCB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B736-DB4F-471D-A5BB-345CFC94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AE9C-1EBE-450C-8FE6-7D3F7AAE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9E4-A12F-4D8A-8482-F6C5ABDE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7061-4B5B-4307-AAEB-CCA7318A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B22-9414-4C08-A550-203C53AC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84EA-34B5-46E0-B6E2-882DDEFD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0897-02DA-45A5-AF6E-03A82064662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00FA-6365-4CD9-A48C-8E5CE301413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4857-BFB2-4FD8-B4E2-B8FB0750C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<Relationship Id="rId3" Type="http://schemas.openxmlformats.org/officeDocument/2006/relationships/comments" Target="../comments/comment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2514600" y="1752480"/>
            <a:ext cx="4572000" cy="3964680"/>
            <a:chOff x="2514600" y="1752480"/>
            <a:chExt cx="4572000" cy="3964680"/>
          </a:xfrm>
        </p:grpSpPr>
        <p:sp>
          <p:nvSpPr>
            <p:cNvPr id="198" name=""/>
            <p:cNvSpPr/>
            <p:nvPr/>
          </p:nvSpPr>
          <p:spPr>
            <a:xfrm>
              <a:off x="2514600" y="1752480"/>
              <a:ext cx="4572000" cy="39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+                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              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.VnAvantH"/>
                </a:rPr>
                <a:t>PH¤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.VnAvant"/>
                </a:rPr>
                <a:t>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.VnAvant"/>
                </a:rPr>
                <a:t>Hîp tö        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Zygot)                      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.VnAvantH"/>
                </a:rPr>
                <a:t>Tha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.VnAvant"/>
                </a:rPr>
                <a:t> 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.VnAvantH"/>
                </a:rPr>
                <a:t>                        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.VnAvantH"/>
                </a:rPr>
                <a:t>häc</a:t>
              </a:r>
              <a:r>
                <a:rPr b="1" lang="en-US" sz="2400" spc="-1" strike="noStrike">
                  <a:solidFill>
                    <a:srgbClr val="ffffff"/>
                  </a:solidFill>
                  <a:latin typeface=".VnAvant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.VnAvant"/>
                </a:rPr>
                <a:t>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.VnAvant"/>
                </a:rPr>
                <a:t>Ra ®ê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     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3733920" y="1752480"/>
              <a:ext cx="106668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429000" y="228600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29000" y="40384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81480" y="1981080"/>
              <a:ext cx="228600" cy="3429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89280 h 3429000"/>
                <a:gd name="textAreaBottom" fmla="*/ 333972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07989-4224-47D4-B6B2-529E41FF25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66680" y="4572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.VnAvant"/>
              </a:rPr>
              <a:t>Nghiªn cøu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.VnAvant"/>
              </a:rPr>
              <a:t>hiÖn ®¹i</a:t>
            </a:r>
            <a:r>
              <a:rPr b="1" lang="en-US" sz="1800" spc="-1" strike="noStrike">
                <a:solidFill>
                  <a:srgbClr val="333399"/>
                </a:solidFill>
                <a:latin typeface=".VnAvan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Trªn mÆt no·n cã nh÷ng receptor tinh trï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Trªn mÆt tinh trïng cã nh÷ng protein g¾n vµo no·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Sù kÕt dÝnh tinh trïng &amp; no·n cã tÝnh ®Æc hiÖu cho loµ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Sau khi g¾n vµo mµng trong suèt, tinh trïng chÞu ph¶n øng cù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®Çu, no·n chÞu ph¶n øng vá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T¹o ra ph¶n øng mµng tro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suèt (trơ, kh«ng cho tinh trïng kh¸c dÝnh vµ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038480"/>
            <a:ext cx="228600" cy="1905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388620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876560" y="3962520"/>
            <a:ext cx="53316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5715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57150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95680" y="57150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57150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371600" y="3505320"/>
            <a:ext cx="6629400" cy="2547000"/>
            <a:chOff x="1371600" y="3505320"/>
            <a:chExt cx="6629400" cy="254700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2438280" y="3505320"/>
              <a:ext cx="3686400" cy="24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2057400" y="44956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71600" y="414324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Tinh trï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457200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24480" y="4343400"/>
              <a:ext cx="53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Tói la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24480" y="571500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H¹t v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09680" y="571500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47920" y="55306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No·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00800" y="497844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Mµng trong suè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3600" y="52578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91320" y="5791320"/>
              <a:ext cx="5331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B1F31-7C38-4506-82B9-064CD6322C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.VnAvantH"/>
              </a:rPr>
              <a:t>2.2.2. Tinh trïng lät qua mµng trong suèt</a:t>
            </a:r>
            <a:br>
              <a:rPr sz="1800"/>
            </a:br>
            <a:br>
              <a:rPr sz="1200"/>
            </a:br>
            <a:r>
              <a:rPr b="1" lang="en-US" sz="1200" spc="-1" strike="noStrike">
                <a:solidFill>
                  <a:srgbClr val="ffff00"/>
                </a:solidFill>
                <a:latin typeface=".VnAvant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Proacrosin (trong tói cùc ®Çu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.VnAvan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acrosin: tiªu huû mµng trong suè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.VnAvan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®­êng hÇm nhá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.VnAvan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Tinh trïng lät qua mµng trong suèt.</a:t>
            </a:r>
            <a:br>
              <a:rPr sz="1800"/>
            </a:br>
            <a:br>
              <a:rPr sz="1400"/>
            </a:br>
            <a:r>
              <a:rPr b="1" lang="en-US" sz="2000" spc="-1" strike="noStrike">
                <a:solidFill>
                  <a:srgbClr val="0000ff"/>
                </a:solidFill>
                <a:latin typeface=".VnAvantH"/>
              </a:rPr>
              <a:t>2.3. Tinh trïng lät vµo bµo t­¬ng cña no·n</a:t>
            </a:r>
            <a:br>
              <a:rPr sz="18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.VnAvant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Tinh trïng tíi tiÕp xóc víi no·n, mµng tinh trïng s¸t nhËp víi mµng no·n, nh©n &amp; bµo t­¬ng tinh trïng lät vµo bµo t­¬ng cña no·n, mµng tinh trïng n»m l¹i bªn ngoµ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486400" y="1828800"/>
            <a:ext cx="3657240" cy="3581280"/>
            <a:chOff x="5486400" y="1828800"/>
            <a:chExt cx="3657240" cy="358128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5719680" y="1828800"/>
              <a:ext cx="334620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486400" y="254484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AvantH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09040" y="4981680"/>
              <a:ext cx="7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AvantH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599320" y="3691080"/>
              <a:ext cx="54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AvantH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09600" y="2113920"/>
              <a:ext cx="54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AvantH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719680" y="3834000"/>
              <a:ext cx="1011600" cy="50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75760" y="1972080"/>
              <a:ext cx="466920" cy="71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8054280" y="2687760"/>
              <a:ext cx="933840" cy="46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898760" y="4192200"/>
              <a:ext cx="311040" cy="71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7D817-84A0-4042-B765-00EB3E6940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9714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400"/>
            </a:br>
            <a:r>
              <a:rPr b="1" lang="en-US" sz="1400" spc="-1" strike="noStrike">
                <a:solidFill>
                  <a:srgbClr val="ccecff"/>
                </a:solidFill>
                <a:latin typeface=".VnAvant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Bµo t­¬ng cña tinh trïng &amp; no·n hoµ lÉn nhau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No·n bµo 2  gi¶m ph©n lÇn II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no·n chÝn &amp; cùc cÇu 2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Nh©n tinh trïng = tiÒn nh©n ®ùc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  Nh©n no·n = tiÒn nh©n c¸i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Mµng nh©n biÕn mÊt, TNS xo¾n l¹i, ng¾n ®i, dµy lªn, thoi kh«ng mµu xuÊt hiÖn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.VnAvant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trøng thô tinh ph©n lµm 2 ph«i bµo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5638680" y="2057400"/>
            <a:ext cx="3505320" cy="40672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09480" y="99072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.VnAvantH"/>
              </a:rPr>
              <a:t>2.4. Sù kÕt hîp gi÷a no·n vµ tinh trï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D0E1-D83B-405F-96E5-626BC0D183A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460440"/>
            <a:ext cx="38102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.VnTime"/>
              </a:rPr>
              <a:t>3. KÕt qu¶ cña sù thô ti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Sù kÕt hîp 2 tÕ bµo </a:t>
            </a:r>
            <a:r>
              <a:rPr b="1" i="1" lang="en-US" sz="2000" spc="-1" strike="noStrike">
                <a:solidFill>
                  <a:srgbClr val="33cc33"/>
                </a:solidFill>
                <a:latin typeface=".VnTime"/>
              </a:rPr>
              <a:t>biÖt ho¸ cao ®é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(tinh trïng &amp; no·n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1 tÕ bµo </a:t>
            </a:r>
            <a:r>
              <a:rPr b="1" i="1" lang="en-US" sz="2000" spc="-1" strike="noStrike">
                <a:solidFill>
                  <a:srgbClr val="33cc33"/>
                </a:solidFill>
                <a:latin typeface=".VnTime"/>
              </a:rPr>
              <a:t>kÐm biÖt ho¸,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cã kh¶ n¨ng </a:t>
            </a:r>
            <a:r>
              <a:rPr b="1" i="1" lang="en-US" sz="2000" spc="-1" strike="noStrike">
                <a:solidFill>
                  <a:srgbClr val="33cc33"/>
                </a:solidFill>
                <a:latin typeface=".VnTime"/>
              </a:rPr>
              <a:t>ph©n chia tÝch cù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Sù thô tinh </a:t>
            </a:r>
            <a:r>
              <a:rPr b="1" i="1" lang="en-US" sz="2000" spc="-1" strike="noStrike">
                <a:solidFill>
                  <a:srgbClr val="33cc33"/>
                </a:solidFill>
                <a:latin typeface=".VnTime"/>
              </a:rPr>
              <a:t>kh«i phôc l¹i bé nhiÔm s¾c thÓ l­ìng béi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®Æc tr­ng cho loµ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i="1" lang="en-US" sz="2000" spc="-1" strike="noStrike">
                <a:solidFill>
                  <a:srgbClr val="33cc33"/>
                </a:solidFill>
                <a:latin typeface=".VnTime"/>
              </a:rPr>
              <a:t>Giíi tÝnh di truyÒn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®­îc quyÕt ®Þnh ngay sau khi thô tin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O (X) +            (Y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O (X) +            (X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C¸ thÓ míi sinh </a:t>
            </a:r>
            <a:r>
              <a:rPr b="1" i="1" lang="en-US" sz="2000" spc="-1" strike="noStrike">
                <a:solidFill>
                  <a:srgbClr val="33cc33"/>
                </a:solidFill>
                <a:latin typeface=".VnTime"/>
              </a:rPr>
              <a:t>mang ®Æc tÝnh di truyÒn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cña c¶ cha lÉn m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KÝch thÝch no·n </a:t>
            </a:r>
            <a:r>
              <a:rPr b="1" i="1" lang="en-US" sz="2000" spc="-1" strike="noStrike">
                <a:solidFill>
                  <a:srgbClr val="33cc33"/>
                </a:solidFill>
                <a:latin typeface=".VnTime"/>
              </a:rPr>
              <a:t>ho¹t ®éng vµ ph©n ch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Sù thô tinh kh¬I mµo cho hµng lo¹t </a:t>
            </a:r>
            <a:r>
              <a:rPr b="1" i="1" lang="en-US" sz="2000" spc="-1" strike="noStrike">
                <a:solidFill>
                  <a:srgbClr val="33cc33"/>
                </a:solidFill>
                <a:latin typeface=".VnTime"/>
              </a:rPr>
              <a:t>qu¸ tr×nh gi¸n ph©n nèi tiÕp nh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895480" y="3124080"/>
            <a:ext cx="1698480" cy="1295280"/>
            <a:chOff x="2895480" y="3124080"/>
            <a:chExt cx="1698480" cy="1295280"/>
          </a:xfrm>
        </p:grpSpPr>
        <p:sp>
          <p:nvSpPr>
            <p:cNvPr id="265" name=""/>
            <p:cNvSpPr/>
            <p:nvPr/>
          </p:nvSpPr>
          <p:spPr>
            <a:xfrm flipV="1">
              <a:off x="4441680" y="3200040"/>
              <a:ext cx="15228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2895480" y="3124080"/>
              <a:ext cx="57132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2"/>
            <a:stretch/>
          </p:blipFill>
          <p:spPr>
            <a:xfrm>
              <a:off x="2895480" y="3809880"/>
              <a:ext cx="5713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365360" y="42670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89400" y="43434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3"/>
            <a:stretch/>
          </p:blipFill>
          <p:spPr>
            <a:xfrm>
              <a:off x="2917800" y="3124080"/>
              <a:ext cx="571320" cy="51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65FDA-CB64-4A1B-A6C0-68B2B130E8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øng thô tinh gi¸n ph©n liªn tôc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Kho¶ng ®Çu ngµy thø 4 sau thô tinh, trøng thô tinh gåm 12-16 ph«i bµo, mÆt ngoµi xï x× nh­ qu¶ d©u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Cooper"/>
              </a:rPr>
              <a:t>Ph«i d©u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.</a:t>
            </a:r>
            <a:br>
              <a:rPr sz="2000"/>
            </a:b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- Ph«i d©u cã sù t¸ch tÕ bµo:</a:t>
            </a:r>
            <a:br>
              <a:rPr sz="2000"/>
            </a:b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  + Líp tÕ bµo bªn ngoµi (l¸ nu«i) t¹o </a:t>
            </a:r>
            <a:r>
              <a:rPr b="1" lang="sv-SE" sz="2000" spc="-1" strike="noStrike">
                <a:solidFill>
                  <a:srgbClr val="009900"/>
                </a:solidFill>
                <a:latin typeface=".VnTime"/>
              </a:rPr>
              <a:t>Rau &amp; c¸c bé phËn phô</a:t>
            </a:r>
            <a:r>
              <a:rPr b="1" i="1" lang="sv-SE" sz="2000" spc="-1" strike="noStrike">
                <a:solidFill>
                  <a:srgbClr val="009900"/>
                </a:solidFill>
                <a:latin typeface=".VnTime"/>
              </a:rPr>
              <a:t>.</a:t>
            </a:r>
            <a:br>
              <a:rPr sz="2000"/>
            </a:b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  + Khèi TB bªn trong (mÇm ph«i) t¹o </a:t>
            </a:r>
            <a:r>
              <a:rPr b="1" lang="sv-SE" sz="2000" spc="-1" strike="noStrike">
                <a:solidFill>
                  <a:srgbClr val="009900"/>
                </a:solidFill>
                <a:latin typeface=".VnTime"/>
              </a:rPr>
              <a:t>Ph«i.</a:t>
            </a:r>
            <a:r>
              <a:rPr b="1" lang="sv-SE" sz="1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905120" y="4038480"/>
            <a:ext cx="6019200" cy="2684880"/>
            <a:chOff x="1905120" y="4038480"/>
            <a:chExt cx="6019200" cy="268488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1905120" y="4419360"/>
              <a:ext cx="494316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419360" y="632448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.VnTime"/>
                </a:rPr>
                <a:t>Ph«I d©u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81280" y="4038480"/>
              <a:ext cx="20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Mµng trong suè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62160" y="5867280"/>
              <a:ext cx="114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L¸ nu«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571640" y="5562000"/>
              <a:ext cx="114264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5562360"/>
              <a:ext cx="756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819160" y="4267080"/>
              <a:ext cx="76176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33760" y="4267080"/>
              <a:ext cx="68544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71840" y="5257440"/>
              <a:ext cx="761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33960" y="48765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MÇm ph«i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914400" y="3808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304920"/>
            <a:ext cx="5257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.VnTime"/>
              </a:rPr>
              <a:t>Sù ph©n chia trøng thô  Tinh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.VnTime"/>
              </a:rPr>
              <a:t>Giai ®o¹n ph«i d©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5A4D4-6814-418C-AE70-1276866D6E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.VnTime"/>
              </a:rPr>
              <a:t>Giai ®o¹n ph«i na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4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ngµy sau thô tinh, trøng ®· lät vµo khoang tö cung, vïi trong chÊt dÞch (NMTC tiÕt 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XuÊt hiÖn 1 c¸i khoang xen gi÷a c¸c líp ph«i  bµ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Khoang nµy lín lªn, chøa dÞc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.VnTime"/>
              </a:rPr>
              <a:t>Khoang ph«i nang (khoang d­íi mÇ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257800" y="1828800"/>
            <a:ext cx="3657240" cy="3522960"/>
            <a:chOff x="5257800" y="1828800"/>
            <a:chExt cx="3657240" cy="3522960"/>
          </a:xfrm>
        </p:grpSpPr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25800" y="2438280"/>
              <a:ext cx="228924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947280" y="4952880"/>
              <a:ext cx="185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.VnTime"/>
                </a:rPr>
                <a:t>Ph«i na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51880" y="22860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08560" y="1828800"/>
              <a:ext cx="144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.VnTime"/>
                </a:rPr>
                <a:t>Cóc ph«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57800" y="3886200"/>
              <a:ext cx="144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Khoang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ph«i na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706080" y="3962520"/>
              <a:ext cx="88524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AD8D5-FFBA-41D7-9BD2-952EBD0DB8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Khèi tÕ bµo trung t©m = </a:t>
            </a:r>
            <a:r>
              <a:rPr b="1" i="1" lang="en-US" sz="2000" spc="-1" strike="noStrike">
                <a:solidFill>
                  <a:srgbClr val="0000ff"/>
                </a:solidFill>
                <a:latin typeface=".VnTime"/>
              </a:rPr>
              <a:t>cóc ph«i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(låi vµo khoang d­íi mÇm)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Cóc ph«i bÞ ®Èy dÇn vÒ 1 cùc cña trø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cùc ph«i, cùc ®èi lËp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cùc ®èi ph«i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Líp tÕ bµo ngoµi dÑt l¹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t¹o thµnh khoang ph«i nang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Trøng thô tinh = </a:t>
            </a:r>
            <a:r>
              <a:rPr b="1" i="1" lang="en-US" sz="2000" spc="-1" strike="noStrike">
                <a:solidFill>
                  <a:srgbClr val="0000ff"/>
                </a:solidFill>
                <a:latin typeface=".VnTime"/>
              </a:rPr>
              <a:t>ph«i nang.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Giai ®o¹n nµy = </a:t>
            </a:r>
            <a:r>
              <a:rPr b="1" i="1" lang="en-US" sz="2000" spc="-1" strike="noStrike">
                <a:solidFill>
                  <a:srgbClr val="0000ff"/>
                </a:solidFill>
                <a:latin typeface=".VnTime"/>
              </a:rPr>
              <a:t>giai ®o¹n ph«i nang.</a:t>
            </a: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638680" y="40384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410080" y="1371600"/>
            <a:ext cx="3733560" cy="3522960"/>
            <a:chOff x="5410080" y="1371600"/>
            <a:chExt cx="3733560" cy="352296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6806520" y="1981080"/>
              <a:ext cx="233712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7134840" y="4495680"/>
              <a:ext cx="188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.VnTime"/>
                </a:rPr>
                <a:t>Ph«I na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56360" y="18288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99360" y="1371600"/>
              <a:ext cx="147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.VnTime"/>
                </a:rPr>
                <a:t>Cóc ph«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10080" y="3429000"/>
              <a:ext cx="147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Khoang ph«i na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888240" y="3505320"/>
              <a:ext cx="903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C6294-FB36-43D4-8E69-99ED6CB3EB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200" spc="-1" strike="noStrike">
                <a:solidFill>
                  <a:srgbClr val="ff0000"/>
                </a:solidFill>
                <a:latin typeface=".VnAvantH"/>
              </a:rPr>
              <a:t>Sù ph¸t triÓn cña ph«i 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.VnAvantH"/>
              </a:rPr>
              <a:t>trong tuÇn thø hai vµ tuÇn thø ba</a:t>
            </a:r>
            <a:br>
              <a:rPr sz="2200"/>
            </a:b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.VnAvantH"/>
              </a:rPr>
              <a:t>1.1. Sù lµm tæ cña trø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Trøng lät vµo NMTC råi b¸m vµo ®ã ®Ó ph¸t triÓn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Trøng lµm tæ trong NMTC (ngµy thø 6 sau thô tinh).(khi đ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ã, trøng ®ang ë giai ®o¹n ph«i na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523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.VnAvantH"/>
              </a:rPr>
              <a:t>1. Sù ph¸t triÓn cña ph«i ë tuÇn thø h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457880" y="2133720"/>
            <a:ext cx="4686120" cy="3778200"/>
            <a:chOff x="4457880" y="2133720"/>
            <a:chExt cx="4686120" cy="377820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rcRect l="49791" t="45484" r="16587" b="5829"/>
            <a:stretch/>
          </p:blipFill>
          <p:spPr>
            <a:xfrm>
              <a:off x="4802400" y="2133720"/>
              <a:ext cx="2855880" cy="34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4457880" y="2589120"/>
              <a:ext cx="102852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Khoang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    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è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58280" y="3375000"/>
              <a:ext cx="1485720" cy="195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.VnAvant"/>
                </a:rPr>
                <a:t>L¸ nu«i tÕ bµ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.VnAvant"/>
                </a:rPr>
                <a:t>L¸ nu«i hîp bµ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Th­îng b×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H¹ b×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Mao m¹c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33840" y="5226120"/>
              <a:ext cx="12574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Khoang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ph«i na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07EF1-0919-4301-8A80-9B7BB015FE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58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L¸ nu«i cã 2 líp: L¸ nu«i hîp bµo (ngoµi) &amp; l¸ nu«i tÕ bµo (trong)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    Líp l¸ nu«i hîp bµo ph¸t triÓn m¹nh, b¸m chÆt vµo NMTC, tiÕt ra men tiªu huû NMTC t¹o thµnh mét c¸i hè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Trøng lät dÇn vµo NMTC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4191120" y="1219320"/>
            <a:ext cx="4686120" cy="3778200"/>
            <a:chOff x="4191120" y="1219320"/>
            <a:chExt cx="4686120" cy="3778200"/>
          </a:xfrm>
        </p:grpSpPr>
        <p:pic>
          <p:nvPicPr>
            <p:cNvPr id="313" name="" descr=""/>
            <p:cNvPicPr/>
            <p:nvPr/>
          </p:nvPicPr>
          <p:blipFill>
            <a:blip r:embed="rId1"/>
            <a:srcRect l="49791" t="45484" r="16587" b="5829"/>
            <a:stretch/>
          </p:blipFill>
          <p:spPr>
            <a:xfrm>
              <a:off x="4535640" y="1219320"/>
              <a:ext cx="2855880" cy="34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191120" y="1674720"/>
              <a:ext cx="102852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Khoang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    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è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91520" y="2460600"/>
              <a:ext cx="1485720" cy="195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.VnAvant"/>
                </a:rPr>
                <a:t>L¸ nu«i tÕ bµ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.VnAvant"/>
                </a:rPr>
                <a:t>L¸ nu«i hîp bµ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Th­îng b×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H¹ b×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Mao m¹c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67080" y="4311720"/>
              <a:ext cx="12574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Khoang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ph«i na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14082-1FEB-435D-8FEB-2275E7821A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B×nh th­êng trøng lµm tæ ë thµnh tr­íc hoÆc thµnh sau tö cung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Cã thÓ lµm tæ ë gÇn lç trong cæ tö cu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Rau tiÒn ®¹o.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.VnTim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Cã thÓ lµm tæ trong khoang bông (hay gÆp ë tói cïng Douglas), trªn mÆt buång trøng hay trong vßi trøng (th­êng gÆp nhÊt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Chöa ngoµi tö cung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(Ph«i chÕt &amp; mÑ bÞ xuÊt huyÕt nghiªm trä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7115040" cy="230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844C1-3EBF-474A-9A43-0036A7C52F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TH nghiên cứu sự phát sinh &amp; phát triển bình thường &amp; bất thường của cá thể sinh vậ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ia 2 thời kỳ: Phôi và tha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gày nay, chia 3 thời kỳ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THỜI KỲ TIỀN PHÔI:</a:t>
            </a:r>
            <a:r>
              <a:rPr b="1" lang="vi-VN" sz="1700" spc="-1" strike="noStrike">
                <a:solidFill>
                  <a:srgbClr val="000000"/>
                </a:solidFill>
                <a:latin typeface="Arial"/>
              </a:rPr>
              <a:t>Từ thụ tinh </a:t>
            </a: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1700" spc="-1" strike="noStrike">
                <a:solidFill>
                  <a:srgbClr val="000000"/>
                </a:solidFill>
                <a:latin typeface="Arial"/>
              </a:rPr>
              <a:t>đĩa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phôi lưỡng bì - tuần 1 +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THỜI KỲ PHÔI: T</a:t>
            </a:r>
            <a:r>
              <a:rPr b="1" lang="vi-VN" sz="1700" spc="-1" strike="noStrike">
                <a:solidFill>
                  <a:srgbClr val="000000"/>
                </a:solidFill>
                <a:latin typeface="Arial"/>
              </a:rPr>
              <a:t>uần 3 </a:t>
            </a: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vi-VN" sz="1700" spc="-1" strike="noStrike">
                <a:solidFill>
                  <a:srgbClr val="000000"/>
                </a:solidFill>
                <a:latin typeface="Arial"/>
              </a:rPr>
              <a:t> tuần 8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THỜI KỲ THAI: T</a:t>
            </a:r>
            <a:r>
              <a:rPr b="1" lang="vi-VN" sz="1700" spc="-1" strike="noStrike">
                <a:solidFill>
                  <a:srgbClr val="000000"/>
                </a:solidFill>
                <a:latin typeface="Arial"/>
              </a:rPr>
              <a:t>uần 9 </a:t>
            </a: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vi-VN" sz="1700" spc="-1" strike="noStrike">
                <a:solidFill>
                  <a:srgbClr val="000000"/>
                </a:solidFill>
                <a:latin typeface="Arial"/>
              </a:rPr>
              <a:t> ra đời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ội dung nghiên cứu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T hình thái họ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T sinh lý học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TH phân tử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TH nguyên nhâ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.VnAv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.VnAvant"/>
              </a:rPr>
              <a:t>PT bÖnh häc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ai trò của PTH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Với sinh họ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Với y họ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3B127-D836-45DE-B66C-842948FB90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.VnTime"/>
              </a:rPr>
              <a:t>1.2. Sù t¹o ra ®Üa ph«i l­ìng b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cc"/>
                </a:solidFill>
                <a:latin typeface=".VnTime"/>
              </a:rPr>
              <a:t>1.2.1. Sù t¹o ra th­îng b× &amp; h¹ b× ph«i</a:t>
            </a: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MÇm ph«i biÖt ho¸ thµnh 2 lí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Líp h­íng vÒ khoang ph«i na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L¸ h¹ b× ph«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Líp ki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L¸ th­îng b× ph«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rcRect l="49791" t="45484" r="16587" b="5829"/>
          <a:stretch/>
        </p:blipFill>
        <p:spPr>
          <a:xfrm>
            <a:off x="2286000" y="2819520"/>
            <a:ext cx="2855880" cy="342720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1905120" y="3429000"/>
            <a:ext cx="4610160" cy="2688840"/>
            <a:chOff x="1905120" y="3429000"/>
            <a:chExt cx="4610160" cy="2688840"/>
          </a:xfrm>
        </p:grpSpPr>
        <p:sp>
          <p:nvSpPr>
            <p:cNvPr id="324" name=""/>
            <p:cNvSpPr/>
            <p:nvPr/>
          </p:nvSpPr>
          <p:spPr>
            <a:xfrm>
              <a:off x="1905120" y="3429000"/>
              <a:ext cx="102888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Khoang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    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è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29560" y="4160520"/>
              <a:ext cx="1485720" cy="195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.VnTime"/>
                </a:rPr>
                <a:t>L¸ nu«i tÕ bµ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.VnTime"/>
                </a:rPr>
                <a:t>L¸ nu«i hîp bµ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Th­îng b×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H¹ b×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Mao m¹c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057400" y="6172200"/>
            <a:ext cx="1257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Khoang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ph«i n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248520" y="1905120"/>
            <a:ext cx="75960" cy="609480"/>
          </a:xfrm>
          <a:custGeom>
            <a:avLst/>
            <a:gdLst>
              <a:gd name="textAreaLeft" fmla="*/ 0 w 75960"/>
              <a:gd name="textAreaRight" fmla="*/ 2736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1752480"/>
            <a:ext cx="25909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§Üa ph«i 2 l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(®Üa ph«i l­ìngb×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7D350-501A-4AD5-A919-D0BE6170D1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.VnTime"/>
              </a:rPr>
              <a:t>1.2.2</a:t>
            </a:r>
            <a:r>
              <a:rPr b="1" lang="en-US" sz="2000" spc="-1" strike="noStrike">
                <a:solidFill>
                  <a:srgbClr val="6600cc"/>
                </a:solidFill>
                <a:latin typeface=".VnTime"/>
              </a:rPr>
              <a:t>.</a:t>
            </a:r>
            <a:r>
              <a:rPr b="1" i="1" lang="en-US" sz="2000" spc="-1" strike="noStrike">
                <a:solidFill>
                  <a:srgbClr val="6600cc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.VnAvant"/>
              </a:rPr>
              <a:t>Ngµy thø 8: Sù t¹o ra khoang èi,…</a:t>
            </a: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Trong l¸ th</a:t>
            </a:r>
            <a:r>
              <a:rPr b="1" lang="vi-VN" sz="1800" spc="-1" strike="noStrike">
                <a:solidFill>
                  <a:srgbClr val="000000"/>
                </a:solidFill>
                <a:latin typeface=".VnTime"/>
              </a:rPr>
              <a:t>ượng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b× xuất hiện c¸c khe ch</a:t>
            </a:r>
            <a:r>
              <a:rPr b="1" lang="vi-VN" sz="1800" spc="-1" strike="noStrike">
                <a:solidFill>
                  <a:srgbClr val="000000"/>
                </a:solidFill>
                <a:latin typeface=".VnTime"/>
              </a:rPr>
              <a:t>ứa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dịch råi h</a:t>
            </a:r>
            <a:r>
              <a:rPr b="1" lang="vi-VN" sz="1800" spc="-1" strike="noStrike">
                <a:solidFill>
                  <a:srgbClr val="000000"/>
                </a:solidFill>
                <a:latin typeface=".VnTime"/>
              </a:rPr>
              <a:t>ợp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nhất</a:t>
            </a:r>
            <a:r>
              <a:rPr b="1" lang="en-US" sz="1800" spc="-1" strike="noStrike">
                <a:solidFill>
                  <a:srgbClr val="6600cc"/>
                </a:solidFill>
                <a:latin typeface=".VnTim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1800" spc="-1" strike="noStrike">
                <a:solidFill>
                  <a:srgbClr val="009900"/>
                </a:solidFill>
                <a:latin typeface=".VnTime"/>
              </a:rPr>
              <a:t>Khoang èi</a:t>
            </a:r>
            <a:r>
              <a:rPr b="1" lang="en-US" sz="1800" spc="-1" strike="noStrike">
                <a:solidFill>
                  <a:srgbClr val="009900"/>
                </a:solidFill>
                <a:latin typeface=".VnTime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Hàng tế bào phủ trần khoang ối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1800" spc="-1" strike="noStrike">
                <a:solidFill>
                  <a:srgbClr val="009900"/>
                </a:solidFill>
                <a:latin typeface=".VnTime"/>
              </a:rPr>
              <a:t>Mµng èi, (tõ cóc ph«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457880" y="1143000"/>
            <a:ext cx="4686120" cy="3778200"/>
            <a:chOff x="4457880" y="1143000"/>
            <a:chExt cx="4686120" cy="377820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rcRect l="49791" t="45484" r="16587" b="5829"/>
            <a:stretch/>
          </p:blipFill>
          <p:spPr>
            <a:xfrm>
              <a:off x="4802400" y="1143000"/>
              <a:ext cx="2855880" cy="34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4457880" y="1598400"/>
              <a:ext cx="102852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Khoang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    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è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658280" y="2384280"/>
              <a:ext cx="1485720" cy="195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.VnTime"/>
                </a:rPr>
                <a:t>L¸ nu«i tÕ bµ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.VnTime"/>
                </a:rPr>
                <a:t>L¸ nu«i hîp bµ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Th­îng b×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H¹ b×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Mao m¹c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33840" y="4235400"/>
              <a:ext cx="12574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Khoang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ph«i na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2FE88-6685-429D-BCD2-ACF71A50A2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cc"/>
                </a:solidFill>
                <a:latin typeface=".VnAvant"/>
              </a:rPr>
              <a:t>1.2.3</a:t>
            </a:r>
            <a:r>
              <a:rPr b="1" lang="en-US" sz="2000" spc="-1" strike="noStrike">
                <a:solidFill>
                  <a:srgbClr val="6600cc"/>
                </a:solidFill>
                <a:latin typeface=".VnAvant"/>
              </a:rPr>
              <a:t>. Ngày thứ 9: Sù t¹o ra tói no·n hoµng nguyªn  ph¸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Ph«i nang lät s©u vµo NMTC, bÞ bÞt kÝn bëi 1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.VnTime"/>
              </a:rPr>
              <a:t>côc sîi huyÕt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ë cùc ph«i, l¸ nu«i ph¸t triÓn m¹nh, trong líp l¸ nu«i hîp bµo xuÊt hiÖn nh÷ng kh«ng bµo néi bµo råi häp víi nhau thµnh nh÷ng hèc lí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6600cc"/>
                </a:solidFill>
                <a:latin typeface=".VnTime"/>
              </a:rPr>
              <a:t>Giai ®o¹n hèc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Tõ h¹ b× ph¸t sinh nh÷ng tÕ bµo dÑ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mµng máng = </a:t>
            </a:r>
            <a:r>
              <a:rPr b="1" i="1" lang="en-US" sz="2000" spc="-1" strike="noStrike">
                <a:solidFill>
                  <a:srgbClr val="6600cc"/>
                </a:solidFill>
                <a:latin typeface=".VnTime"/>
              </a:rPr>
              <a:t>mµng Heuser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lãt trong l¸ nu«i            Khoang ph«i na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6600cc"/>
                </a:solidFill>
                <a:latin typeface=".VnTime"/>
              </a:rPr>
              <a:t>Tói no·n hoµng nguyªn ph¸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572000" y="1295280"/>
            <a:ext cx="4572000" cy="3933720"/>
            <a:chOff x="4572000" y="1295280"/>
            <a:chExt cx="4572000" cy="3933720"/>
          </a:xfrm>
        </p:grpSpPr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5621400" y="1752480"/>
              <a:ext cx="3182760" cy="284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7907400" y="1371600"/>
              <a:ext cx="123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Khoang è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050240" y="1676160"/>
              <a:ext cx="1238040" cy="159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26160" y="4495680"/>
              <a:ext cx="1497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Tói no·n hoµng nguyªn ph¸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54760" y="3878280"/>
              <a:ext cx="747720" cy="77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82960" y="4191120"/>
              <a:ext cx="838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Mµng Heus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468760" y="4038120"/>
              <a:ext cx="9144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782960" y="2209680"/>
              <a:ext cx="685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Mµng è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16480" y="2514600"/>
              <a:ext cx="175248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72000" y="2895480"/>
              <a:ext cx="97308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Th­îng b×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H¹ b×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92800" y="3200400"/>
              <a:ext cx="1295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68760" y="358128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54560" y="129528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Hèc l¸ nu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88080" y="1600200"/>
              <a:ext cx="7632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58A5E-C72A-49AB-9DBB-A1ED3DBA32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cc"/>
                </a:solidFill>
                <a:latin typeface=".VnAvant"/>
              </a:rPr>
              <a:t>1.2.4. </a:t>
            </a:r>
            <a:r>
              <a:rPr b="1" lang="en-US" sz="2000" spc="-1" strike="noStrike">
                <a:solidFill>
                  <a:srgbClr val="6600cc"/>
                </a:solidFill>
                <a:latin typeface=".VnAvant"/>
              </a:rPr>
              <a:t>Ngµy thø 11 &amp; 12: Sù t¹o ra trung m« ngoµi ph«i vµ khoang ngoµi ph«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Ph«i nang ®­îc v©y quanh bëi líp ®Öm cña NM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Côc sîi huyÕt t¹o s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Cùc ph«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+ Líp l¸ nu«i hîp bµo cã nh÷ng kho¶ng trèng th«ng víi nhau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hÖ thèng lç l­í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+ L¸ nu«i ph¸ huû néi m« c¸c mao m¹ch m¸u &amp; gi·n m¹c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mao m¹ch kiÓu xoang, </a:t>
            </a:r>
            <a:r>
              <a:rPr b="1" i="1" lang="en-US" sz="2000" spc="-1" strike="noStrike">
                <a:solidFill>
                  <a:srgbClr val="333399"/>
                </a:solidFill>
                <a:latin typeface=".VnTime"/>
              </a:rPr>
              <a:t>hèc l¸ nu«i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th«ng víi mao m¹ch &amp; chøa ®Çy m¸u mÑ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6600"/>
                </a:solidFill>
                <a:latin typeface=".VnTime"/>
              </a:rPr>
              <a:t>hÖ thèng tuÇn hoµn rau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       </a:t>
            </a:r>
            <a:r>
              <a:rPr b="1" i="1" lang="en-US" sz="2000" spc="-1" strike="noStrike">
                <a:solidFill>
                  <a:srgbClr val="660066"/>
                </a:solidFill>
                <a:latin typeface=".VnTime"/>
              </a:rPr>
              <a:t>thêi kú m¸u d­ì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Cùc ®èi ph«i, l¸ nu«i = l¸ nu«i tÕ bµ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23880" y="60958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943600" y="1676520"/>
            <a:ext cx="3048120" cy="4040640"/>
            <a:chOff x="5943600" y="1676520"/>
            <a:chExt cx="3048120" cy="4040640"/>
          </a:xfrm>
        </p:grpSpPr>
        <p:pic>
          <p:nvPicPr>
            <p:cNvPr id="358" name="" descr=""/>
            <p:cNvPicPr/>
            <p:nvPr/>
          </p:nvPicPr>
          <p:blipFill>
            <a:blip r:embed="rId1"/>
            <a:stretch/>
          </p:blipFill>
          <p:spPr>
            <a:xfrm>
              <a:off x="5991120" y="2286000"/>
              <a:ext cx="2833920" cy="30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943600" y="1676520"/>
              <a:ext cx="30481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Khoang           Mµng          Hèc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èi                  èi            l¸ nu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                 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00800" y="2209680"/>
              <a:ext cx="990720" cy="11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91520" y="2209680"/>
              <a:ext cx="75960" cy="106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953120" y="2187720"/>
              <a:ext cx="29844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400800" y="3713040"/>
              <a:ext cx="820800" cy="169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43600" y="5410080"/>
              <a:ext cx="304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H¹ b× ph«i              Th­îng b×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43800" y="3581280"/>
              <a:ext cx="609480" cy="18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6557760" y="60199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ôc sîi huyÕt t¹o sÑ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723888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69639-6326-4FFE-8921-49D413948B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Mét </a:t>
            </a:r>
            <a:r>
              <a:rPr b="1" lang="en-US" sz="2000" spc="-1" strike="noStrike">
                <a:solidFill>
                  <a:srgbClr val="333399"/>
                </a:solidFill>
                <a:latin typeface=".VnTime"/>
              </a:rPr>
              <a:t>d¹ng tb míi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xuÊt hiÖn xen gi÷a mÆt trong l¸ nu«i &amp; mÆt ngoµi tói no·n hoµng nguyªn ph¸t, gi÷a l¸ nu«i &amp; mµng è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660066"/>
                </a:solidFill>
                <a:latin typeface=".VnTime"/>
              </a:rPr>
              <a:t>trung m« ngoµi ph«i: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+ Lîp mÆt trong l¸ nu«i &amp; mÆt ngoµi mµng è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l¸ thµnh trung b× ngoµi ph«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+ Lîp mÆt ngoµi tói no·n hoµ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l¸ t¹ng trung b× ngoµi ph«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Trong trung m« ngoµi ph«i xuÊt hiÖn nh÷ng hèc lín häp víi nhau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660066"/>
                </a:solidFill>
                <a:latin typeface=".VnTime"/>
              </a:rPr>
              <a:t>khoang ngoµi ph«i.</a:t>
            </a: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5153040" y="1371600"/>
            <a:ext cx="2833560" cy="30384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105520" y="762120"/>
            <a:ext cx="304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Khoang           Mµng          Hèc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èi                  èi            l¸ nu«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562720" y="1295280"/>
            <a:ext cx="990360" cy="118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1295280"/>
            <a:ext cx="7632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114680" y="1273320"/>
            <a:ext cx="29844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562720" y="2798640"/>
            <a:ext cx="820440" cy="169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449568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H¹ b×        Tói no·n hoµng        Th­îng b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ph«i           nguyªn ph¸t              ph«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2666880"/>
            <a:ext cx="114300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7315200" y="2819160"/>
            <a:ext cx="838080" cy="152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153280" y="2438280"/>
            <a:ext cx="99072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.VnTime"/>
              </a:rPr>
              <a:t>Trung m« ngoµi ph«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Khoang ngoµi ph«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86600" y="35053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53080" y="335268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81520" y="529596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vÞ trÝ sÏ t¹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khoang ngoµi ph«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019920" y="38098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24320" y="49896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¸ thµnh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L¸ t¹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6324480" y="2362320"/>
            <a:ext cx="914400" cy="26668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6781320" y="3962160"/>
            <a:ext cx="38124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E7232-C307-4021-816D-7193E18FE1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cc"/>
                </a:solidFill>
                <a:latin typeface=".VnAvant"/>
              </a:rPr>
              <a:t>1.2.5. </a:t>
            </a:r>
            <a:r>
              <a:rPr b="1" i="1" lang="en-US" sz="2400" spc="-1" strike="noStrike">
                <a:solidFill>
                  <a:srgbClr val="6600cc"/>
                </a:solidFill>
                <a:latin typeface=".VnTime"/>
              </a:rPr>
              <a:t>Ngµy thø 13: Sù t¹o ra tói no·n hoµng thø ph¸t, trung b× mµng ®Öm, trung b× tói no·n hoµng, trung b× mµng èi vµ cuèng ph«i.</a:t>
            </a:r>
            <a:r>
              <a:rPr b="0" i="1" lang="en-US" sz="1800" spc="-1" strike="noStrike">
                <a:solidFill>
                  <a:srgbClr val="000000"/>
                </a:solidFill>
                <a:latin typeface=".VnAva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N¬i trøng lät vµo, BM tö cung ®· phñ kÝn c¸i s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H¹ b× sinh ra nh÷ng tÕ bµo míi, phñ mÆt trong trung b× ngoµi ph«i</a:t>
            </a:r>
            <a:r>
              <a:rPr b="1" i="1" lang="en-US" sz="900" spc="-1" strike="noStrike">
                <a:solidFill>
                  <a:srgbClr val="6600cc"/>
                </a:solidFill>
                <a:latin typeface=".VnTim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  <a:ea typeface="Arial"/>
              </a:rPr>
              <a:t>Tói no·n hoµng thø ph¸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tói no·n hoµng nguyªn ph¸t bÞ ®Èy lïi, teo nhá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1800" spc="-1" strike="noStrike">
                <a:solidFill>
                  <a:srgbClr val="009900"/>
                </a:solidFill>
                <a:latin typeface=".VnTime"/>
              </a:rPr>
              <a:t>Tói no·n hoµng thø ph¸t.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Khoang ngoµi ph«i (khoang mµng ®Öm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khoang lí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648320" y="1905120"/>
            <a:ext cx="4495320" cy="4143240"/>
            <a:chOff x="4648320" y="1905120"/>
            <a:chExt cx="4495320" cy="414324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4648320" y="1905120"/>
              <a:ext cx="3363120" cy="41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6313320" y="3581280"/>
              <a:ext cx="1830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44640" y="3083040"/>
              <a:ext cx="99900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Tói no·n hoµng thø ph¸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Khoang ngoµi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79320" y="4572000"/>
              <a:ext cx="108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7832880" y="5562720"/>
            <a:ext cx="13111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.VnTime"/>
              </a:rPr>
              <a:t>U nang khoang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ngoµi ph«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6324480" y="5029200"/>
            <a:ext cx="1447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729680" y="133992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TÊm tr­íc d©y sè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38680" y="1676520"/>
            <a:ext cx="457200" cy="167616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36EF6-2E65-4E1D-920C-887E913A4F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160" y="28951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ung b× ngoµi ph«i lãt mÆt trong l¸ nu«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trung b× mµng ®Öm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(cïng l¸ nu«i t¹o thµnh mµng ®Öm).</a:t>
            </a:r>
            <a:br>
              <a:rPr sz="2000"/>
            </a:b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Lãt mÆt ngoµi mµng è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sv-SE" sz="2000" spc="-1" strike="noStrike">
                <a:solidFill>
                  <a:srgbClr val="009900"/>
                </a:solidFill>
                <a:latin typeface=".VnTime"/>
              </a:rPr>
              <a:t>trung b× mµng èi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Lãt mÆt ngoµi tói no·n hoµ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trung b× tói no·n hoµng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ë ®u«i ph«i, trung b× tói no·n hoµng &amp; trung b× mµng èi nèi víi trung b× mµng ®Öm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cuèng ph«i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9480" y="3505320"/>
            <a:ext cx="739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029200" y="1066680"/>
            <a:ext cx="4114800" cy="4940640"/>
            <a:chOff x="5029200" y="1066680"/>
            <a:chExt cx="4114800" cy="4940640"/>
          </a:xfrm>
        </p:grpSpPr>
        <p:grpSp>
          <p:nvGrpSpPr>
            <p:cNvPr id="400" name=""/>
            <p:cNvGrpSpPr/>
            <p:nvPr/>
          </p:nvGrpSpPr>
          <p:grpSpPr>
            <a:xfrm>
              <a:off x="5029200" y="1828800"/>
              <a:ext cx="4114800" cy="4143240"/>
              <a:chOff x="5029200" y="1828800"/>
              <a:chExt cx="4114800" cy="4143240"/>
            </a:xfrm>
          </p:grpSpPr>
          <p:pic>
            <p:nvPicPr>
              <p:cNvPr id="4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9200" y="1828800"/>
                <a:ext cx="3078360" cy="414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>
                <a:off x="6553440" y="3504960"/>
                <a:ext cx="167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229600" y="3006720"/>
                <a:ext cx="914400" cy="180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.VnTime"/>
                  </a:rPr>
                  <a:t>Tói no·n hoµng thø ph¸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.VnTime"/>
                  </a:rPr>
                  <a:t>Khoang ngoµi ph«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162920" y="4495680"/>
                <a:ext cx="99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315200" y="4876920"/>
              <a:ext cx="8380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29600" y="5060880"/>
              <a:ext cx="914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.VnTime"/>
                </a:rPr>
                <a:t>Trung b× mµng ®Ö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5866920" y="1676520"/>
              <a:ext cx="304920" cy="167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05520" y="1066680"/>
              <a:ext cx="403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     </a:t>
              </a:r>
              <a:r>
                <a:rPr b="1" lang="en-US" sz="1400" spc="-1" strike="noStrike">
                  <a:solidFill>
                    <a:srgbClr val="333399"/>
                  </a:solidFill>
                  <a:latin typeface=".VnTime"/>
                </a:rPr>
                <a:t>Trung b×                        Trung b×</a:t>
              </a:r>
              <a:r>
                <a:rPr b="0" lang="en-US" sz="1800" spc="-1" strike="noStrike">
                  <a:solidFill>
                    <a:srgbClr val="333399"/>
                  </a:solidFill>
                  <a:latin typeface=".VnTime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.VnTime"/>
                </a:rPr>
                <a:t>tói no·n</a:t>
              </a:r>
              <a:r>
                <a:rPr b="0" lang="en-US" sz="1800" spc="-1" strike="noStrike">
                  <a:solidFill>
                    <a:srgbClr val="333399"/>
                  </a:solidFill>
                  <a:latin typeface=".VnTime"/>
                </a:rPr>
                <a:t> </a:t>
              </a:r>
              <a:r>
                <a:rPr b="1" lang="en-US" sz="1400" spc="-1" strike="noStrike">
                  <a:solidFill>
                    <a:srgbClr val="333399"/>
                  </a:solidFill>
                  <a:latin typeface=".VnTime"/>
                </a:rPr>
                <a:t>hoµng</a:t>
              </a: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                </a:t>
              </a:r>
              <a:r>
                <a:rPr b="1" lang="en-US" sz="1400" spc="-1" strike="noStrike">
                  <a:solidFill>
                    <a:srgbClr val="0000cc"/>
                  </a:solidFill>
                  <a:latin typeface=".VnTime"/>
                </a:rPr>
                <a:t>mµng è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58000" y="1676520"/>
              <a:ext cx="76212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7238880" y="2488680"/>
              <a:ext cx="106704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05920" y="2133720"/>
              <a:ext cx="838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.VnTime"/>
                </a:rPr>
                <a:t>Cuèng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6781680" y="52578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166440" y="613404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Mµng ®Ö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477120" y="54860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7B6DE-D5D0-428E-A91D-068DC2031A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837720" y="121932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.VnTime"/>
              </a:rPr>
              <a:t>Nh­ vËy:</a:t>
            </a:r>
            <a:br>
              <a:rPr sz="2000"/>
            </a:br>
            <a:r>
              <a:rPr b="1" i="1" lang="en-US" sz="2000" spc="-1" strike="noStrike">
                <a:solidFill>
                  <a:srgbClr val="ff0066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uèi tuÇn thø 2, ph«i lµ 1 tÊm ph¼ng h×nh ®Üa dÑt, gåm 2 l¸ : Th­îng b× ph«i ë mÆt l­ng &amp; h¹ b× ph«i ë mÆt bô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®Üa ph«i l­ìng b×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Th­îng b× ph«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sµn khoang èi &amp; tiÕp víi mµng è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H¹ b× ph«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trÇn tói no·n hoµ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ë phÝa ®Çu, néi b× ph«i h¬i dµy lª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tÊm tr­íc d©y sè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20A4B-0509-4AE3-A9E0-05EE0B7BB6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95280" y="2666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US" sz="1800" spc="-1" strike="noStrike">
                <a:solidFill>
                  <a:srgbClr val="ccecff"/>
                </a:solidFill>
                <a:latin typeface=".VnTime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.VnTime"/>
              </a:rPr>
              <a:t>Qu¸ tr×nh t¹o ph«i vÞ lµ qu¸ tr×nh trong ®ã x¶y ra mäi</a:t>
            </a:r>
            <a:r>
              <a:rPr b="1" i="1" lang="en-US" sz="2000" spc="-1" strike="noStrike">
                <a:solidFill>
                  <a:srgbClr val="ccec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66ff66"/>
                </a:solidFill>
                <a:latin typeface=".VnTime"/>
              </a:rPr>
              <a:t>sù vËn chuyÓn tÕ bµo</a:t>
            </a:r>
            <a:r>
              <a:rPr b="1" i="1" lang="en-US" sz="2000" spc="-1" strike="noStrike">
                <a:solidFill>
                  <a:srgbClr val="ccec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.VnTime"/>
              </a:rPr>
              <a:t>sinh ra tõ c¸c l¸ ph«i mµ</a:t>
            </a:r>
            <a:r>
              <a:rPr b="1" i="1" lang="en-US" sz="2000" spc="-1" strike="noStrike">
                <a:solidFill>
                  <a:srgbClr val="ccec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66ff66"/>
                </a:solidFill>
                <a:latin typeface=".VnTime"/>
              </a:rPr>
              <a:t>kÕt qu¶</a:t>
            </a:r>
            <a:r>
              <a:rPr b="1" i="1" lang="en-US" sz="2000" spc="-1" strike="noStrike">
                <a:solidFill>
                  <a:srgbClr val="ccec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.VnTime"/>
              </a:rPr>
              <a:t>lµ</a:t>
            </a:r>
            <a:r>
              <a:rPr b="1" i="1" lang="en-US" sz="2000" spc="-1" strike="noStrike">
                <a:solidFill>
                  <a:srgbClr val="ccec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66ff66"/>
                </a:solidFill>
                <a:latin typeface=".VnTime"/>
              </a:rPr>
              <a:t>nh÷ng mÇm c¸c c¬ quan</a:t>
            </a:r>
            <a:r>
              <a:rPr b="1" i="1" lang="en-US" sz="2000" spc="-1" strike="noStrike">
                <a:solidFill>
                  <a:srgbClr val="ccec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.VnTime"/>
              </a:rPr>
              <a:t>t¹o ra tõ c¸c l¸ ph«i Êy ®­îc xÕp ®Æt vµo nh÷ng</a:t>
            </a:r>
            <a:r>
              <a:rPr b="1" i="1" lang="en-US" sz="2000" spc="-1" strike="noStrike">
                <a:solidFill>
                  <a:srgbClr val="ccec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66ff66"/>
                </a:solidFill>
                <a:latin typeface=".VnTime"/>
              </a:rPr>
              <a:t>vÞ trÝ</a:t>
            </a:r>
            <a:r>
              <a:rPr b="1" i="1" lang="en-US" sz="2000" spc="-1" strike="noStrike">
                <a:solidFill>
                  <a:srgbClr val="ccec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.VnTime"/>
              </a:rPr>
              <a:t>nhÊt ®Þnh, ë ®ã chóng sÏ tiÕp tôc ph¸t triÓn.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.VnTime"/>
              </a:rPr>
              <a:t>      Giai ®o¹n ph«i vÞ b¾t ®Çu</a:t>
            </a:r>
            <a:r>
              <a:rPr b="1" i="1" lang="en-US" sz="2000" spc="-1" strike="noStrike">
                <a:solidFill>
                  <a:srgbClr val="ccecff"/>
                </a:solidFill>
                <a:latin typeface=".VnTime"/>
              </a:rPr>
              <a:t> tõ </a:t>
            </a:r>
            <a:r>
              <a:rPr b="1" i="1" lang="en-US" sz="2000" spc="-1" strike="noStrike">
                <a:solidFill>
                  <a:srgbClr val="66ff66"/>
                </a:solidFill>
                <a:latin typeface=".VnTime"/>
              </a:rPr>
              <a:t>ngµy thø 13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762120"/>
            <a:ext cx="777240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.VnTime"/>
              </a:rPr>
              <a:t>2. sù ph¸t triÓn cña ph«i trong tuÇn thø ba: 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.VnTime"/>
              </a:rPr>
              <a:t>giai ®o¹n ph«i vÞ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040B-F227-4ED0-88C8-58D283F2F87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.VnAvantH"/>
              </a:rPr>
              <a:t>2.1. </a:t>
            </a:r>
            <a:r>
              <a:rPr b="1" lang="en-US" sz="2000" spc="-1" strike="noStrike">
                <a:solidFill>
                  <a:srgbClr val="0000cc"/>
                </a:solidFill>
                <a:latin typeface=".VnAvantH"/>
              </a:rPr>
              <a:t>Sù xuÊt hiÖn ®­êng nguyªn thu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ë mÆt th­îng b× tr«ng vµo khoang èi (mÆt l­ng ph«i), phÝa ®u«i ph«i xuÊt hiÖn mét r·nh hÑp, dµ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800080"/>
                </a:solidFill>
                <a:latin typeface=".VnTime"/>
              </a:rPr>
              <a:t>®­êng nguyªn thuû</a:t>
            </a:r>
            <a:r>
              <a:rPr b="1" lang="en-US" sz="2000" spc="-1" strike="noStrike">
                <a:solidFill>
                  <a:srgbClr val="800080"/>
                </a:solidFill>
                <a:latin typeface=".VnTime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ë phÝa ®Çu lâm xuèng &amp; ®­îc v©y quanh bëi 1 gê h×nh vµnh khuyª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800080"/>
                </a:solidFill>
                <a:latin typeface=".VnTime"/>
              </a:rPr>
              <a:t>nót Hen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10080" y="1600200"/>
            <a:ext cx="3429000" cy="4071240"/>
            <a:chOff x="5410080" y="1600200"/>
            <a:chExt cx="3429000" cy="4071240"/>
          </a:xfrm>
        </p:grpSpPr>
        <p:pic>
          <p:nvPicPr>
            <p:cNvPr id="421" name="" descr=""/>
            <p:cNvPicPr/>
            <p:nvPr/>
          </p:nvPicPr>
          <p:blipFill>
            <a:blip r:embed="rId1"/>
            <a:stretch/>
          </p:blipFill>
          <p:spPr>
            <a:xfrm>
              <a:off x="5410080" y="2057400"/>
              <a:ext cx="3233880" cy="29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 flipH="1">
              <a:off x="7620120" y="4343400"/>
              <a:ext cx="3045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77120" y="533412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§­êng nguyªn thuû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62720" y="1600200"/>
              <a:ext cx="304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Mµng èi         Nót Hens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7445160" y="2014560"/>
              <a:ext cx="7596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41880" y="19591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5003640" y="209556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§Ç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99F8A-4278-4348-BB38-69E9F0F9BC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5486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.VnClarendonH"/>
              </a:rPr>
              <a:t>Ph«i thai häc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.VnAvantH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.VnRevueH"/>
              </a:rPr>
              <a:t>®¹i c­¬ng</a:t>
            </a:r>
            <a:br>
              <a:rPr sz="4400"/>
            </a:br>
            <a:r>
              <a:rPr b="1" i="1" lang="en-US" sz="4000" spc="-1" strike="noStrike">
                <a:solidFill>
                  <a:srgbClr val="99ff33"/>
                </a:solidFill>
                <a:latin typeface=".VnTime"/>
              </a:rPr>
              <a:t>(General Embryology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019920" y="1219320"/>
            <a:ext cx="2759040" cy="414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8B37-F1E0-4CB3-9DA3-BDFF0C9E72D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2 bªn ®­êng nguyªn thuû, c¸c TB </a:t>
            </a:r>
            <a:r>
              <a:rPr b="1" lang="en-US" sz="2000" spc="-1" strike="noStrike">
                <a:solidFill>
                  <a:srgbClr val="9900cc"/>
                </a:solidFill>
                <a:latin typeface=".VnTime"/>
              </a:rPr>
              <a:t>th­îng b×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ph«i t¸ch ra, di c­ xen gi÷a th­îng b× &amp; h¹ b×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2 líp TB míi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+ </a:t>
            </a:r>
            <a:r>
              <a:rPr b="1" i="1" lang="en-US" sz="2000" spc="-1" strike="noStrike">
                <a:solidFill>
                  <a:srgbClr val="008000"/>
                </a:solidFill>
                <a:latin typeface=".VnTime"/>
              </a:rPr>
              <a:t>Néi b×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trong ph«i (thay thÕ h¹ b×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+ </a:t>
            </a:r>
            <a:r>
              <a:rPr b="1" i="1" lang="en-US" sz="2000" spc="-1" strike="noStrike">
                <a:solidFill>
                  <a:srgbClr val="008000"/>
                </a:solidFill>
                <a:latin typeface=".VnTime"/>
              </a:rPr>
              <a:t>Trung b×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trong ph«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Nh÷ng TB cßn l¹i cña th­îng b× = </a:t>
            </a:r>
            <a:r>
              <a:rPr b="1" i="1" lang="en-US" sz="2000" spc="-1" strike="noStrike">
                <a:solidFill>
                  <a:srgbClr val="008000"/>
                </a:solidFill>
                <a:latin typeface=".VnTime"/>
              </a:rPr>
              <a:t>Ngo¹i b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19720" y="480060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724280" y="1447920"/>
            <a:ext cx="3886200" cy="4085640"/>
            <a:chOff x="4724280" y="1447920"/>
            <a:chExt cx="3886200" cy="4085640"/>
          </a:xfrm>
        </p:grpSpPr>
        <p:pic>
          <p:nvPicPr>
            <p:cNvPr id="431" name="" descr=""/>
            <p:cNvPicPr/>
            <p:nvPr/>
          </p:nvPicPr>
          <p:blipFill>
            <a:blip r:embed="rId1"/>
            <a:stretch/>
          </p:blipFill>
          <p:spPr>
            <a:xfrm>
              <a:off x="5257800" y="1905120"/>
              <a:ext cx="3233880" cy="29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 flipH="1">
              <a:off x="7543440" y="4191120"/>
              <a:ext cx="2286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248520" y="4952880"/>
              <a:ext cx="2361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Néi b×   §­êng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nguyªn thuû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10080" y="1447920"/>
              <a:ext cx="30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Mµng èi         Nót Hens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292880" y="1862280"/>
              <a:ext cx="7632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89600" y="18064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24280" y="419112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Ngo¹i b×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5715000" y="4038120"/>
              <a:ext cx="11430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6889680" y="4191120"/>
              <a:ext cx="1526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29200" y="472428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Trung b×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6019920" y="4038120"/>
              <a:ext cx="99036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80880" y="6858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.VnAvantH"/>
              </a:rPr>
              <a:t>2.2. Sù t¹o thµnh néi b×, trung b× vµ ngo¹i b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79960" y="179064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§Ç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504D9-E57D-4C8F-8AA9-EC3DB9D3768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3733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ë phÝa ®Çu ph«i, trung b× lan ë 2 bªn tÊm tr­íc d©y sèng, vßng ra phÝa tr­íc, s¸t nhËp víi nhau ë ®­êng gi÷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.VnTime"/>
              </a:rPr>
              <a:t>diÖn tim (diÖn m¹ch).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Néi b× tÊm tr­íc d©y sèng d¸n chÆt víi ngo¹i b×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.VnTime"/>
              </a:rPr>
              <a:t>mµng häng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.VnTimeH"/>
              </a:rPr>
              <a:t>ë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phÝa ®u«i ph«i, ngay ®Çu sau ®­êng nguyªn thuû còng cã 1 vïng kh«ng cã trung b×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.VnTime"/>
              </a:rPr>
              <a:t>mµng nhíp.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452840" y="1371600"/>
            <a:ext cx="4691160" cy="4428720"/>
            <a:chOff x="4452840" y="1371600"/>
            <a:chExt cx="4691160" cy="4428720"/>
          </a:xfrm>
        </p:grpSpPr>
        <p:pic>
          <p:nvPicPr>
            <p:cNvPr id="446" name="" descr=""/>
            <p:cNvPicPr/>
            <p:nvPr/>
          </p:nvPicPr>
          <p:blipFill>
            <a:blip r:embed="rId1"/>
            <a:stretch/>
          </p:blipFill>
          <p:spPr>
            <a:xfrm>
              <a:off x="4986360" y="2171880"/>
              <a:ext cx="3233880" cy="29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 flipH="1">
              <a:off x="7272000" y="4457880"/>
              <a:ext cx="2286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77080" y="5219640"/>
              <a:ext cx="2361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Néi b×   §­êng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nguyªn thuû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49880" y="1371600"/>
              <a:ext cx="2979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Mµng    Mµng         Nó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häng        èi           Hens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021080" y="2057400"/>
              <a:ext cx="446040" cy="190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553080" y="19051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52840" y="445788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Ngo¹i b×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5443560" y="4304880"/>
              <a:ext cx="11430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618240" y="4457880"/>
              <a:ext cx="1522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57760" y="499104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Trung b×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5748480" y="4304880"/>
              <a:ext cx="99036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715000" y="1981080"/>
              <a:ext cx="3816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305920" y="4191120"/>
              <a:ext cx="838080" cy="11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Mµ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nhí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72400" y="4724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8046360" y="4915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§u«i ph«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B58A4-2807-4AFC-A1CA-50ADE8ED2A6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.VnTime"/>
              </a:rPr>
              <a:t>2.2. Sù t¹o ra d©y sè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Nh÷ng tÕ bµo tõ nót Hensen thôt xuèng di c­ theo ®­êng gi÷a vÒ phÝa ®Çu ph«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1 èng kÝn ë ®Çu tr­íc =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èng d©y sèng.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Vµo kho¶ng ngµy thø 17, trung b× &amp; èng d©y sèng </a:t>
            </a:r>
            <a:r>
              <a:rPr b="1" lang="en-US" sz="2000" spc="-1" strike="noStrike">
                <a:solidFill>
                  <a:srgbClr val="9900cc"/>
                </a:solidFill>
                <a:latin typeface=".VnTime"/>
              </a:rPr>
              <a:t>t¸ch rêi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néi &amp; ngo¹i b×, lßng èng d©y sèng th«ng víi khoang è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503880" y="304920"/>
            <a:ext cx="5411520" cy="6797160"/>
            <a:chOff x="3503880" y="304920"/>
            <a:chExt cx="5411520" cy="6797160"/>
          </a:xfrm>
        </p:grpSpPr>
        <p:sp>
          <p:nvSpPr>
            <p:cNvPr id="464" name=""/>
            <p:cNvSpPr/>
            <p:nvPr/>
          </p:nvSpPr>
          <p:spPr>
            <a:xfrm>
              <a:off x="4383720" y="34308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.VnTime"/>
                </a:rPr>
                <a:t>Mµng hä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4952880" y="304920"/>
              <a:ext cx="3962520" cy="6797160"/>
              <a:chOff x="4952880" y="304920"/>
              <a:chExt cx="3962520" cy="6797160"/>
            </a:xfrm>
          </p:grpSpPr>
          <p:sp>
            <p:nvSpPr>
              <p:cNvPr id="466" name=""/>
              <p:cNvSpPr/>
              <p:nvPr/>
            </p:nvSpPr>
            <p:spPr>
              <a:xfrm>
                <a:off x="6172200" y="2133720"/>
                <a:ext cx="13716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5334120" y="3930840"/>
                <a:ext cx="3581280" cy="3171240"/>
                <a:chOff x="5334120" y="3930840"/>
                <a:chExt cx="3581280" cy="3171240"/>
              </a:xfrm>
            </p:grpSpPr>
            <p:pic>
              <p:nvPicPr>
                <p:cNvPr id="468" name="" descr=""/>
                <p:cNvPicPr/>
                <p:nvPr/>
              </p:nvPicPr>
              <p:blipFill>
                <a:blip r:embed="rId1">
                  <a:lum contrast="30000"/>
                </a:blip>
                <a:stretch/>
              </p:blipFill>
              <p:spPr>
                <a:xfrm>
                  <a:off x="5334120" y="4921200"/>
                  <a:ext cx="3352680" cy="142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9" name=""/>
                <p:cNvSpPr/>
                <p:nvPr/>
              </p:nvSpPr>
              <p:spPr>
                <a:xfrm>
                  <a:off x="8305920" y="5607000"/>
                  <a:ext cx="0" cy="9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696080" y="6521400"/>
                  <a:ext cx="12193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.VnTime"/>
                    </a:rPr>
                    <a:t>NiÖu nang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924680" y="3930840"/>
                  <a:ext cx="9907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.VnTime"/>
                    </a:rPr>
                    <a:t>Cuèng ph«i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381880" y="4540320"/>
                  <a:ext cx="0" cy="762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>
                  <a:off x="6692760" y="4997520"/>
                  <a:ext cx="12960" cy="533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324480" y="4424400"/>
                  <a:ext cx="1158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.VnTime"/>
                    </a:rPr>
                    <a:t>èng d©y sèng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86400" y="990720"/>
                <a:ext cx="3233880" cy="309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>
                <a:off x="6705720" y="4130640"/>
                <a:ext cx="880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Néi b×       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          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715000" y="304920"/>
                <a:ext cx="2979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               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Mµng         Nó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                  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èi           Hense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7521120" y="917640"/>
                <a:ext cx="446040" cy="19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010280" y="685800"/>
                <a:ext cx="1800" cy="47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952880" y="3378240"/>
                <a:ext cx="1067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Ngo¹i b×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5943600" y="3227400"/>
                <a:ext cx="1143000" cy="31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7118280" y="3362400"/>
                <a:ext cx="152640" cy="79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257800" y="3911760"/>
                <a:ext cx="1066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Trung b×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6248520" y="3210120"/>
                <a:ext cx="990360" cy="79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29560" y="4191120"/>
                <a:ext cx="24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.VnTime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5562720" y="685800"/>
              <a:ext cx="6858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03880" y="838080"/>
              <a:ext cx="114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.VnTime"/>
                </a:rPr>
                <a:t>DiÖn ti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48320" y="1066680"/>
              <a:ext cx="1600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6629040" y="3809520"/>
              <a:ext cx="3049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97120" y="5410080"/>
              <a:ext cx="126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.VnTime"/>
                </a:rPr>
                <a:t>Khoang è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3404520" y="594360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Tói no·n hoµ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800600" y="50292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105520" y="601956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6FDCA-E083-45DE-9BC4-D472B87D06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Ngµy thø 18, </a:t>
            </a:r>
            <a:r>
              <a:rPr b="1" lang="en-US" sz="2000" spc="-1" strike="noStrike">
                <a:solidFill>
                  <a:srgbClr val="9900cc"/>
                </a:solidFill>
                <a:latin typeface=".VnTime"/>
              </a:rPr>
              <a:t>sµn èng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d©y sèng s¸t nhËp víi néi b×, råi vïng ®ã tiªu ®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lßng èng dÇn dÇn </a:t>
            </a:r>
            <a:r>
              <a:rPr b="1" lang="en-US" sz="2000" spc="-1" strike="noStrike">
                <a:solidFill>
                  <a:srgbClr val="9900cc"/>
                </a:solidFill>
                <a:latin typeface=".VnTime"/>
              </a:rPr>
              <a:t>biÕn mÊt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, ®o¹n cßn s¸t l¹i rÊt ng¾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è</a:t>
            </a:r>
            <a:r>
              <a:rPr b="1" lang="en-US" sz="2000" spc="-1" strike="noStrike">
                <a:solidFill>
                  <a:srgbClr val="009900"/>
                </a:solidFill>
                <a:latin typeface=".VnTime"/>
              </a:rPr>
              <a:t>ng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thÇn kinh- ruét</a:t>
            </a:r>
            <a:r>
              <a:rPr b="1" lang="en-US" sz="2000" spc="-1" strike="noStrike">
                <a:solidFill>
                  <a:srgbClr val="009900"/>
                </a:solidFill>
                <a:latin typeface=".VnTime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hµnh trªn èng lµ d¶i tÕ bµo h×nh m¸ng t¨ng sin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d©y tÕ bµo ®Æc =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d©y sèng vÜnh viÔn.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PhÝa d­íi d©y sèng, néi b× t¨ng sinh phñ kÝn </a:t>
            </a:r>
            <a:r>
              <a:rPr b="1" lang="en-US" sz="2000" spc="-1" strike="noStrike">
                <a:solidFill>
                  <a:srgbClr val="9900cc"/>
                </a:solidFill>
                <a:latin typeface=".VnTime"/>
              </a:rPr>
              <a:t>trÇn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tói no·n hoµ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5334120" y="1752480"/>
            <a:ext cx="3809880" cy="1914480"/>
            <a:chOff x="5334120" y="1752480"/>
            <a:chExt cx="3809880" cy="1914480"/>
          </a:xfrm>
        </p:grpSpPr>
        <p:pic>
          <p:nvPicPr>
            <p:cNvPr id="496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5334120" y="2361960"/>
              <a:ext cx="380988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6934320" y="236196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553080" y="175248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èng thÇn kinh rué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6811920" y="3825720"/>
            <a:ext cx="2217960" cy="3040200"/>
          </a:xfrm>
          <a:custGeom>
            <a:avLst/>
            <a:gdLst/>
            <a:ahLst/>
            <a:rect l="l" t="t" r="r" b="b"/>
            <a:pathLst>
              <a:path w="6160" h="8446">
                <a:moveTo>
                  <a:pt x="19748" y="10964"/>
                </a:moveTo>
                <a:cubicBezTo>
                  <a:pt x="19721" y="10972"/>
                  <a:pt x="19712" y="10977"/>
                  <a:pt x="19685" y="10985"/>
                </a:cubicBezTo>
                <a:cubicBezTo>
                  <a:pt x="19631" y="11000"/>
                  <a:pt x="19574" y="11011"/>
                  <a:pt x="19516" y="11028"/>
                </a:cubicBezTo>
                <a:cubicBezTo>
                  <a:pt x="19382" y="11069"/>
                  <a:pt x="19249" y="11102"/>
                  <a:pt x="19113" y="11134"/>
                </a:cubicBezTo>
                <a:cubicBezTo>
                  <a:pt x="19076" y="11143"/>
                  <a:pt x="19012" y="11150"/>
                  <a:pt x="18986" y="11176"/>
                </a:cubicBezTo>
                <a:cubicBezTo>
                  <a:pt x="18966" y="11196"/>
                  <a:pt x="18975" y="11213"/>
                  <a:pt x="18965" y="11239"/>
                </a:cubicBezTo>
                <a:cubicBezTo>
                  <a:pt x="18952" y="11272"/>
                  <a:pt x="18953" y="11311"/>
                  <a:pt x="18944" y="11345"/>
                </a:cubicBezTo>
                <a:cubicBezTo>
                  <a:pt x="18934" y="11383"/>
                  <a:pt x="18928" y="11408"/>
                  <a:pt x="18923" y="11451"/>
                </a:cubicBezTo>
                <a:cubicBezTo>
                  <a:pt x="18903" y="11635"/>
                  <a:pt x="18879" y="11966"/>
                  <a:pt x="18944" y="12128"/>
                </a:cubicBezTo>
                <a:cubicBezTo>
                  <a:pt x="18956" y="12157"/>
                  <a:pt x="18964" y="12169"/>
                  <a:pt x="18986" y="12192"/>
                </a:cubicBezTo>
                <a:cubicBezTo>
                  <a:pt x="18992" y="12199"/>
                  <a:pt x="19047" y="12232"/>
                  <a:pt x="19050" y="12234"/>
                </a:cubicBezTo>
                <a:cubicBezTo>
                  <a:pt x="19082" y="12258"/>
                  <a:pt x="19116" y="12270"/>
                  <a:pt x="19156" y="12298"/>
                </a:cubicBezTo>
                <a:cubicBezTo>
                  <a:pt x="19161" y="12302"/>
                  <a:pt x="19208" y="12330"/>
                  <a:pt x="19219" y="12340"/>
                </a:cubicBezTo>
                <a:cubicBezTo>
                  <a:pt x="19231" y="12350"/>
                  <a:pt x="19263" y="12380"/>
                  <a:pt x="19283" y="12404"/>
                </a:cubicBezTo>
                <a:cubicBezTo>
                  <a:pt x="19299" y="12423"/>
                  <a:pt x="19304" y="12437"/>
                  <a:pt x="19325" y="12467"/>
                </a:cubicBezTo>
                <a:cubicBezTo>
                  <a:pt x="19346" y="12497"/>
                  <a:pt x="19351" y="12512"/>
                  <a:pt x="19367" y="12531"/>
                </a:cubicBezTo>
                <a:cubicBezTo>
                  <a:pt x="19390" y="12557"/>
                  <a:pt x="19405" y="12572"/>
                  <a:pt x="19431" y="12594"/>
                </a:cubicBezTo>
                <a:cubicBezTo>
                  <a:pt x="19455" y="12614"/>
                  <a:pt x="19483" y="12622"/>
                  <a:pt x="19494" y="12636"/>
                </a:cubicBezTo>
                <a:cubicBezTo>
                  <a:pt x="19516" y="12665"/>
                  <a:pt x="19535" y="12703"/>
                  <a:pt x="19558" y="12721"/>
                </a:cubicBezTo>
                <a:cubicBezTo>
                  <a:pt x="19566" y="12728"/>
                  <a:pt x="19607" y="12751"/>
                  <a:pt x="19621" y="12763"/>
                </a:cubicBezTo>
                <a:cubicBezTo>
                  <a:pt x="19638" y="12777"/>
                  <a:pt x="19644" y="12791"/>
                  <a:pt x="19664" y="12806"/>
                </a:cubicBezTo>
                <a:cubicBezTo>
                  <a:pt x="19684" y="12821"/>
                  <a:pt x="19719" y="12843"/>
                  <a:pt x="19727" y="12848"/>
                </a:cubicBezTo>
                <a:cubicBezTo>
                  <a:pt x="19758" y="12866"/>
                  <a:pt x="19779" y="12878"/>
                  <a:pt x="19812" y="12890"/>
                </a:cubicBezTo>
                <a:cubicBezTo>
                  <a:pt x="19837" y="12899"/>
                  <a:pt x="19873" y="12901"/>
                  <a:pt x="19897" y="12912"/>
                </a:cubicBezTo>
                <a:cubicBezTo>
                  <a:pt x="19916" y="12921"/>
                  <a:pt x="19931" y="12948"/>
                  <a:pt x="19960" y="12954"/>
                </a:cubicBezTo>
                <a:cubicBezTo>
                  <a:pt x="19995" y="12961"/>
                  <a:pt x="20010" y="12970"/>
                  <a:pt x="20045" y="12975"/>
                </a:cubicBezTo>
                <a:cubicBezTo>
                  <a:pt x="20128" y="12988"/>
                  <a:pt x="20246" y="12991"/>
                  <a:pt x="20320" y="12996"/>
                </a:cubicBezTo>
                <a:cubicBezTo>
                  <a:pt x="20363" y="12999"/>
                  <a:pt x="20415" y="13014"/>
                  <a:pt x="20447" y="13017"/>
                </a:cubicBezTo>
                <a:cubicBezTo>
                  <a:pt x="20561" y="13028"/>
                  <a:pt x="20685" y="13004"/>
                  <a:pt x="20786" y="12996"/>
                </a:cubicBezTo>
                <a:cubicBezTo>
                  <a:pt x="20839" y="12992"/>
                  <a:pt x="20868" y="12990"/>
                  <a:pt x="20913" y="12975"/>
                </a:cubicBezTo>
                <a:cubicBezTo>
                  <a:pt x="20949" y="12963"/>
                  <a:pt x="20978" y="12946"/>
                  <a:pt x="21018" y="12933"/>
                </a:cubicBezTo>
                <a:cubicBezTo>
                  <a:pt x="21065" y="12918"/>
                  <a:pt x="21122" y="12926"/>
                  <a:pt x="21167" y="12912"/>
                </a:cubicBezTo>
                <a:cubicBezTo>
                  <a:pt x="21201" y="12902"/>
                  <a:pt x="21264" y="12882"/>
                  <a:pt x="21294" y="12869"/>
                </a:cubicBezTo>
                <a:cubicBezTo>
                  <a:pt x="21327" y="12854"/>
                  <a:pt x="21375" y="12807"/>
                  <a:pt x="21421" y="12785"/>
                </a:cubicBezTo>
                <a:cubicBezTo>
                  <a:pt x="21450" y="12771"/>
                  <a:pt x="21501" y="12760"/>
                  <a:pt x="21526" y="12742"/>
                </a:cubicBezTo>
                <a:cubicBezTo>
                  <a:pt x="21560" y="12717"/>
                  <a:pt x="21555" y="12706"/>
                  <a:pt x="21590" y="12679"/>
                </a:cubicBezTo>
                <a:cubicBezTo>
                  <a:pt x="21612" y="12662"/>
                  <a:pt x="21623" y="12662"/>
                  <a:pt x="21653" y="12636"/>
                </a:cubicBezTo>
                <a:cubicBezTo>
                  <a:pt x="21669" y="12622"/>
                  <a:pt x="21692" y="12601"/>
                  <a:pt x="21717" y="12573"/>
                </a:cubicBezTo>
                <a:cubicBezTo>
                  <a:pt x="21747" y="12538"/>
                  <a:pt x="21778" y="12505"/>
                  <a:pt x="21802" y="12467"/>
                </a:cubicBezTo>
                <a:cubicBezTo>
                  <a:pt x="21823" y="12434"/>
                  <a:pt x="21836" y="12395"/>
                  <a:pt x="21865" y="12361"/>
                </a:cubicBezTo>
                <a:cubicBezTo>
                  <a:pt x="21888" y="12333"/>
                  <a:pt x="21938" y="12303"/>
                  <a:pt x="21950" y="12277"/>
                </a:cubicBezTo>
                <a:cubicBezTo>
                  <a:pt x="21960" y="12256"/>
                  <a:pt x="21959" y="12210"/>
                  <a:pt x="21971" y="12192"/>
                </a:cubicBezTo>
                <a:cubicBezTo>
                  <a:pt x="21984" y="12172"/>
                  <a:pt x="22005" y="12183"/>
                  <a:pt x="22013" y="12150"/>
                </a:cubicBezTo>
                <a:cubicBezTo>
                  <a:pt x="22049" y="11994"/>
                  <a:pt x="22024" y="11742"/>
                  <a:pt x="21992" y="11599"/>
                </a:cubicBezTo>
                <a:cubicBezTo>
                  <a:pt x="21985" y="11566"/>
                  <a:pt x="21983" y="11545"/>
                  <a:pt x="21971" y="11515"/>
                </a:cubicBezTo>
                <a:cubicBezTo>
                  <a:pt x="21962" y="11492"/>
                  <a:pt x="21941" y="11450"/>
                  <a:pt x="21929" y="11430"/>
                </a:cubicBezTo>
                <a:cubicBezTo>
                  <a:pt x="21910" y="11398"/>
                  <a:pt x="21887" y="11378"/>
                  <a:pt x="21865" y="11345"/>
                </a:cubicBezTo>
                <a:cubicBezTo>
                  <a:pt x="21842" y="11311"/>
                  <a:pt x="21816" y="11277"/>
                  <a:pt x="21780" y="11239"/>
                </a:cubicBezTo>
                <a:cubicBezTo>
                  <a:pt x="21734" y="11190"/>
                  <a:pt x="21679" y="11148"/>
                  <a:pt x="21632" y="11112"/>
                </a:cubicBezTo>
                <a:cubicBezTo>
                  <a:pt x="21602" y="11089"/>
                  <a:pt x="21552" y="11021"/>
                  <a:pt x="21526" y="11007"/>
                </a:cubicBezTo>
                <a:cubicBezTo>
                  <a:pt x="21495" y="10989"/>
                  <a:pt x="21455" y="10984"/>
                  <a:pt x="21421" y="10964"/>
                </a:cubicBezTo>
                <a:cubicBezTo>
                  <a:pt x="21401" y="10952"/>
                  <a:pt x="21368" y="10909"/>
                  <a:pt x="21357" y="10901"/>
                </a:cubicBezTo>
                <a:cubicBezTo>
                  <a:pt x="21337" y="10886"/>
                  <a:pt x="21304" y="10875"/>
                  <a:pt x="21272" y="10858"/>
                </a:cubicBezTo>
                <a:cubicBezTo>
                  <a:pt x="21235" y="10838"/>
                  <a:pt x="21162" y="10802"/>
                  <a:pt x="21145" y="10795"/>
                </a:cubicBezTo>
                <a:cubicBezTo>
                  <a:pt x="21112" y="10783"/>
                  <a:pt x="21108" y="10782"/>
                  <a:pt x="21082" y="10774"/>
                </a:cubicBezTo>
                <a:cubicBezTo>
                  <a:pt x="21042" y="10762"/>
                  <a:pt x="20996" y="10742"/>
                  <a:pt x="20955" y="10731"/>
                </a:cubicBezTo>
                <a:cubicBezTo>
                  <a:pt x="20918" y="10721"/>
                  <a:pt x="20908" y="10695"/>
                  <a:pt x="20870" y="10689"/>
                </a:cubicBezTo>
                <a:cubicBezTo>
                  <a:pt x="20837" y="10684"/>
                  <a:pt x="20788" y="10671"/>
                  <a:pt x="20764" y="10668"/>
                </a:cubicBezTo>
                <a:cubicBezTo>
                  <a:pt x="20713" y="10662"/>
                  <a:pt x="20664" y="10652"/>
                  <a:pt x="20616" y="10647"/>
                </a:cubicBezTo>
                <a:cubicBezTo>
                  <a:pt x="20546" y="10640"/>
                  <a:pt x="20471" y="10630"/>
                  <a:pt x="20405" y="10626"/>
                </a:cubicBezTo>
                <a:cubicBezTo>
                  <a:pt x="20313" y="10620"/>
                  <a:pt x="20229" y="10630"/>
                  <a:pt x="20151" y="10647"/>
                </a:cubicBezTo>
                <a:cubicBezTo>
                  <a:pt x="20118" y="10654"/>
                  <a:pt x="20096" y="10655"/>
                  <a:pt x="20066" y="10668"/>
                </a:cubicBezTo>
                <a:cubicBezTo>
                  <a:pt x="20038" y="10680"/>
                  <a:pt x="20037" y="10688"/>
                  <a:pt x="20002" y="10710"/>
                </a:cubicBezTo>
                <a:cubicBezTo>
                  <a:pt x="19988" y="10719"/>
                  <a:pt x="19941" y="10752"/>
                  <a:pt x="19939" y="10753"/>
                </a:cubicBezTo>
                <a:cubicBezTo>
                  <a:pt x="19914" y="10765"/>
                  <a:pt x="19906" y="10759"/>
                  <a:pt x="19875" y="10774"/>
                </a:cubicBezTo>
                <a:cubicBezTo>
                  <a:pt x="19853" y="10784"/>
                  <a:pt x="19808" y="10804"/>
                  <a:pt x="19791" y="10816"/>
                </a:cubicBezTo>
                <a:cubicBezTo>
                  <a:pt x="19774" y="10828"/>
                  <a:pt x="19754" y="10863"/>
                  <a:pt x="19727" y="10880"/>
                </a:cubicBezTo>
                <a:cubicBezTo>
                  <a:pt x="19702" y="10896"/>
                  <a:pt x="19653" y="10937"/>
                  <a:pt x="19643" y="10943"/>
                </a:cubicBezTo>
                <a:cubicBezTo>
                  <a:pt x="19615" y="10959"/>
                  <a:pt x="19602" y="10951"/>
                  <a:pt x="19579" y="10964"/>
                </a:cubicBezTo>
                <a:cubicBezTo>
                  <a:pt x="19552" y="10980"/>
                  <a:pt x="19538" y="10985"/>
                  <a:pt x="19516" y="11007"/>
                </a:cubicBezTo>
                <a:cubicBezTo>
                  <a:pt x="19486" y="11037"/>
                  <a:pt x="19453" y="11081"/>
                  <a:pt x="19410" y="11112"/>
                </a:cubicBezTo>
                <a:cubicBezTo>
                  <a:pt x="19396" y="11119"/>
                  <a:pt x="19381" y="11127"/>
                  <a:pt x="19367" y="11134"/>
                </a:cubicBezTo>
              </a:path>
              <a:path w="6160" h="8446">
                <a:moveTo>
                  <a:pt x="20680" y="13525"/>
                </a:moveTo>
                <a:cubicBezTo>
                  <a:pt x="20722" y="13521"/>
                  <a:pt x="20775" y="13508"/>
                  <a:pt x="20807" y="13504"/>
                </a:cubicBezTo>
                <a:cubicBezTo>
                  <a:pt x="20869" y="13497"/>
                  <a:pt x="20875" y="13475"/>
                  <a:pt x="20934" y="13462"/>
                </a:cubicBezTo>
                <a:cubicBezTo>
                  <a:pt x="20980" y="13452"/>
                  <a:pt x="21021" y="13453"/>
                  <a:pt x="21061" y="13441"/>
                </a:cubicBezTo>
                <a:cubicBezTo>
                  <a:pt x="21093" y="13431"/>
                  <a:pt x="21117" y="13406"/>
                  <a:pt x="21145" y="13398"/>
                </a:cubicBezTo>
                <a:cubicBezTo>
                  <a:pt x="21172" y="13390"/>
                  <a:pt x="21181" y="13383"/>
                  <a:pt x="21209" y="13377"/>
                </a:cubicBezTo>
                <a:cubicBezTo>
                  <a:pt x="21244" y="13370"/>
                  <a:pt x="21259" y="13362"/>
                  <a:pt x="21294" y="13356"/>
                </a:cubicBezTo>
                <a:cubicBezTo>
                  <a:pt x="21333" y="13349"/>
                  <a:pt x="21363" y="13341"/>
                  <a:pt x="21378" y="13335"/>
                </a:cubicBezTo>
                <a:cubicBezTo>
                  <a:pt x="21404" y="13325"/>
                  <a:pt x="21437" y="13325"/>
                  <a:pt x="21463" y="13314"/>
                </a:cubicBezTo>
                <a:cubicBezTo>
                  <a:pt x="21494" y="13301"/>
                  <a:pt x="21501" y="13302"/>
                  <a:pt x="21526" y="13293"/>
                </a:cubicBezTo>
                <a:cubicBezTo>
                  <a:pt x="21563" y="13280"/>
                  <a:pt x="21575" y="13266"/>
                  <a:pt x="21611" y="13250"/>
                </a:cubicBezTo>
                <a:cubicBezTo>
                  <a:pt x="21636" y="13239"/>
                  <a:pt x="21671" y="13241"/>
                  <a:pt x="21696" y="13229"/>
                </a:cubicBezTo>
                <a:cubicBezTo>
                  <a:pt x="21735" y="13211"/>
                  <a:pt x="21741" y="13209"/>
                  <a:pt x="21780" y="13187"/>
                </a:cubicBezTo>
                <a:cubicBezTo>
                  <a:pt x="21808" y="13171"/>
                  <a:pt x="21808" y="13180"/>
                  <a:pt x="21844" y="13166"/>
                </a:cubicBezTo>
                <a:cubicBezTo>
                  <a:pt x="21869" y="13156"/>
                  <a:pt x="21904" y="13129"/>
                  <a:pt x="21929" y="13123"/>
                </a:cubicBezTo>
                <a:cubicBezTo>
                  <a:pt x="21959" y="13116"/>
                  <a:pt x="22012" y="13105"/>
                  <a:pt x="22034" y="13102"/>
                </a:cubicBezTo>
                <a:cubicBezTo>
                  <a:pt x="22098" y="13093"/>
                  <a:pt x="22195" y="13092"/>
                  <a:pt x="22246" y="13123"/>
                </a:cubicBezTo>
                <a:cubicBezTo>
                  <a:pt x="22271" y="13138"/>
                  <a:pt x="22299" y="13154"/>
                  <a:pt x="22310" y="13166"/>
                </a:cubicBezTo>
                <a:cubicBezTo>
                  <a:pt x="22326" y="13184"/>
                  <a:pt x="22314" y="13213"/>
                  <a:pt x="22331" y="13229"/>
                </a:cubicBezTo>
                <a:cubicBezTo>
                  <a:pt x="22349" y="13245"/>
                  <a:pt x="22372" y="13242"/>
                  <a:pt x="22394" y="13271"/>
                </a:cubicBezTo>
                <a:cubicBezTo>
                  <a:pt x="22407" y="13288"/>
                  <a:pt x="22400" y="13317"/>
                  <a:pt x="22415" y="13335"/>
                </a:cubicBezTo>
                <a:cubicBezTo>
                  <a:pt x="22430" y="13353"/>
                  <a:pt x="22443" y="13364"/>
                  <a:pt x="22458" y="13398"/>
                </a:cubicBezTo>
                <a:cubicBezTo>
                  <a:pt x="22469" y="13423"/>
                  <a:pt x="22465" y="13431"/>
                  <a:pt x="22479" y="13462"/>
                </a:cubicBezTo>
                <a:cubicBezTo>
                  <a:pt x="22487" y="13478"/>
                  <a:pt x="22517" y="13499"/>
                  <a:pt x="22521" y="13525"/>
                </a:cubicBezTo>
                <a:cubicBezTo>
                  <a:pt x="22526" y="13556"/>
                  <a:pt x="22540" y="13609"/>
                  <a:pt x="22542" y="13631"/>
                </a:cubicBezTo>
                <a:cubicBezTo>
                  <a:pt x="22559" y="13782"/>
                  <a:pt x="22536" y="13978"/>
                  <a:pt x="22521" y="14097"/>
                </a:cubicBezTo>
                <a:cubicBezTo>
                  <a:pt x="22518" y="14125"/>
                  <a:pt x="22505" y="14132"/>
                  <a:pt x="22500" y="14160"/>
                </a:cubicBezTo>
                <a:cubicBezTo>
                  <a:pt x="22494" y="14198"/>
                  <a:pt x="22482" y="14258"/>
                  <a:pt x="22479" y="14287"/>
                </a:cubicBezTo>
                <a:cubicBezTo>
                  <a:pt x="22475" y="14323"/>
                  <a:pt x="22462" y="14339"/>
                  <a:pt x="22458" y="14351"/>
                </a:cubicBezTo>
                <a:cubicBezTo>
                  <a:pt x="22450" y="14374"/>
                  <a:pt x="22448" y="14415"/>
                  <a:pt x="22437" y="14436"/>
                </a:cubicBezTo>
                <a:cubicBezTo>
                  <a:pt x="22426" y="14457"/>
                  <a:pt x="22405" y="14528"/>
                  <a:pt x="22394" y="14541"/>
                </a:cubicBezTo>
                <a:cubicBezTo>
                  <a:pt x="22386" y="14550"/>
                  <a:pt x="22362" y="14575"/>
                  <a:pt x="22352" y="14584"/>
                </a:cubicBezTo>
                <a:cubicBezTo>
                  <a:pt x="22334" y="14601"/>
                  <a:pt x="22308" y="14609"/>
                  <a:pt x="22288" y="14626"/>
                </a:cubicBezTo>
                <a:cubicBezTo>
                  <a:pt x="22258" y="14652"/>
                  <a:pt x="22250" y="14654"/>
                  <a:pt x="22225" y="14668"/>
                </a:cubicBezTo>
                <a:cubicBezTo>
                  <a:pt x="22208" y="14678"/>
                  <a:pt x="22179" y="14676"/>
                  <a:pt x="22161" y="14690"/>
                </a:cubicBezTo>
                <a:cubicBezTo>
                  <a:pt x="22136" y="14709"/>
                  <a:pt x="22113" y="14717"/>
                  <a:pt x="22077" y="14732"/>
                </a:cubicBezTo>
                <a:cubicBezTo>
                  <a:pt x="22043" y="14746"/>
                  <a:pt x="22006" y="14779"/>
                  <a:pt x="21971" y="14795"/>
                </a:cubicBezTo>
                <a:cubicBezTo>
                  <a:pt x="21939" y="14809"/>
                  <a:pt x="21897" y="14804"/>
                  <a:pt x="21865" y="14817"/>
                </a:cubicBezTo>
                <a:cubicBezTo>
                  <a:pt x="21842" y="14827"/>
                  <a:pt x="21835" y="14851"/>
                  <a:pt x="21802" y="14859"/>
                </a:cubicBezTo>
                <a:cubicBezTo>
                  <a:pt x="21757" y="14870"/>
                  <a:pt x="21745" y="14875"/>
                  <a:pt x="21717" y="14880"/>
                </a:cubicBezTo>
                <a:cubicBezTo>
                  <a:pt x="21594" y="14900"/>
                  <a:pt x="21338" y="14898"/>
                  <a:pt x="21251" y="14859"/>
                </a:cubicBezTo>
                <a:cubicBezTo>
                  <a:pt x="21216" y="14844"/>
                  <a:pt x="21181" y="14813"/>
                  <a:pt x="21145" y="14795"/>
                </a:cubicBezTo>
                <a:cubicBezTo>
                  <a:pt x="21092" y="14768"/>
                  <a:pt x="21079" y="14743"/>
                  <a:pt x="21040" y="14711"/>
                </a:cubicBezTo>
                <a:cubicBezTo>
                  <a:pt x="21025" y="14699"/>
                  <a:pt x="20977" y="14639"/>
                  <a:pt x="20955" y="14626"/>
                </a:cubicBezTo>
                <a:cubicBezTo>
                  <a:pt x="20908" y="14599"/>
                  <a:pt x="20908" y="14611"/>
                  <a:pt x="20870" y="14563"/>
                </a:cubicBezTo>
                <a:cubicBezTo>
                  <a:pt x="20851" y="14539"/>
                  <a:pt x="20828" y="14487"/>
                  <a:pt x="20807" y="14457"/>
                </a:cubicBezTo>
                <a:cubicBezTo>
                  <a:pt x="20780" y="14419"/>
                  <a:pt x="20764" y="14358"/>
                  <a:pt x="20743" y="14330"/>
                </a:cubicBezTo>
                <a:cubicBezTo>
                  <a:pt x="20712" y="14287"/>
                  <a:pt x="20700" y="14270"/>
                  <a:pt x="20680" y="14224"/>
                </a:cubicBezTo>
                <a:cubicBezTo>
                  <a:pt x="20664" y="14188"/>
                  <a:pt x="20649" y="14156"/>
                  <a:pt x="20637" y="14118"/>
                </a:cubicBezTo>
                <a:cubicBezTo>
                  <a:pt x="20625" y="14082"/>
                  <a:pt x="20603" y="14047"/>
                  <a:pt x="20595" y="14012"/>
                </a:cubicBezTo>
                <a:cubicBezTo>
                  <a:pt x="20586" y="13972"/>
                  <a:pt x="20582" y="13924"/>
                  <a:pt x="20574" y="13885"/>
                </a:cubicBezTo>
                <a:cubicBezTo>
                  <a:pt x="20564" y="13836"/>
                  <a:pt x="20556" y="13794"/>
                  <a:pt x="20553" y="13737"/>
                </a:cubicBezTo>
                <a:cubicBezTo>
                  <a:pt x="20550" y="13691"/>
                  <a:pt x="20537" y="13620"/>
                  <a:pt x="20574" y="13589"/>
                </a:cubicBezTo>
                <a:cubicBezTo>
                  <a:pt x="20595" y="13571"/>
                  <a:pt x="20610" y="13574"/>
                  <a:pt x="20637" y="13568"/>
                </a:cubicBezTo>
                <a:cubicBezTo>
                  <a:pt x="20708" y="13553"/>
                  <a:pt x="20797" y="13568"/>
                  <a:pt x="20870" y="13568"/>
                </a:cubicBezTo>
              </a:path>
              <a:path w="6160" h="8446">
                <a:moveTo>
                  <a:pt x="20129" y="14901"/>
                </a:moveTo>
                <a:cubicBezTo>
                  <a:pt x="20093" y="14926"/>
                  <a:pt x="20048" y="14954"/>
                  <a:pt x="20002" y="14986"/>
                </a:cubicBezTo>
                <a:cubicBezTo>
                  <a:pt x="19935" y="15033"/>
                  <a:pt x="19891" y="15084"/>
                  <a:pt x="19833" y="15134"/>
                </a:cubicBezTo>
                <a:cubicBezTo>
                  <a:pt x="19784" y="15176"/>
                  <a:pt x="19723" y="15214"/>
                  <a:pt x="19685" y="15261"/>
                </a:cubicBezTo>
                <a:cubicBezTo>
                  <a:pt x="19668" y="15282"/>
                  <a:pt x="19664" y="15337"/>
                  <a:pt x="19643" y="15367"/>
                </a:cubicBezTo>
                <a:cubicBezTo>
                  <a:pt x="19604" y="15422"/>
                  <a:pt x="19566" y="15471"/>
                  <a:pt x="19537" y="15515"/>
                </a:cubicBezTo>
                <a:cubicBezTo>
                  <a:pt x="19504" y="15564"/>
                  <a:pt x="19475" y="15592"/>
                  <a:pt x="19452" y="15642"/>
                </a:cubicBezTo>
                <a:cubicBezTo>
                  <a:pt x="19425" y="15701"/>
                  <a:pt x="19410" y="15750"/>
                  <a:pt x="19389" y="15811"/>
                </a:cubicBezTo>
                <a:cubicBezTo>
                  <a:pt x="19364" y="15883"/>
                  <a:pt x="19344" y="15949"/>
                  <a:pt x="19325" y="16023"/>
                </a:cubicBezTo>
                <a:cubicBezTo>
                  <a:pt x="19305" y="16098"/>
                  <a:pt x="19295" y="16161"/>
                  <a:pt x="19283" y="16235"/>
                </a:cubicBezTo>
                <a:cubicBezTo>
                  <a:pt x="19268" y="16326"/>
                  <a:pt x="19251" y="16418"/>
                  <a:pt x="19240" y="16510"/>
                </a:cubicBezTo>
                <a:cubicBezTo>
                  <a:pt x="19230" y="16589"/>
                  <a:pt x="19223" y="16662"/>
                  <a:pt x="19219" y="16743"/>
                </a:cubicBezTo>
                <a:cubicBezTo>
                  <a:pt x="19197" y="17142"/>
                  <a:pt x="19143" y="17674"/>
                  <a:pt x="19262" y="18055"/>
                </a:cubicBezTo>
                <a:cubicBezTo>
                  <a:pt x="19310" y="18210"/>
                  <a:pt x="19392" y="18317"/>
                  <a:pt x="19494" y="18436"/>
                </a:cubicBezTo>
                <a:cubicBezTo>
                  <a:pt x="19547" y="18498"/>
                  <a:pt x="19601" y="18550"/>
                  <a:pt x="19664" y="18605"/>
                </a:cubicBezTo>
                <a:cubicBezTo>
                  <a:pt x="19730" y="18662"/>
                  <a:pt x="19768" y="18721"/>
                  <a:pt x="19833" y="18775"/>
                </a:cubicBezTo>
                <a:cubicBezTo>
                  <a:pt x="19925" y="18852"/>
                  <a:pt x="20036" y="18911"/>
                  <a:pt x="20129" y="18965"/>
                </a:cubicBezTo>
                <a:cubicBezTo>
                  <a:pt x="20226" y="19022"/>
                  <a:pt x="20208" y="19028"/>
                  <a:pt x="20299" y="19050"/>
                </a:cubicBezTo>
                <a:cubicBezTo>
                  <a:pt x="20366" y="19066"/>
                  <a:pt x="20467" y="19081"/>
                  <a:pt x="20532" y="19071"/>
                </a:cubicBezTo>
                <a:cubicBezTo>
                  <a:pt x="20546" y="19057"/>
                  <a:pt x="20560" y="19043"/>
                  <a:pt x="20574" y="19029"/>
                </a:cubicBezTo>
                <a:cubicBezTo>
                  <a:pt x="20608" y="19031"/>
                  <a:pt x="20705" y="19026"/>
                  <a:pt x="20743" y="19029"/>
                </a:cubicBezTo>
                <a:cubicBezTo>
                  <a:pt x="20817" y="19035"/>
                  <a:pt x="20826" y="19026"/>
                  <a:pt x="20891" y="19029"/>
                </a:cubicBezTo>
                <a:cubicBezTo>
                  <a:pt x="20925" y="19031"/>
                  <a:pt x="20959" y="19030"/>
                  <a:pt x="20997" y="19029"/>
                </a:cubicBezTo>
                <a:cubicBezTo>
                  <a:pt x="21042" y="19028"/>
                  <a:pt x="21143" y="19026"/>
                  <a:pt x="21188" y="19029"/>
                </a:cubicBezTo>
                <a:cubicBezTo>
                  <a:pt x="21244" y="19033"/>
                  <a:pt x="21298" y="19048"/>
                  <a:pt x="21357" y="19050"/>
                </a:cubicBezTo>
                <a:cubicBezTo>
                  <a:pt x="21397" y="19052"/>
                  <a:pt x="21507" y="19052"/>
                  <a:pt x="21548" y="19050"/>
                </a:cubicBezTo>
                <a:cubicBezTo>
                  <a:pt x="21595" y="19047"/>
                  <a:pt x="21660" y="19030"/>
                  <a:pt x="21696" y="19029"/>
                </a:cubicBezTo>
                <a:cubicBezTo>
                  <a:pt x="21753" y="19027"/>
                  <a:pt x="21789" y="19030"/>
                  <a:pt x="21844" y="19029"/>
                </a:cubicBezTo>
                <a:cubicBezTo>
                  <a:pt x="22097" y="19023"/>
                  <a:pt x="22365" y="19018"/>
                  <a:pt x="22606" y="19008"/>
                </a:cubicBezTo>
                <a:cubicBezTo>
                  <a:pt x="22806" y="19000"/>
                  <a:pt x="23012" y="19007"/>
                  <a:pt x="23199" y="18986"/>
                </a:cubicBezTo>
                <a:cubicBezTo>
                  <a:pt x="23230" y="18983"/>
                  <a:pt x="23249" y="18970"/>
                  <a:pt x="23283" y="18965"/>
                </a:cubicBezTo>
                <a:cubicBezTo>
                  <a:pt x="23337" y="18957"/>
                  <a:pt x="23385" y="18954"/>
                  <a:pt x="23431" y="18944"/>
                </a:cubicBezTo>
                <a:cubicBezTo>
                  <a:pt x="23472" y="18935"/>
                  <a:pt x="23464" y="18931"/>
                  <a:pt x="23495" y="18923"/>
                </a:cubicBezTo>
                <a:cubicBezTo>
                  <a:pt x="23533" y="18913"/>
                  <a:pt x="23566" y="18911"/>
                  <a:pt x="23601" y="18902"/>
                </a:cubicBezTo>
                <a:cubicBezTo>
                  <a:pt x="23641" y="18892"/>
                  <a:pt x="23634" y="18889"/>
                  <a:pt x="23664" y="18881"/>
                </a:cubicBezTo>
                <a:cubicBezTo>
                  <a:pt x="23702" y="18871"/>
                  <a:pt x="23733" y="18872"/>
                  <a:pt x="23770" y="18859"/>
                </a:cubicBezTo>
                <a:cubicBezTo>
                  <a:pt x="23818" y="18842"/>
                  <a:pt x="23868" y="18817"/>
                  <a:pt x="23918" y="18796"/>
                </a:cubicBezTo>
                <a:cubicBezTo>
                  <a:pt x="23952" y="18782"/>
                  <a:pt x="23968" y="18773"/>
                  <a:pt x="24003" y="18754"/>
                </a:cubicBezTo>
                <a:cubicBezTo>
                  <a:pt x="24070" y="18718"/>
                  <a:pt x="24130" y="18677"/>
                  <a:pt x="24193" y="18627"/>
                </a:cubicBezTo>
                <a:cubicBezTo>
                  <a:pt x="24270" y="18566"/>
                  <a:pt x="24324" y="18512"/>
                  <a:pt x="24384" y="18436"/>
                </a:cubicBezTo>
                <a:cubicBezTo>
                  <a:pt x="24424" y="18385"/>
                  <a:pt x="24467" y="18349"/>
                  <a:pt x="24490" y="18288"/>
                </a:cubicBezTo>
                <a:cubicBezTo>
                  <a:pt x="24521" y="18205"/>
                  <a:pt x="24521" y="18102"/>
                  <a:pt x="24532" y="18013"/>
                </a:cubicBezTo>
                <a:cubicBezTo>
                  <a:pt x="24539" y="17961"/>
                  <a:pt x="24547" y="17918"/>
                  <a:pt x="24553" y="17865"/>
                </a:cubicBezTo>
                <a:cubicBezTo>
                  <a:pt x="24559" y="17806"/>
                  <a:pt x="24564" y="17773"/>
                  <a:pt x="24574" y="17716"/>
                </a:cubicBezTo>
                <a:cubicBezTo>
                  <a:pt x="24586" y="17645"/>
                  <a:pt x="24600" y="17578"/>
                  <a:pt x="24617" y="17505"/>
                </a:cubicBezTo>
                <a:cubicBezTo>
                  <a:pt x="24642" y="17398"/>
                  <a:pt x="24666" y="17275"/>
                  <a:pt x="24701" y="17166"/>
                </a:cubicBezTo>
                <a:cubicBezTo>
                  <a:pt x="24748" y="17018"/>
                  <a:pt x="24791" y="16872"/>
                  <a:pt x="24828" y="16722"/>
                </a:cubicBezTo>
                <a:cubicBezTo>
                  <a:pt x="24842" y="16665"/>
                  <a:pt x="24862" y="16587"/>
                  <a:pt x="24871" y="16531"/>
                </a:cubicBezTo>
                <a:cubicBezTo>
                  <a:pt x="24881" y="16466"/>
                  <a:pt x="24876" y="16382"/>
                  <a:pt x="24892" y="16319"/>
                </a:cubicBezTo>
                <a:cubicBezTo>
                  <a:pt x="24908" y="16257"/>
                  <a:pt x="24943" y="16190"/>
                  <a:pt x="24955" y="16129"/>
                </a:cubicBezTo>
                <a:cubicBezTo>
                  <a:pt x="24967" y="16065"/>
                  <a:pt x="24965" y="16002"/>
                  <a:pt x="24977" y="15938"/>
                </a:cubicBezTo>
                <a:cubicBezTo>
                  <a:pt x="24990" y="15870"/>
                  <a:pt x="25002" y="15792"/>
                  <a:pt x="25019" y="15727"/>
                </a:cubicBezTo>
                <a:cubicBezTo>
                  <a:pt x="25034" y="15671"/>
                  <a:pt x="25053" y="15634"/>
                  <a:pt x="25061" y="15579"/>
                </a:cubicBezTo>
                <a:cubicBezTo>
                  <a:pt x="25087" y="15406"/>
                  <a:pt x="25106" y="15187"/>
                  <a:pt x="25082" y="15007"/>
                </a:cubicBezTo>
                <a:cubicBezTo>
                  <a:pt x="25075" y="14951"/>
                  <a:pt x="25050" y="14912"/>
                  <a:pt x="25040" y="14859"/>
                </a:cubicBezTo>
                <a:cubicBezTo>
                  <a:pt x="25025" y="14778"/>
                  <a:pt x="25025" y="14708"/>
                  <a:pt x="24998" y="14626"/>
                </a:cubicBezTo>
                <a:cubicBezTo>
                  <a:pt x="24975" y="14555"/>
                  <a:pt x="24924" y="14454"/>
                  <a:pt x="24892" y="14393"/>
                </a:cubicBezTo>
                <a:cubicBezTo>
                  <a:pt x="24885" y="14379"/>
                  <a:pt x="24847" y="14339"/>
                  <a:pt x="24828" y="14309"/>
                </a:cubicBezTo>
                <a:cubicBezTo>
                  <a:pt x="24805" y="14272"/>
                  <a:pt x="24779" y="14219"/>
                  <a:pt x="24744" y="14182"/>
                </a:cubicBezTo>
                <a:cubicBezTo>
                  <a:pt x="24708" y="14144"/>
                  <a:pt x="24647" y="14125"/>
                  <a:pt x="24617" y="14097"/>
                </a:cubicBezTo>
                <a:cubicBezTo>
                  <a:pt x="24592" y="14075"/>
                  <a:pt x="24570" y="14043"/>
                  <a:pt x="24553" y="14033"/>
                </a:cubicBezTo>
                <a:cubicBezTo>
                  <a:pt x="24530" y="14020"/>
                  <a:pt x="24510" y="14019"/>
                  <a:pt x="24490" y="14012"/>
                </a:cubicBezTo>
                <a:cubicBezTo>
                  <a:pt x="24459" y="14001"/>
                  <a:pt x="24450" y="13995"/>
                  <a:pt x="24426" y="13991"/>
                </a:cubicBezTo>
                <a:cubicBezTo>
                  <a:pt x="24286" y="13966"/>
                  <a:pt x="24068" y="13992"/>
                  <a:pt x="23961" y="14012"/>
                </a:cubicBezTo>
                <a:cubicBezTo>
                  <a:pt x="23906" y="14022"/>
                  <a:pt x="23861" y="14017"/>
                  <a:pt x="23812" y="14033"/>
                </a:cubicBezTo>
                <a:cubicBezTo>
                  <a:pt x="23768" y="14048"/>
                  <a:pt x="23711" y="14078"/>
                  <a:pt x="23664" y="14097"/>
                </a:cubicBezTo>
                <a:cubicBezTo>
                  <a:pt x="23632" y="14110"/>
                  <a:pt x="23570" y="14155"/>
                  <a:pt x="23558" y="14160"/>
                </a:cubicBezTo>
                <a:cubicBezTo>
                  <a:pt x="23526" y="14174"/>
                  <a:pt x="23507" y="14170"/>
                  <a:pt x="23474" y="14182"/>
                </a:cubicBezTo>
                <a:cubicBezTo>
                  <a:pt x="23446" y="14192"/>
                  <a:pt x="23446" y="14191"/>
                  <a:pt x="23410" y="14203"/>
                </a:cubicBezTo>
                <a:cubicBezTo>
                  <a:pt x="23385" y="14212"/>
                  <a:pt x="23378" y="14211"/>
                  <a:pt x="23347" y="14224"/>
                </a:cubicBezTo>
                <a:cubicBezTo>
                  <a:pt x="23321" y="14235"/>
                  <a:pt x="23316" y="14231"/>
                  <a:pt x="23283" y="14245"/>
                </a:cubicBezTo>
                <a:cubicBezTo>
                  <a:pt x="23275" y="14249"/>
                  <a:pt x="23223" y="14276"/>
                  <a:pt x="23199" y="14287"/>
                </a:cubicBezTo>
                <a:cubicBezTo>
                  <a:pt x="23167" y="14302"/>
                  <a:pt x="23159" y="14319"/>
                  <a:pt x="23135" y="14330"/>
                </a:cubicBezTo>
                <a:cubicBezTo>
                  <a:pt x="23105" y="14343"/>
                  <a:pt x="23057" y="14335"/>
                  <a:pt x="23029" y="14351"/>
                </a:cubicBezTo>
                <a:cubicBezTo>
                  <a:pt x="23023" y="14355"/>
                  <a:pt x="22983" y="14382"/>
                  <a:pt x="22966" y="14393"/>
                </a:cubicBezTo>
                <a:cubicBezTo>
                  <a:pt x="22946" y="14406"/>
                  <a:pt x="22938" y="14426"/>
                  <a:pt x="22923" y="14436"/>
                </a:cubicBezTo>
                <a:cubicBezTo>
                  <a:pt x="22897" y="14453"/>
                  <a:pt x="22860" y="14464"/>
                  <a:pt x="22839" y="14478"/>
                </a:cubicBezTo>
                <a:cubicBezTo>
                  <a:pt x="22817" y="14493"/>
                  <a:pt x="22789" y="14532"/>
                  <a:pt x="22775" y="14541"/>
                </a:cubicBezTo>
                <a:cubicBezTo>
                  <a:pt x="22753" y="14555"/>
                  <a:pt x="22730" y="14569"/>
                  <a:pt x="22712" y="14584"/>
                </a:cubicBezTo>
                <a:cubicBezTo>
                  <a:pt x="22692" y="14601"/>
                  <a:pt x="22666" y="14608"/>
                  <a:pt x="22648" y="14626"/>
                </a:cubicBezTo>
                <a:cubicBezTo>
                  <a:pt x="22634" y="14639"/>
                  <a:pt x="22611" y="14669"/>
                  <a:pt x="22585" y="14690"/>
                </a:cubicBezTo>
                <a:cubicBezTo>
                  <a:pt x="22561" y="14710"/>
                  <a:pt x="22550" y="14711"/>
                  <a:pt x="22521" y="14732"/>
                </a:cubicBezTo>
                <a:cubicBezTo>
                  <a:pt x="22509" y="14741"/>
                  <a:pt x="22485" y="14778"/>
                  <a:pt x="22458" y="14795"/>
                </a:cubicBezTo>
                <a:cubicBezTo>
                  <a:pt x="22441" y="14806"/>
                  <a:pt x="22401" y="14834"/>
                  <a:pt x="22394" y="14838"/>
                </a:cubicBezTo>
                <a:cubicBezTo>
                  <a:pt x="22358" y="14859"/>
                  <a:pt x="22337" y="14870"/>
                  <a:pt x="22310" y="14880"/>
                </a:cubicBezTo>
                <a:cubicBezTo>
                  <a:pt x="22277" y="14893"/>
                  <a:pt x="22242" y="14912"/>
                  <a:pt x="22204" y="14922"/>
                </a:cubicBezTo>
                <a:cubicBezTo>
                  <a:pt x="22138" y="14940"/>
                  <a:pt x="22060" y="14935"/>
                  <a:pt x="21992" y="14944"/>
                </a:cubicBezTo>
                <a:cubicBezTo>
                  <a:pt x="21955" y="14949"/>
                  <a:pt x="21930" y="14962"/>
                  <a:pt x="21886" y="14965"/>
                </a:cubicBezTo>
                <a:cubicBezTo>
                  <a:pt x="21776" y="14973"/>
                  <a:pt x="21675" y="14955"/>
                  <a:pt x="21569" y="14944"/>
                </a:cubicBezTo>
                <a:cubicBezTo>
                  <a:pt x="21532" y="14940"/>
                  <a:pt x="21517" y="14927"/>
                  <a:pt x="21484" y="14922"/>
                </a:cubicBezTo>
                <a:cubicBezTo>
                  <a:pt x="21420" y="14912"/>
                  <a:pt x="21385" y="14915"/>
                  <a:pt x="21336" y="14901"/>
                </a:cubicBezTo>
                <a:cubicBezTo>
                  <a:pt x="21298" y="14890"/>
                  <a:pt x="21245" y="14853"/>
                  <a:pt x="21209" y="14838"/>
                </a:cubicBezTo>
                <a:cubicBezTo>
                  <a:pt x="21177" y="14824"/>
                  <a:pt x="21136" y="14831"/>
                  <a:pt x="21103" y="14817"/>
                </a:cubicBezTo>
                <a:cubicBezTo>
                  <a:pt x="21092" y="14812"/>
                  <a:pt x="21046" y="14767"/>
                  <a:pt x="21018" y="14753"/>
                </a:cubicBezTo>
                <a:cubicBezTo>
                  <a:pt x="20983" y="14736"/>
                  <a:pt x="20928" y="14702"/>
                  <a:pt x="20891" y="14690"/>
                </a:cubicBezTo>
                <a:cubicBezTo>
                  <a:pt x="20854" y="14678"/>
                  <a:pt x="20798" y="14675"/>
                  <a:pt x="20764" y="14668"/>
                </a:cubicBezTo>
                <a:cubicBezTo>
                  <a:pt x="20648" y="14644"/>
                  <a:pt x="20511" y="14651"/>
                  <a:pt x="20426" y="14668"/>
                </a:cubicBezTo>
                <a:cubicBezTo>
                  <a:pt x="20372" y="14679"/>
                  <a:pt x="20354" y="14669"/>
                  <a:pt x="20320" y="14690"/>
                </a:cubicBezTo>
                <a:cubicBezTo>
                  <a:pt x="20310" y="14696"/>
                  <a:pt x="20280" y="14736"/>
                  <a:pt x="20256" y="14753"/>
                </a:cubicBezTo>
                <a:cubicBezTo>
                  <a:pt x="20242" y="14763"/>
                  <a:pt x="20226" y="14809"/>
                  <a:pt x="20214" y="14817"/>
                </a:cubicBezTo>
                <a:cubicBezTo>
                  <a:pt x="20191" y="14832"/>
                  <a:pt x="20172" y="14825"/>
                  <a:pt x="20151" y="14838"/>
                </a:cubicBezTo>
                <a:cubicBezTo>
                  <a:pt x="20124" y="14854"/>
                  <a:pt x="20116" y="14868"/>
                  <a:pt x="20087" y="14880"/>
                </a:cubicBezTo>
                <a:cubicBezTo>
                  <a:pt x="20050" y="14895"/>
                  <a:pt x="20029" y="14890"/>
                  <a:pt x="20002" y="14901"/>
                </a:cubicBezTo>
                <a:cubicBezTo>
                  <a:pt x="19972" y="14914"/>
                  <a:pt x="19950" y="14911"/>
                  <a:pt x="19918" y="14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452280" y="327672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Tói no·n hoµ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4708C-025F-4F4D-B175-F29556BD694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17521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D©y sèng </a:t>
            </a:r>
            <a:r>
              <a:rPr b="1" lang="en-US" sz="2000" spc="-1" strike="noStrike">
                <a:solidFill>
                  <a:srgbClr val="9900cc"/>
                </a:solidFill>
                <a:latin typeface=".VnTime"/>
              </a:rPr>
              <a:t>g©y sù c¶m øng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t¹o c¸c c¬ quan kh¸c (trong ®ã cã cét sèng, khi cét sèng h×nh thµnh, nã tiªu ®i)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ë phÝa ®u«i ph«i, </a:t>
            </a:r>
            <a:r>
              <a:rPr b="1" lang="en-US" sz="2000" spc="-1" strike="noStrike">
                <a:solidFill>
                  <a:srgbClr val="9900cc"/>
                </a:solidFill>
                <a:latin typeface=".VnTime"/>
              </a:rPr>
              <a:t>néi b×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ph¸t triÓn vµo cuèng ph«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1 tói =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niÖu nang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, vÒ sau nã sÏ teo ®i &amp; di tÝch lµ d©y ch»ng </a:t>
            </a:r>
            <a:r>
              <a:rPr b="1" lang="en-US" sz="2000" spc="-1" strike="noStrike">
                <a:solidFill>
                  <a:srgbClr val="9900cc"/>
                </a:solidFill>
                <a:latin typeface=".VnTime"/>
              </a:rPr>
              <a:t>rèn - bµng quang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257800" y="1219320"/>
            <a:ext cx="3581280" cy="3171240"/>
            <a:chOff x="5257800" y="1219320"/>
            <a:chExt cx="3581280" cy="3171240"/>
          </a:xfrm>
        </p:grpSpPr>
        <p:pic>
          <p:nvPicPr>
            <p:cNvPr id="503" name="" descr=""/>
            <p:cNvPicPr/>
            <p:nvPr/>
          </p:nvPicPr>
          <p:blipFill>
            <a:blip r:embed="rId1">
              <a:lum contrast="30000"/>
            </a:blip>
            <a:stretch/>
          </p:blipFill>
          <p:spPr>
            <a:xfrm>
              <a:off x="5257800" y="2209680"/>
              <a:ext cx="33526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8229600" y="28954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19760" y="380988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cc"/>
                  </a:solidFill>
                  <a:latin typeface=".VnTime"/>
                </a:rPr>
                <a:t>NiÖu na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848360" y="1219320"/>
              <a:ext cx="9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Cuèng ph«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05560" y="1828800"/>
              <a:ext cx="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616440" y="2286000"/>
              <a:ext cx="1296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48160" y="1712880"/>
              <a:ext cx="1158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èng d©y sè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AB992-DC43-4074-8913-A1EDD57410A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80880" y="914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.VnTime"/>
              </a:rPr>
              <a:t>§Çu tuÇn 3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, xuÊt hiÖn nh÷ng </a:t>
            </a:r>
            <a:r>
              <a:rPr b="1" i="1" lang="en-US" sz="1800" spc="-1" strike="noStrike">
                <a:solidFill>
                  <a:srgbClr val="009900"/>
                </a:solidFill>
                <a:latin typeface=".VnTime"/>
              </a:rPr>
              <a:t>nhung mao l¸ nu«i nguyªn ph¸t: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gåm trôc l¸ nu«i tÕ bµo &amp; l¸ nu«i hîp bµ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Sau ®ã, trung m« mµng ®Öm x©m nhËp vµo trôc nhung mao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1800" spc="-1" strike="noStrike">
                <a:solidFill>
                  <a:srgbClr val="009900"/>
                </a:solidFill>
                <a:latin typeface=".VnTime"/>
              </a:rPr>
              <a:t>Nhung mao ®Öm thø ph¸t</a:t>
            </a:r>
            <a:r>
              <a:rPr b="1" i="1" lang="en-US" sz="1800" spc="-1" strike="noStrike">
                <a:solidFill>
                  <a:srgbClr val="000000"/>
                </a:solidFill>
                <a:latin typeface=".VnTime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Cuèi tuÇn 3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.VnTime"/>
              </a:rPr>
              <a:t>t¹o ra nh÷ng m¹ch m¸u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trong trôc liªn kÕ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1800" spc="-1" strike="noStrike">
                <a:solidFill>
                  <a:srgbClr val="009900"/>
                </a:solidFill>
                <a:latin typeface=".VnTime"/>
              </a:rPr>
              <a:t>Nhung mao ®Öm vÜnh viÔ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38080" y="380880"/>
            <a:ext cx="5181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.VnTime"/>
              </a:rPr>
              <a:t>2.3. Sù ph¸t triÓn cña l¸ nu«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295280" y="3657600"/>
            <a:ext cx="7239240" cy="2971800"/>
            <a:chOff x="1295280" y="3657600"/>
            <a:chExt cx="7239240" cy="2971800"/>
          </a:xfrm>
        </p:grpSpPr>
        <p:pic>
          <p:nvPicPr>
            <p:cNvPr id="513" name="" descr=""/>
            <p:cNvPicPr/>
            <p:nvPr/>
          </p:nvPicPr>
          <p:blipFill>
            <a:blip r:embed="rId1"/>
            <a:srcRect l="15047" t="2867" r="18745" b="0"/>
            <a:stretch/>
          </p:blipFill>
          <p:spPr>
            <a:xfrm>
              <a:off x="1295280" y="3886200"/>
              <a:ext cx="16765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2"/>
            <a:srcRect l="6587" t="0" r="7185" b="0"/>
            <a:stretch/>
          </p:blipFill>
          <p:spPr>
            <a:xfrm>
              <a:off x="4038480" y="3809880"/>
              <a:ext cx="160020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" descr=""/>
            <p:cNvPicPr/>
            <p:nvPr/>
          </p:nvPicPr>
          <p:blipFill>
            <a:blip r:embed="rId3"/>
            <a:stretch/>
          </p:blipFill>
          <p:spPr>
            <a:xfrm>
              <a:off x="6705720" y="3657600"/>
              <a:ext cx="182880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5791320" y="4267080"/>
              <a:ext cx="914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Kho¶ng gian nhung ma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629400" y="472428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76920" y="472428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24080" y="6095880"/>
              <a:ext cx="685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Mµng è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3733920" y="6248160"/>
              <a:ext cx="5331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6248520"/>
              <a:ext cx="3808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76720" y="3809880"/>
              <a:ext cx="685800" cy="22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L¸ nu«i hîp bµ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L¸ nu«i tÕ bµ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2895480" y="4419720"/>
              <a:ext cx="38124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733920" y="4419720"/>
              <a:ext cx="60948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19520" y="55627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809880" y="54864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4D631-C4BC-425D-9EB1-C50443291C2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.VnTimeH"/>
              </a:rPr>
              <a:t>Sù ph¸t triÓn cña ph«i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.VnTimeH"/>
              </a:rPr>
              <a:t>trong tuÇn thø t­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Trong tuÇn 3, khi trung b× ®­îc t¹o 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t¹o ph«i vÞ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b¾t ®Çu (t¹o  c¸c mÇm m« &amp; c¬ quan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C¸c mÇm nµy di chuyÓn b»ng c¸ch di c­, t¨ng sinh, t¸ch ra, gÊp l¹i, låi lªn, lâm xuèng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mÇm nguyªn ph¸t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ph©n chi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mÇm thø ph¸t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biÖt ho¸ m«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tÕ bµo ®¶m nhiÖm nh÷ng chøc n¨ng ®Æc biÖ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C¸c mÇm 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ph¸t sinh trùc tiÕp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tõ c¸c l¸ ph«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Sù t¹o mÇm b¾t ®Çu tõ ®Çu tuÇn 4. KÕt thóc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c¸c c¬ quan chÝnh ®­îc ®Æt vµo nh÷ng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vÞ trÝ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nhÊt ®Þnh.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D39F-4E83-407C-A373-8087099BD39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.VnTime"/>
              </a:rPr>
              <a:t>1. Sù biÖt ho¸ cña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.VnTime"/>
              </a:rPr>
              <a:t>ngo¹i b×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.VnTime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45720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40000"/>
              </a:lnSpc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D©y sèng c¶m phÇn ngo¹i b× n»m ngay trªn nã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tÊm thÇn kinh. 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PhÇn cßn l¹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ngo¹i b× 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40000"/>
              </a:lnSpc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Êm thÇn kinh            toµn bé </a:t>
            </a:r>
            <a:r>
              <a:rPr b="1" i="1" lang="en-US" sz="2000" spc="-1" strike="noStrike">
                <a:solidFill>
                  <a:srgbClr val="0000cc"/>
                </a:solidFill>
                <a:latin typeface=".VnTime"/>
              </a:rPr>
              <a:t>hÖ thÇn kinh.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Cuèi tuÇn thø 3, tÊm thÇn kinh lâm xuèng theo ®­êng gi÷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m¸ng thÇn kinh, hai bê m¸ng tiÕn gÇn vµ khÐp l¹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èng thÇn kin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.VnTimeH"/>
              </a:rPr>
              <a:t>ë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®Çu ph«i ph×nh to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nh÷ng tói n·o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.VnTime"/>
              </a:rPr>
              <a:t>             </a:t>
            </a:r>
            <a:r>
              <a:rPr b="1" i="1" lang="en-US" sz="2000" spc="-1" strike="noStrike">
                <a:solidFill>
                  <a:srgbClr val="0000cc"/>
                </a:solidFill>
                <a:latin typeface=".VnTime"/>
              </a:rPr>
              <a:t>n·o b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H"/>
              </a:rPr>
              <a:t>+ ë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®u«i ph«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èng tuû          </a:t>
            </a:r>
            <a:r>
              <a:rPr b="1" i="1" lang="en-US" sz="2000" spc="-1" strike="noStrike">
                <a:solidFill>
                  <a:srgbClr val="0000cc"/>
                </a:solidFill>
                <a:latin typeface=".VnTime"/>
              </a:rPr>
              <a:t>tuû sè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27432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61722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95280" y="5715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638680" y="457200"/>
            <a:ext cx="3048120" cy="6221520"/>
            <a:chOff x="5638680" y="457200"/>
            <a:chExt cx="3048120" cy="6221520"/>
          </a:xfrm>
        </p:grpSpPr>
        <p:pic>
          <p:nvPicPr>
            <p:cNvPr id="535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6705720" y="533520"/>
              <a:ext cx="190476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2"/>
            <a:stretch/>
          </p:blipFill>
          <p:spPr>
            <a:xfrm>
              <a:off x="6705720" y="2590920"/>
              <a:ext cx="1981080" cy="19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" descr=""/>
            <p:cNvPicPr/>
            <p:nvPr/>
          </p:nvPicPr>
          <p:blipFill>
            <a:blip r:embed="rId3"/>
            <a:stretch/>
          </p:blipFill>
          <p:spPr>
            <a:xfrm>
              <a:off x="6324480" y="4768920"/>
              <a:ext cx="2362320" cy="19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6705720" y="663480"/>
              <a:ext cx="9903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638680" y="4572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M¸ng T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91320" y="4572000"/>
              <a:ext cx="1143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èng thÇn kin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553080" y="4952880"/>
              <a:ext cx="9907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6705720" y="990360"/>
              <a:ext cx="914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15000" y="838080"/>
              <a:ext cx="990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D©y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sè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7086600" y="2286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Khoang è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010280" y="1371600"/>
            <a:ext cx="100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.VnTime"/>
              </a:rPr>
              <a:t>Tó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.VnTime"/>
              </a:rPr>
              <a:t>no·n hoµ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C58EF-8B3D-41C6-BB5F-7562EC6D2DE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18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- Tõ bê m¸ng, c¸c tb di c­ sang 2 bªn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mµo thÇn kinh         </a:t>
            </a:r>
            <a:r>
              <a:rPr b="1" i="1" lang="en-US" sz="1800" spc="-1" strike="noStrike">
                <a:solidFill>
                  <a:srgbClr val="ffff00"/>
                </a:solidFill>
                <a:latin typeface=".VnTime"/>
              </a:rPr>
              <a:t>H¹ch thÇn kinh, phã h¹ch, tuyÕn tuû th­îng thËn. 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- Sµn n·o tr­íc låi sang hai bªn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2 tói thÞ gi¸c lâm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  ChÐn thÞ gi¸c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          </a:t>
            </a:r>
            <a:r>
              <a:rPr b="1" i="1" lang="en-US" sz="1800" spc="-1" strike="noStrike">
                <a:solidFill>
                  <a:srgbClr val="ffff00"/>
                </a:solidFill>
                <a:latin typeface=".VnTime"/>
              </a:rPr>
              <a:t>Vâng m¹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- Ngo¹i b× dµy lªn t¹o thµnh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+ TÊm khøu gi¸c          </a:t>
            </a:r>
            <a:r>
              <a:rPr b="1" i="1" lang="en-US" sz="1800" spc="-1" strike="noStrike">
                <a:solidFill>
                  <a:srgbClr val="ffff00"/>
                </a:solidFill>
                <a:latin typeface=".VnTime"/>
              </a:rPr>
              <a:t>BiÓu m« khøu gi¸c.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+ TÊm thÞ gi¸c lâm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Tói nh©n m¾t         </a:t>
            </a:r>
            <a:r>
              <a:rPr b="1" i="1" lang="en-US" sz="1800" spc="-1" strike="noStrike">
                <a:solidFill>
                  <a:srgbClr val="ffff00"/>
                </a:solidFill>
                <a:latin typeface=".VnTime"/>
              </a:rPr>
              <a:t>Nh©n m¾t.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+ TÊm thÝnh gi¸c lâm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Hè thÝnh gi¸c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Tói thÝnh gi¸c         </a:t>
            </a:r>
            <a:r>
              <a:rPr b="1" i="1" lang="en-US" sz="1800" spc="-1" strike="noStrike">
                <a:solidFill>
                  <a:srgbClr val="ffff00"/>
                </a:solidFill>
                <a:latin typeface=".VnTime"/>
              </a:rPr>
              <a:t>Tai trong.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- N·o trung gian lâm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PhÔu tuyÕn yªn         </a:t>
            </a:r>
            <a:r>
              <a:rPr b="1" i="1" lang="en-US" sz="1800" spc="-1" strike="noStrike">
                <a:solidFill>
                  <a:srgbClr val="ffff00"/>
                </a:solidFill>
                <a:latin typeface=".VnTime"/>
              </a:rPr>
              <a:t>TuyÕn yªn,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phÝa sau trÇn n·o trung gian låi lªn            </a:t>
            </a:r>
            <a:r>
              <a:rPr b="1" i="1" lang="en-US" sz="1800" spc="-1" strike="noStrike">
                <a:solidFill>
                  <a:srgbClr val="ffff00"/>
                </a:solidFill>
                <a:latin typeface=".VnTime"/>
              </a:rPr>
              <a:t>TuyÕn tï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Ngo¹i b× da           </a:t>
            </a:r>
            <a:r>
              <a:rPr b="1" i="1" lang="en-US" sz="1800" spc="-1" strike="noStrike">
                <a:solidFill>
                  <a:srgbClr val="ffff00"/>
                </a:solidFill>
                <a:latin typeface=".VnTime"/>
              </a:rPr>
              <a:t>BiÓu b× &amp; c¸c bé phËn phô thuéc</a:t>
            </a: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"/>
          <p:cNvSpPr/>
          <p:nvPr/>
        </p:nvSpPr>
        <p:spPr>
          <a:xfrm>
            <a:off x="4191120" y="48769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133720" y="52578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00800" y="3962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019920" y="914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212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66688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648320" y="3962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4956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0" y="4419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0A6-4915-428E-BEA6-8128DBEDE70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.VnTime"/>
              </a:rPr>
              <a:t>Tãm l¹i: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 </a:t>
            </a:r>
            <a:r>
              <a:rPr b="1" i="1" lang="en-US" sz="1800" spc="-1" strike="noStrike">
                <a:solidFill>
                  <a:srgbClr val="ffffff"/>
                </a:solidFill>
                <a:latin typeface=".VnTime"/>
              </a:rPr>
              <a:t>Ngo¹i b× lµ nguån gèc cñ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Toµn bé hÖ thÇn kinh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BiÓu m« c¶m gi¸c cña c¸c c¬ quan thÝnh gi¸c, khøu gi¸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.VnAvant"/>
              </a:rPr>
              <a:t>- Vâng m¹c, nh©n m¾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BiÓu m« khoang miÖng, khoang mòi, c¸c xoang, c¸c tuyÕn phô thué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Men r¨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BiÓu m« </a:t>
            </a:r>
            <a:r>
              <a:rPr b="1" lang="en-US" sz="1800" spc="-1" strike="noStrike">
                <a:solidFill>
                  <a:srgbClr val="ff6699"/>
                </a:solidFill>
                <a:latin typeface=".VnAvant"/>
              </a:rPr>
              <a:t>®o¹n tËn cïng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èng </a:t>
            </a:r>
            <a:r>
              <a:rPr b="1" lang="en-US" sz="1800" spc="-1" strike="noStrike">
                <a:solidFill>
                  <a:srgbClr val="ff6699"/>
                </a:solidFill>
                <a:latin typeface=".VnAvant"/>
              </a:rPr>
              <a:t>tiªu ho¸,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</a:t>
            </a:r>
            <a:r>
              <a:rPr b="1" lang="en-US" sz="1800" spc="-1" strike="noStrike">
                <a:solidFill>
                  <a:srgbClr val="ff6699"/>
                </a:solidFill>
                <a:latin typeface=".VnAvant"/>
              </a:rPr>
              <a:t>hÖ tiÕt niÖu &amp; sinh dôc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TuyÕn yªn &amp; th­îng thËn tu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</a:t>
            </a:r>
            <a:r>
              <a:rPr b="1" lang="en-US" sz="1800" spc="-1" strike="noStrike">
                <a:solidFill>
                  <a:srgbClr val="ff6699"/>
                </a:solidFill>
                <a:latin typeface=".VnAvant"/>
              </a:rPr>
              <a:t>BiÓu b×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&amp; c¸c bé phËn </a:t>
            </a:r>
            <a:r>
              <a:rPr b="1" lang="en-US" sz="1800" spc="-1" strike="noStrike">
                <a:solidFill>
                  <a:srgbClr val="ff6699"/>
                </a:solidFill>
                <a:latin typeface=".VnAvant"/>
              </a:rPr>
              <a:t>phô thuéc da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FEA3-3764-43AB-9295-D3C18967A1C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4400" y="685800"/>
            <a:ext cx="7391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ffcc00"/>
                </a:solidFill>
                <a:latin typeface=".VnTime"/>
              </a:rPr>
              <a:t>Môc tiªu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1. Tr×nh bµy ®­îc </a:t>
            </a:r>
            <a:r>
              <a:rPr b="1" i="1" lang="en-US" sz="2000" spc="-1" strike="noStrike">
                <a:solidFill>
                  <a:srgbClr val="ffff00"/>
                </a:solidFill>
                <a:latin typeface=".VnTime"/>
              </a:rPr>
              <a:t>qu¸ tr×nh thô tinh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vµ </a:t>
            </a:r>
            <a:r>
              <a:rPr b="1" i="1" lang="en-US" sz="2000" spc="-1" strike="noStrike">
                <a:solidFill>
                  <a:srgbClr val="ffff00"/>
                </a:solidFill>
                <a:latin typeface=".VnTime"/>
              </a:rPr>
              <a:t>kÕt qu¶ thô tin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2. Tr×nh bµy ®­îc qu¸ tr×nh ph©n chia trøng thô tinh ®Õn giai ®o¹n t¹o </a:t>
            </a:r>
            <a:r>
              <a:rPr b="1" i="1" lang="en-US" sz="2000" spc="-1" strike="noStrike">
                <a:solidFill>
                  <a:srgbClr val="ffff00"/>
                </a:solidFill>
                <a:latin typeface=".VnTime"/>
              </a:rPr>
              <a:t>ph«i d©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3. Tr×nh bµy ®­îc sù h×nh thµnh vµ ph¸t triÓn cña </a:t>
            </a:r>
            <a:r>
              <a:rPr b="1" i="1" lang="en-US" sz="2000" spc="-1" strike="noStrike">
                <a:solidFill>
                  <a:srgbClr val="ffff00"/>
                </a:solidFill>
                <a:latin typeface=".VnTime"/>
              </a:rPr>
              <a:t>ph«i na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4. Tr×nh bµy ®­îc sù h×nh thµnh vµ ph¸t triÓn cña </a:t>
            </a:r>
            <a:r>
              <a:rPr b="1" i="1" lang="en-US" sz="2000" spc="-1" strike="noStrike">
                <a:solidFill>
                  <a:srgbClr val="ffff00"/>
                </a:solidFill>
                <a:latin typeface=".VnTime"/>
              </a:rPr>
              <a:t>ph«i v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5. Nªu ®­îc </a:t>
            </a:r>
            <a:r>
              <a:rPr b="1" i="1" lang="en-US" sz="2000" spc="-1" strike="noStrike">
                <a:solidFill>
                  <a:srgbClr val="ffff00"/>
                </a:solidFill>
                <a:latin typeface=".VnTime"/>
              </a:rPr>
              <a:t>nguån gèc c¸c m« vµ c¬ qu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6. M« t¶ ®­îc sù h×nh thµnh vµ ph¸t triÓn cña </a:t>
            </a:r>
            <a:r>
              <a:rPr b="1" i="1" lang="en-US" sz="2000" spc="-1" strike="noStrike">
                <a:solidFill>
                  <a:srgbClr val="ffff00"/>
                </a:solidFill>
                <a:latin typeface=".VnTime"/>
              </a:rPr>
              <a:t>c¸c bé phËn phô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cña ph«i tha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7. Ph©n biÖt ®­îc c¸c tr­êng hîp </a:t>
            </a:r>
            <a:r>
              <a:rPr b="1" i="1" lang="en-US" sz="2000" spc="-1" strike="noStrike">
                <a:solidFill>
                  <a:srgbClr val="ffff00"/>
                </a:solidFill>
                <a:latin typeface=".VnTime"/>
              </a:rPr>
              <a:t>®a thai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cïng trøng vµ kh¸c trø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0B6-A9E1-4C79-BD3E-8574651A7D2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.VnTime"/>
              </a:rPr>
              <a:t>2. BiÖt ho¸ cña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.VnTime"/>
              </a:rPr>
              <a:t>trung b×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.VnTime"/>
              </a:rPr>
              <a:t>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   3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phÇn: Trung b× cËn trôc, trung gian &amp; bª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.VnTime"/>
              </a:rPr>
              <a:t>2.1. Trung b× cËn trô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Cuèi tuÇn 3, trung b× cËn trôc ph©n ®è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khóc nguyªn thuû (42- 44 ®«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Khóc nguyªn thuû = 1 khèi vu«ng rçng, 4 thµnh (trong, ngoµi, l­ng, bô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§Çu tuÇn 4, thµnh ngoµi &amp; bông mÊt d¹ng biÓu m«, thµnh trong ¸p vµo thµnh l­ng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§èt da- c¬         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M« liªn kÕt d­íi da &amp; c¬ v©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352680" y="51055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572000" y="228600"/>
            <a:ext cx="4968720" cy="2881440"/>
            <a:chOff x="4572000" y="228600"/>
            <a:chExt cx="4968720" cy="2881440"/>
          </a:xfrm>
        </p:grpSpPr>
        <p:pic>
          <p:nvPicPr>
            <p:cNvPr id="561" name="Picture 7" descr="Copy of App0069"/>
            <p:cNvPicPr/>
            <p:nvPr/>
          </p:nvPicPr>
          <p:blipFill>
            <a:blip r:embed="rId1"/>
            <a:srcRect l="0" t="62165" r="0" b="0"/>
            <a:stretch/>
          </p:blipFill>
          <p:spPr>
            <a:xfrm>
              <a:off x="4572000" y="228600"/>
              <a:ext cx="4968720" cy="28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5105520" y="2743200"/>
              <a:ext cx="304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82788-6ADB-47BE-A737-8FBB8EDAE9F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61760" y="2361960"/>
            <a:ext cx="52578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.VnTime"/>
              </a:rPr>
              <a:t>2.2. Trung b× trung gian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Çu ph«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§èt thËn, 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®u«i ph«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D¶i sinh thËn             </a:t>
            </a:r>
            <a:r>
              <a:rPr b="1" i="1" lang="sv-SE" sz="2000" spc="-1" strike="noStrike">
                <a:solidFill>
                  <a:srgbClr val="009900"/>
                </a:solidFill>
                <a:latin typeface=".VnTime"/>
              </a:rPr>
              <a:t>HÖ tiÕt niÖu</a:t>
            </a:r>
            <a:r>
              <a:rPr b="1" lang="sv-SE" sz="2000" spc="-1" strike="noStrike">
                <a:solidFill>
                  <a:srgbClr val="009900"/>
                </a:solidFill>
                <a:latin typeface=".VnTime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Nguån gèc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hÖ sinh dôc &amp; tuyÕn vá th­îng thËn</a:t>
            </a:r>
            <a:r>
              <a:rPr b="1" i="1" lang="en-US" sz="1800" spc="-1" strike="noStrike">
                <a:solidFill>
                  <a:srgbClr val="009900"/>
                </a:solidFill>
                <a:latin typeface=".VnTime"/>
              </a:rPr>
              <a:t>.</a:t>
            </a:r>
            <a:br>
              <a:rPr sz="2000"/>
            </a:b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.VnTime"/>
              </a:rPr>
              <a:t>2.3. Trung b× bªn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¸ch lµm 2 l¸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    </a:t>
            </a:r>
            <a:r>
              <a:rPr b="1" lang="en-US" sz="2000" spc="-1" strike="noStrike">
                <a:solidFill>
                  <a:srgbClr val="ff6699"/>
                </a:solidFill>
                <a:latin typeface=".VnTime"/>
              </a:rPr>
              <a:t>L¸ thµnh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d¸n vµo ngo¹i b× &amp; tiÕp víi l¸ thµnh trung b× ngoµi ph«i.</a:t>
            </a:r>
            <a:br>
              <a:rPr sz="2000"/>
            </a:b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     </a:t>
            </a:r>
            <a:r>
              <a:rPr b="1" lang="sv-SE" sz="2000" spc="-1" strike="noStrike">
                <a:solidFill>
                  <a:srgbClr val="009900"/>
                </a:solidFill>
                <a:latin typeface=".VnTime"/>
              </a:rPr>
              <a:t>L¸ t¹ng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d¸n vµo néi b× &amp; tiÕp víi l¸ t¹ng trung b× ngoµi ph«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00200" y="2133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019920" y="3657600"/>
            <a:ext cx="3124080" cy="2344680"/>
            <a:chOff x="6019920" y="3657600"/>
            <a:chExt cx="3124080" cy="2344680"/>
          </a:xfrm>
        </p:grpSpPr>
        <p:pic>
          <p:nvPicPr>
            <p:cNvPr id="566" name="" descr=""/>
            <p:cNvPicPr/>
            <p:nvPr/>
          </p:nvPicPr>
          <p:blipFill>
            <a:blip r:embed="rId1"/>
            <a:stretch/>
          </p:blipFill>
          <p:spPr>
            <a:xfrm>
              <a:off x="6019920" y="3657600"/>
              <a:ext cx="2361960" cy="23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8305920" y="3733560"/>
              <a:ext cx="8380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L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Thµn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L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t¹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848720" y="4190760"/>
              <a:ext cx="5331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20120" y="4495680"/>
              <a:ext cx="6858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0A2F5-EEEC-456B-AA87-CD3BF3D8AB1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609120" y="838080"/>
            <a:ext cx="44960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Gi÷a 2 l¸ lµ </a:t>
            </a:r>
            <a:r>
              <a:rPr b="1" lang="en-US" sz="2000" spc="-1" strike="noStrike">
                <a:solidFill>
                  <a:srgbClr val="009900"/>
                </a:solidFill>
                <a:latin typeface=".VnTime"/>
              </a:rPr>
              <a:t>khoang c¬ thÓ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(th«ng víi khoang ngoµi ph«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.VnTimeH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H"/>
              </a:rPr>
              <a:t>ë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mçi l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Õ bµo trªn mÆt  = Trung biÓu m« (phñ trªn mÆt khoang mµng bông, khoang mµng tim, khoang mµng phæ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Õ bµo phÝa d­íi = Trung m«        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M« liªn kÕt, m¸u &amp;  m¹ch m¸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67080" y="44956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5791320" y="1066680"/>
            <a:ext cx="3124080" cy="2757240"/>
            <a:chOff x="5791320" y="1066680"/>
            <a:chExt cx="3124080" cy="2757240"/>
          </a:xfrm>
        </p:grpSpPr>
        <p:grpSp>
          <p:nvGrpSpPr>
            <p:cNvPr id="573" name=""/>
            <p:cNvGrpSpPr/>
            <p:nvPr/>
          </p:nvGrpSpPr>
          <p:grpSpPr>
            <a:xfrm>
              <a:off x="5791320" y="1479240"/>
              <a:ext cx="3124080" cy="2344680"/>
              <a:chOff x="5791320" y="1479240"/>
              <a:chExt cx="3124080" cy="2344680"/>
            </a:xfrm>
          </p:grpSpPr>
          <p:pic>
            <p:nvPicPr>
              <p:cNvPr id="57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791320" y="1479240"/>
                <a:ext cx="2361960" cy="234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"/>
              <p:cNvSpPr/>
              <p:nvPr/>
            </p:nvSpPr>
            <p:spPr>
              <a:xfrm>
                <a:off x="8077320" y="1555200"/>
                <a:ext cx="8380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L¸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thµnh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L¸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t¹ng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7620120" y="2012400"/>
                <a:ext cx="53316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91520" y="2317320"/>
                <a:ext cx="6858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7523280" y="1403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29400" y="106668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Khoang c¬ thÓ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98A71-8EE0-4B6E-BB83-AD714014301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1371240" y="1371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.VnTime"/>
              </a:rPr>
              <a:t>Tãm l¹i:</a:t>
            </a:r>
            <a:r>
              <a:rPr b="1" i="1" lang="en-US" sz="2000" spc="-1" strike="noStrike">
                <a:solidFill>
                  <a:srgbClr val="ffffff"/>
                </a:solidFill>
                <a:latin typeface=".VnTime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.VnTime"/>
              </a:rPr>
              <a:t>Trung b×</a:t>
            </a:r>
            <a:r>
              <a:rPr b="1" i="1" lang="en-US" sz="2000" spc="-1" strike="noStrike">
                <a:solidFill>
                  <a:srgbClr val="ffffff"/>
                </a:solidFill>
                <a:latin typeface=".VnTime"/>
              </a:rPr>
              <a:t> lµ nguån gèc cñ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M« liªn kÕ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M« c¬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ThËn, c¸c tuyÕn sinh dôc nam &amp; n÷, ®­êng bµi xuÊt cña hÖ tiÕt niÖu - sinh dôc (trõ ®o¹n cuèi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TuyÕn vá th­îng thË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C¸c c¬ quan t¹o huyÕt &amp; c¸c huyÕt cÇu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1E9C-3FB4-442A-B092-F0A3AC3645B5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3581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.VnTime"/>
              </a:rPr>
              <a:t>3. BiÖt ho¸ cña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.VnTime"/>
              </a:rPr>
              <a:t>néi b×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55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Néi b× biÖt ho¸ thµnh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40000"/>
              </a:lnSpc>
              <a:buClr>
                <a:srgbClr val="ffffcc"/>
              </a:buClr>
              <a:buSzPct val="60000"/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BiÓu m« tai gi÷a, xoang mÆt, vßi Eustach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40000"/>
              </a:lnSpc>
              <a:buClr>
                <a:srgbClr val="ffffcc"/>
              </a:buClr>
              <a:buSzPct val="60000"/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BM tuyÕn gi¸p, cËn gi¸p, ø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40000"/>
              </a:lnSpc>
              <a:buClr>
                <a:srgbClr val="ffffcc"/>
              </a:buClr>
              <a:buSzPct val="60000"/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BM ®­êng h« hÊp (tõ häng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phÕ nang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40000"/>
              </a:lnSpc>
              <a:buClr>
                <a:srgbClr val="ffffcc"/>
              </a:buClr>
              <a:buSzPct val="60000"/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BM èng tiªu ho¸ (trõ miÖng, hËu m«n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40000"/>
              </a:lnSpc>
              <a:buClr>
                <a:srgbClr val="ffffcc"/>
              </a:buClr>
              <a:buSzPct val="60000"/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BM tuyÕn thµnh èng tiªu ho¸, gan, tôy, tuyÕn n­íc bät (trõ tuyÕn mang tai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40000"/>
              </a:lnSpc>
              <a:buClr>
                <a:srgbClr val="ffffcc"/>
              </a:buClr>
              <a:buSzPct val="60000"/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BM bµng quang, 1 phÇn ©m ®¹o, toµn bé niÖu ®¹o n÷ giíi, niÖu ®¹o nam giíi (trõ niÖu ®¹o d­¬ng vËt).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74C-73C1-4A32-A583-EBC6127E320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.VnAvantH"/>
              </a:rPr>
              <a:t>4. Sù ®Þnh ranh giíi ph«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HiÖn t­î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.VnAvant"/>
              </a:rPr>
              <a:t>khÐp m×nh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chñ yÕu lµ do sù vång lªn ë gi÷a cña b¶n ph«i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.VnAvant"/>
              </a:rPr>
              <a:t>sù gËp cña ®Çu &amp; ®u«i ph«i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, ë 2 bªn bê b¶n ph«i còng cuén l¹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Do sù gËp cña ph«i nªn </a:t>
            </a:r>
            <a:r>
              <a:rPr b="1" lang="en-US" sz="1800" spc="-1" strike="noStrike">
                <a:solidFill>
                  <a:srgbClr val="009900"/>
                </a:solidFill>
                <a:latin typeface=".VnAvant"/>
              </a:rPr>
              <a:t>khoang èi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ngµy cµng to ra, chuyÓn ®éng vÒ phÝa d­íi &amp; vÒ gi÷a, kÕt qu¶ ph«i n»m gän trong khoang è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Còng do ph«i gÊp m×nh nªn gi÷a tói no·n hoµng &amp; niÖu nang xuÊt hiÖn mét nÕp gÊp gäi lµ </a:t>
            </a:r>
            <a:r>
              <a:rPr b="1" lang="en-US" sz="1800" spc="-1" strike="noStrike">
                <a:solidFill>
                  <a:srgbClr val="009900"/>
                </a:solidFill>
                <a:latin typeface=".VnAvant"/>
              </a:rPr>
              <a:t>cùa niÖu n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380880" y="4114800"/>
            <a:ext cx="8440920" cy="2176200"/>
            <a:chOff x="380880" y="4114800"/>
            <a:chExt cx="8440920" cy="2176200"/>
          </a:xfrm>
        </p:grpSpPr>
        <p:pic>
          <p:nvPicPr>
            <p:cNvPr id="586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380880" y="4343400"/>
              <a:ext cx="213372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" descr=""/>
            <p:cNvPicPr/>
            <p:nvPr/>
          </p:nvPicPr>
          <p:blipFill>
            <a:blip r:embed="rId2"/>
            <a:stretch/>
          </p:blipFill>
          <p:spPr>
            <a:xfrm>
              <a:off x="2743200" y="4267080"/>
              <a:ext cx="2133720" cy="19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3"/>
            <a:stretch/>
          </p:blipFill>
          <p:spPr>
            <a:xfrm>
              <a:off x="4800600" y="4267080"/>
              <a:ext cx="2362320" cy="19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4"/>
            <a:stretch/>
          </p:blipFill>
          <p:spPr>
            <a:xfrm>
              <a:off x="7238880" y="4114800"/>
              <a:ext cx="1582920" cy="217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0" name=""/>
          <p:cNvSpPr/>
          <p:nvPr/>
        </p:nvSpPr>
        <p:spPr>
          <a:xfrm>
            <a:off x="2066760" y="4800600"/>
            <a:ext cx="11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.VnTime"/>
              </a:rPr>
              <a:t>Kho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.VnTime"/>
              </a:rPr>
              <a:t>ngoµi ph«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830960" y="6340320"/>
            <a:ext cx="18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.VnTime"/>
              </a:rPr>
              <a:t>L¸ t¹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.VnTime"/>
              </a:rPr>
              <a:t>trung b× ngoµi ph«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362320" y="525744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362320" y="5410080"/>
            <a:ext cx="5331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94120" y="3581280"/>
            <a:ext cx="23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L¸ thµn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trung b× ngoµi ph«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514600" y="4191120"/>
            <a:ext cx="38088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848840" y="342900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Khóc nguyªn thñ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114440" y="3886200"/>
            <a:ext cx="11430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38862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781680" y="3505320"/>
            <a:ext cx="19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§èt da c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543800" y="3809880"/>
            <a:ext cx="15228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569200" y="388620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èng tk</a:t>
            </a: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§m chñ l­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6095880" y="4191120"/>
            <a:ext cx="763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6172200" y="4191120"/>
            <a:ext cx="83808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325BE-A703-4311-9C68-1C93DEC8BD9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44956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ói no·n hoµng dµi ra &amp; th¾t l¹i ë phÝa trª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cuèng no·n hoµ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Cùa niÖu nang ngµy cµng tiÕn vµo trong ph«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v¸ch niÖu - trùc trµ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Trung b× cuèng ph«i s¸t nhËp víi trung b× no·n hoµ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d©y rèn.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Tí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.VnTime"/>
              </a:rPr>
              <a:t>cuèi th¸ng thø nhÊt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, mäi lèi th«ng gi÷a khoang c¬ thÓ víi khoang ngoµi ph«i ®Òu </a:t>
            </a:r>
            <a:r>
              <a:rPr b="1" lang="en-US" sz="2000" spc="-1" strike="noStrike">
                <a:solidFill>
                  <a:srgbClr val="009900"/>
                </a:solidFill>
                <a:latin typeface=".VnTime"/>
              </a:rPr>
              <a:t>®· bÞ bÞt kÝn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      </a:t>
            </a:r>
            <a:r>
              <a:rPr b="1" i="1" lang="en-US" sz="2000" spc="-1" strike="noStrike">
                <a:solidFill>
                  <a:srgbClr val="800080"/>
                </a:solidFill>
                <a:latin typeface=".VnTime"/>
              </a:rPr>
              <a:t>Ph«i ®· khÐp m×nh vµ ranh giíi ph«i ®· ®­îc x¸c ®Þnh</a:t>
            </a:r>
            <a:r>
              <a:rPr b="0" lang="en-US" sz="2000" spc="-1" strike="noStrike">
                <a:solidFill>
                  <a:srgbClr val="800080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43434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876920" y="1066680"/>
            <a:ext cx="4495680" cy="3857400"/>
            <a:chOff x="4876920" y="1066680"/>
            <a:chExt cx="4495680" cy="3857400"/>
          </a:xfrm>
        </p:grpSpPr>
        <p:pic>
          <p:nvPicPr>
            <p:cNvPr id="607" name="" descr=""/>
            <p:cNvPicPr/>
            <p:nvPr/>
          </p:nvPicPr>
          <p:blipFill>
            <a:blip r:embed="rId1">
              <a:lum contrast="30000"/>
            </a:blip>
            <a:stretch/>
          </p:blipFill>
          <p:spPr>
            <a:xfrm>
              <a:off x="5486400" y="1066680"/>
              <a:ext cx="3273480" cy="34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5562720" y="33526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876920" y="2971800"/>
              <a:ext cx="99036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Tói no·n hoµ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Mµng ®Ö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62720" y="419112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305920" y="236232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Cuèng ph«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7391520" y="2819520"/>
              <a:ext cx="9144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848720" y="434340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Khoa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ngoµi ph«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848720" y="3352680"/>
              <a:ext cx="38088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6095880" y="49536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Khoang è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0" y="838080"/>
            <a:ext cx="2286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94680" y="76212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Mµng è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562720" y="990720"/>
            <a:ext cx="6094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B9F15-A916-4285-B531-2982E94516C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.VnAvantH"/>
              </a:rPr>
              <a:t>sù ph¸t triÓn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.VnAvantH"/>
              </a:rPr>
              <a:t>c¸c bé phËn phô cña ph«i thai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42640" y="17226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.VnAvantH"/>
              </a:rPr>
              <a:t>1.</a:t>
            </a:r>
            <a:r>
              <a:rPr b="1" lang="en-US" sz="2000" spc="-1" strike="noStrike">
                <a:solidFill>
                  <a:srgbClr val="cccc00"/>
                </a:solidFill>
                <a:latin typeface=".VnAvantH"/>
              </a:rPr>
              <a:t> </a:t>
            </a:r>
            <a:r>
              <a:rPr b="1" lang="en-US" sz="2000" spc="-1" strike="noStrike">
                <a:solidFill>
                  <a:srgbClr val="ff6699"/>
                </a:solidFill>
                <a:latin typeface=".VnAvantH"/>
              </a:rPr>
              <a:t>Mµng èi vµ khoang è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Avant"/>
              </a:rPr>
              <a:t>Mµng èi lîp trÇn khoang èi, khoang èi cã chøa n­íc èi (cã thÓ tõ huyÕt thanh mÑ, tÕ bµo biÓu m« mµng èi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Avant"/>
              </a:rPr>
              <a:t>Qu¸ tr×nh s¶n sinh &amp; hÊp thu n­íc èi lµ kh«ng ®æi. N­íc èi ®­îc trao ®æi víi c¬ thÓ mÑ qua tuÇn hoµn rau nªn </a:t>
            </a:r>
            <a:r>
              <a:rPr b="1" lang="en-US" sz="2000" spc="-1" strike="noStrike">
                <a:solidFill>
                  <a:srgbClr val="ffff00"/>
                </a:solidFill>
                <a:latin typeface=".VnAvant"/>
              </a:rPr>
              <a:t>n­íc èi lu«n lu«n ®­îc ®æi míi</a:t>
            </a:r>
            <a:r>
              <a:rPr b="1" lang="en-US" sz="1800" spc="-1" strike="noStrike">
                <a:solidFill>
                  <a:srgbClr val="ffff00"/>
                </a:solidFill>
                <a:latin typeface=".VnAvan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2B34-3864-497D-8F5C-640E5BEE9ECF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160" y="2133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lnSpc>
                <a:spcPct val="140000"/>
              </a:lnSpc>
              <a:buClr>
                <a:srgbClr val="ffff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.VnTime"/>
              </a:rPr>
              <a:t>  </a:t>
            </a:r>
            <a:r>
              <a:rPr b="1" i="1" lang="en-US" sz="2000" spc="-1" strike="noStrike">
                <a:solidFill>
                  <a:srgbClr val="ffff00"/>
                </a:solidFill>
                <a:latin typeface=".VnTime"/>
              </a:rPr>
              <a:t>Chøc n¨ng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   - Chøc n¨ng </a:t>
            </a:r>
            <a:r>
              <a:rPr b="1" lang="en-US" sz="2000" spc="-1" strike="noStrike">
                <a:solidFill>
                  <a:srgbClr val="ffff00"/>
                </a:solidFill>
                <a:latin typeface=".VnTime"/>
              </a:rPr>
              <a:t>c¬ häc</a:t>
            </a: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+ 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Che chë</a:t>
            </a: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 cho ph«i thai chèng nh÷ng sèc   </a:t>
            </a: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                  ph¸t sinh tõ m«i tr­êng ngoµi.</a:t>
            </a: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+ Cho phÐp thai cö ®éng tù do.</a:t>
            </a: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+ Lµm cho thai kh«ng dÝnh vµo mµng èi.</a:t>
            </a: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   - </a:t>
            </a:r>
            <a:r>
              <a:rPr b="1" lang="en-US" sz="2000" spc="-1" strike="noStrike">
                <a:solidFill>
                  <a:srgbClr val="ffff00"/>
                </a:solidFill>
                <a:latin typeface=".VnTime"/>
              </a:rPr>
              <a:t>Chèng kh«</a:t>
            </a: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 r¸o cho thai.</a:t>
            </a: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   - Gi÷ c©n b»ng l­îng n­íc trong ph«i thai.</a:t>
            </a: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65E-3882-43DC-B8D3-C331A09FC22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6400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.VnAvantH"/>
              </a:rPr>
              <a:t>2. Tói no·n hoµng, niÖu nang, d©y rèn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.VnAvantH"/>
              </a:rPr>
              <a:t>2.1. Tói no·n hoµ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Ph¸t sinh tõ </a:t>
            </a:r>
            <a:r>
              <a:rPr b="1" lang="en-US" sz="1800" spc="-1" strike="noStrike">
                <a:solidFill>
                  <a:srgbClr val="ffff00"/>
                </a:solidFill>
                <a:latin typeface=".VnAvant"/>
              </a:rPr>
              <a:t>néi b×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&amp; ®­îc phñ ngoµi bëi trung b× tói no·n hoµ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Khoang èi ph¸t triÓ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Nã dµi ra &amp; th«ng víi ruét nguyªn thuû = cuèng no·n hoµ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T¹o huyÕt &amp; t¹o m¹ch, sau tho¸i triÓn &amp; biÕn ®i</a:t>
            </a:r>
            <a:r>
              <a:rPr b="0" lang="en-US" sz="1800" spc="-1" strike="noStrike">
                <a:solidFill>
                  <a:srgbClr val="ffffff"/>
                </a:solidFill>
                <a:latin typeface=".VnAvan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.VnAvantH"/>
              </a:rPr>
              <a:t>2.2. NiÖu na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Ph¸t sinh tõ </a:t>
            </a:r>
            <a:r>
              <a:rPr b="1" lang="en-US" sz="1800" spc="-1" strike="noStrike">
                <a:solidFill>
                  <a:srgbClr val="ffff00"/>
                </a:solidFill>
                <a:latin typeface=".VnAvant"/>
              </a:rPr>
              <a:t>néi b×,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ph¸t triÓn vµo cuèng ph«i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Kh«ng ph¸t triÓn, tham gia t¹o bµng quang &amp; d©y ch»ng rèn - bµng quang.</a:t>
            </a:r>
            <a:r>
              <a:rPr b="0" lang="en-US" sz="1800" spc="-1" strike="noStrike">
                <a:solidFill>
                  <a:srgbClr val="ffffff"/>
                </a:solidFill>
                <a:latin typeface=".VnAvan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A37-9295-41E4-ADD3-2F7F4CB3BBC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.VnTime"/>
              </a:rPr>
              <a:t>Sù ph¸t triÓn cña c¸ thÓ loµi ng­êi trong tuÇn thø nhÊt: Tõ thô tinh ®Õn giai ®o¹n ph«i nang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99ff33"/>
                </a:solidFill>
                <a:latin typeface=".VnTime"/>
              </a:rPr>
              <a:t>Sù thô tinh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60000"/>
              </a:lnSpc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Thô tinh lµ 1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qu¸ tr×nh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trong ®ã cã sù phèi hîp gi÷a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no·n chÝn 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víi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tinh trïng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®Ó t¹o ra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hîp tö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(trøng thô tinh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160000"/>
              </a:lnSpc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Sù thô tinh cã tÝnh ®Æc hiÖu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160000"/>
              </a:lnSpc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N¬i thô tinh: th­êng ë 1/3 ngoµi vßi trøn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160000"/>
              </a:lnSpc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ë 1 sè ®éng vËt: nhiÒu tinh trïng chui vµo no·n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®a thô tinh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ë ng­êi &amp; ®éng vËt cã vó: chØ cã 1 tinh trïng chui vµo no·n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®¬n thô tinh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160000"/>
              </a:lnSpc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Tr­êng hîp nhiÒu no·n ®­îc phãng thÝch &amp; ®­îc thô tinh bëi nhiÒu tinh trïng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Béi thô tinh.</a:t>
            </a:r>
            <a:br>
              <a:rPr sz="1800"/>
            </a:br>
            <a:r>
              <a:rPr b="1" i="1" lang="en-US" sz="1800" spc="-1" strike="noStrike">
                <a:solidFill>
                  <a:srgbClr val="ff9900"/>
                </a:solidFill>
                <a:latin typeface=".VnTim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928C-C92A-482E-AFE5-9368FE122BF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.VnAvantH"/>
              </a:rPr>
              <a:t>2.3. D©y rèn</a:t>
            </a: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Cuèng ph«i s¸t nhËp víi cuèng no·n hoµng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d©y rèn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CÊu t¹o: Khi trÎ ra ®êi d©y rèn cã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= 2 cm, l = 50 cm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     + Bäc ngoµi lµ mµng èi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     + Bªn trong lµ mét m« nhÇ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 ChÊt ®«ng Wharton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     + 2 §M rèn &amp; 1 TM rèn.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     + Tói no·n hoµng &amp; niÖu nang tho¸i ho¸ s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6019920" y="2362320"/>
            <a:ext cx="2077920" cy="24001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6629400" y="1371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.VnAvant"/>
              </a:rPr>
              <a:t>BiÓu m«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010280" y="1752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095880" y="5181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.VnAvant"/>
              </a:rPr>
              <a:t>§M rè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6476760" y="3505320"/>
            <a:ext cx="75960" cy="1600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6477120" y="4343040"/>
            <a:ext cx="4572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543800" y="3352680"/>
            <a:ext cx="685800" cy="76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153280" y="3276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.VnAvant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.VnAvant"/>
              </a:rPr>
              <a:t>TM rè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391520" y="47242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.VnAvant"/>
              </a:rPr>
              <a:t>ChÊt ®«ng Whart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43800" y="4038480"/>
            <a:ext cx="380880" cy="609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D3BFB-915B-4071-974F-6D466D2BBF8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ecff"/>
                </a:solidFill>
                <a:latin typeface=".VnAvantH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.VnAvantH"/>
              </a:rPr>
              <a:t>3. rau</a:t>
            </a:r>
            <a:br>
              <a:rPr sz="1800"/>
            </a:br>
            <a:br>
              <a:rPr sz="1800"/>
            </a:br>
            <a:r>
              <a:rPr b="1" lang="en-US" sz="2000" spc="-1" strike="noStrike">
                <a:solidFill>
                  <a:srgbClr val="ff9900"/>
                </a:solidFill>
                <a:latin typeface=".VnAvantH"/>
              </a:rPr>
              <a:t>3.1. Sù h×nh thµnh</a:t>
            </a:r>
            <a:br>
              <a:rPr sz="2000"/>
            </a:br>
            <a:r>
              <a:rPr b="1" lang="en-US" sz="1800" spc="-1" strike="noStrike">
                <a:solidFill>
                  <a:srgbClr val="ccecff"/>
                </a:solidFill>
                <a:latin typeface=".VnAvant"/>
              </a:rPr>
              <a:t>  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Rau ®­îc h×nh thµnh tõ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M« ph«i thai: Mµng ®Öm cã nhung mao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M« cña mÑ: Mµng rông rau.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240360" cy="399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0DB-6C24-4E1D-B585-F355669B29EB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609120" y="2286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.VnTime"/>
              </a:rPr>
              <a:t>3.1.1. </a:t>
            </a:r>
            <a:r>
              <a:rPr b="1" i="1" lang="en-US" sz="2000" spc="-1" strike="noStrike">
                <a:solidFill>
                  <a:srgbClr val="0000ff"/>
                </a:solidFill>
                <a:latin typeface=".VnTime"/>
              </a:rPr>
              <a:t>Sù ph¸t triÓn cña mµng ®Öm vµ sù t¹o ra phÇn rau thuéc ph«i thai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- Trung b× l¸ nu«i ®éi l¸ nu«i lª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nh÷ng nhung mao ®Ö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- Lóc ®Çu c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ã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trªn kh¾p mÆt trøng, sau chØ ph¸t triÓn n¬i tr«ng vÒ mµng rông rau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phÇn rau thuéc c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- L¸ nu«i cã 2 líp: l¸ nu«i tÕ bµo &amp; hîp bµo. §Õn cuèi th¸ng thø 4 </a:t>
            </a:r>
            <a:r>
              <a:rPr b="1" lang="sv-SE" sz="2000" spc="-1" strike="noStrike">
                <a:solidFill>
                  <a:srgbClr val="333399"/>
                </a:solidFill>
                <a:latin typeface=".VnTime"/>
              </a:rPr>
              <a:t>l¸ nu«i tÕ bµo biÕn mÊ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- L¸ nu«i hîp bµo ph¸t triÓn s©u vµo niªm m¹c tö cu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nh÷ng hèc xung quanh nhung mao = kho¶ng gian nhung mao (chøa m¸u mÑ).</a:t>
            </a: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5029200" y="304920"/>
            <a:ext cx="4114800" cy="6062400"/>
            <a:chOff x="5029200" y="304920"/>
            <a:chExt cx="4114800" cy="6062400"/>
          </a:xfrm>
        </p:grpSpPr>
        <p:pic>
          <p:nvPicPr>
            <p:cNvPr id="639" name="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5410080" y="1066680"/>
              <a:ext cx="324036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 flipV="1">
              <a:off x="5943600" y="99072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815160" y="106632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7696080" y="106668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57800" y="304920"/>
              <a:ext cx="3886200" cy="10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L¸ nu«i     L¸ nu«i      Trôc 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TimeH"/>
                </a:rPr>
                <a:t>R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tÕ bµo     hîp bµo    liªn kÕt  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TimeH"/>
                </a:rPr>
                <a:t>tha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67280" y="3124080"/>
              <a:ext cx="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934320" y="4038480"/>
              <a:ext cx="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48720" y="45720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29200" y="5105520"/>
              <a:ext cx="388620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Kho¶ng gian       Líp          Líp           R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nhung mao          ®Æc         xèp 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TimeH"/>
                </a:rPr>
                <a:t>m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05920" y="525780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229600" y="457200"/>
              <a:ext cx="76320" cy="4572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14656-DE4E-4CBB-825E-3F0A6066C94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4956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.VnTime"/>
              </a:rPr>
              <a:t>3.1.2. </a:t>
            </a:r>
            <a:r>
              <a:rPr b="1" i="1" lang="en-US" sz="2000" spc="-1" strike="noStrike">
                <a:solidFill>
                  <a:srgbClr val="0000ff"/>
                </a:solidFill>
                <a:latin typeface=".VnTime"/>
              </a:rPr>
              <a:t>Sù ph¸t triÓn cña néi m¹c tö cung vµ sù t¹o ra phÇn rau thuéc mÑ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.VnTim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Khi cã thai, NMTTC =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mµng rông,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chia 3 phÇ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Mµng rông rau: Xen gi÷a trøng &amp; c¬ 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Mµng rông trøng: Xen gi÷a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øng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&amp; khoang 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Mµng rông tö cung: PhÇn cßn l¹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791320" y="1447920"/>
            <a:ext cx="761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4952880" y="1371600"/>
            <a:ext cx="4038480" cy="3810600"/>
            <a:chOff x="4952880" y="1371600"/>
            <a:chExt cx="4038480" cy="3810600"/>
          </a:xfrm>
        </p:grpSpPr>
        <p:pic>
          <p:nvPicPr>
            <p:cNvPr id="653" name="" descr=""/>
            <p:cNvPicPr/>
            <p:nvPr/>
          </p:nvPicPr>
          <p:blipFill>
            <a:blip r:embed="rId1"/>
            <a:srcRect l="15393" t="2560" r="17952" b="0"/>
            <a:stretch/>
          </p:blipFill>
          <p:spPr>
            <a:xfrm>
              <a:off x="5943240" y="1447920"/>
              <a:ext cx="2311560" cy="37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4952880" y="1641600"/>
              <a:ext cx="76176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Mµng rông tö c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229240" y="1371600"/>
              <a:ext cx="762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Mµng rông r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397120" y="4114800"/>
              <a:ext cx="762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Mµng rông trø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6095880" y="3251160"/>
              <a:ext cx="73656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867280" y="213372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7619760" y="2057400"/>
              <a:ext cx="6094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3D2A5-183C-4C5A-AE43-172CDD2F90A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533160" y="1066680"/>
            <a:ext cx="7467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BiÕn ®æi cña mµng rông tö cung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X¶y ra ph¶n øng mµng rông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c¸c TBLK tÝch tr÷ chÊt dinh d­ìng, tr­¬ng to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 tbµo rông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.VnTime"/>
              </a:rPr>
              <a:t>Líp ®Æc</a:t>
            </a:r>
            <a:r>
              <a:rPr b="1" lang="en-US" sz="2000" spc="-1" strike="noStrike">
                <a:solidFill>
                  <a:srgbClr val="ffff00"/>
                </a:solidFill>
                <a:latin typeface=".VnTim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ë líp s©u, nh÷ng tuyÕn bÞ Ðp dÑt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.VnTime"/>
              </a:rPr>
              <a:t>Líp xèp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Mµng rông rau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Ngoµi nh÷ng biÕn ®æi nh­ trªn, nã cßn t¹o ra nh÷ng mói rau, trong ®ã, 1 sè nhung mao ®Öm dÝnh vµo v¸ch ng¨n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 nhung mao b¸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19A-1E1E-456F-8BC7-EB93715C213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1066320" y="914400"/>
            <a:ext cx="723924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5000"/>
              </a:lnSpc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Mµng rông trøng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.VnAvant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.VnAvant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.VnAvant"/>
              </a:rPr>
              <a:t>Máng h¬n 2 mµng trªn. Th¸ng 4, nã ®Õn d¸n vµo mµng rông tö cung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sv-SE" sz="1800" spc="-1" strike="noStrike">
                <a:solidFill>
                  <a:srgbClr val="ffffff"/>
                </a:solidFill>
                <a:latin typeface=".VnAvant"/>
              </a:rPr>
              <a:t> mÊt khoang tö cung. BiÓu m« 2 mµng biÕn ®i &amp; kh«ng ph©n biÖt ®­îc 2 mµng n÷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.VnAvant"/>
              </a:rPr>
              <a:t>Nöa sau thêi kú cã thai, 4 c¸i mµng (mµng èi, mµng ®Öm, mµng rông trøng &amp; mµng rông tö cung) nhËp vµo nhau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sv-SE" sz="1800" spc="-1" strike="noStrike">
                <a:solidFill>
                  <a:srgbClr val="ffffff"/>
                </a:solidFill>
                <a:latin typeface=".VnAvant"/>
              </a:rPr>
              <a:t> </a:t>
            </a:r>
            <a:r>
              <a:rPr b="1" lang="sv-SE" sz="1800" spc="-1" strike="noStrike">
                <a:solidFill>
                  <a:srgbClr val="ffff00"/>
                </a:solidFill>
                <a:latin typeface=".VnAvant"/>
              </a:rPr>
              <a:t>mµng bäc thai</a:t>
            </a:r>
            <a:r>
              <a:rPr b="1" lang="sv-SE" sz="1800" spc="-1" strike="noStrike">
                <a:solidFill>
                  <a:srgbClr val="ffffff"/>
                </a:solidFill>
                <a:latin typeface=".VnAvant"/>
              </a:rPr>
              <a:t>, trong tö cung cßn 1 khoang: </a:t>
            </a:r>
            <a:r>
              <a:rPr b="1" i="1" lang="sv-SE" sz="1800" spc="-1" strike="noStrike">
                <a:solidFill>
                  <a:srgbClr val="ffff00"/>
                </a:solidFill>
                <a:latin typeface=".VnAvant"/>
              </a:rPr>
              <a:t>Khoang ố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C9F1-F415-4C4C-84C6-1297C698788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44193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.VnAvantH"/>
              </a:rPr>
              <a:t>3.2. CÊu t¹o rau ®· ph¸t triÓn ®óng kú h¹n</a:t>
            </a:r>
            <a:r>
              <a:rPr b="1" lang="en-US" sz="1800" spc="-1" strike="noStrike">
                <a:solidFill>
                  <a:srgbClr val="000000"/>
                </a:solidFill>
                <a:latin typeface=".VnAvant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Sau 4 th¸ng, rau ®· hoµn thµnh cÊu t¹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H×nh ®Üa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20 cm, nÆng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500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Mçi nhung mao ®Öm gå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+ 1 trôc liªn kÕt chøa nh÷ng nh¸nh ®éng m¹ch ®Öm, tÜnh m¹ch ®Öm &amp; l­íi mao m¹ch ®Ö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.VnAvant"/>
              </a:rPr>
              <a:t>	</a:t>
            </a:r>
            <a:r>
              <a:rPr b="1" lang="sv-SE" sz="1800" spc="-1" strike="noStrike">
                <a:solidFill>
                  <a:srgbClr val="000000"/>
                </a:solidFill>
                <a:latin typeface=".VnAvant"/>
              </a:rPr>
              <a:t>+ Phñ ngoµi = l¸ nu«i hîp bµo, trªn mÆt cã nhiÒu vi nhung m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Nhung mao ®Öm chia nh¸nh nhiÒu lÇn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.VnAvan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t¨ng diÖn tÝch trao ®æi chÊ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4800600" y="304920"/>
            <a:ext cx="4114800" cy="5478480"/>
            <a:chOff x="4800600" y="304920"/>
            <a:chExt cx="4114800" cy="5478480"/>
          </a:xfrm>
        </p:grpSpPr>
        <p:pic>
          <p:nvPicPr>
            <p:cNvPr id="664" name="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5181480" y="1066680"/>
              <a:ext cx="324036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 flipV="1">
              <a:off x="5715000" y="99072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6586560" y="106632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467480" y="106668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304920"/>
              <a:ext cx="388620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L¸ nu«i     L¸ nu«i      Trôc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AvantH"/>
                </a:rPr>
                <a:t>R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tÕ bµo     hîp bµo    liªn kÕt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AvantH"/>
                </a:rPr>
                <a:t>tha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38680" y="3124080"/>
              <a:ext cx="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705720" y="4038480"/>
              <a:ext cx="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45720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800600" y="5105520"/>
              <a:ext cx="3886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Kho¶ng gian       Líp          Líp      R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nhung mao          ®Æc         xèp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AvantH"/>
                </a:rPr>
                <a:t>M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077320" y="525780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001000" y="457200"/>
              <a:ext cx="76320" cy="4572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13FA6-9F97-4C36-A6A1-053DDED97CC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.VnAvantH"/>
              </a:rPr>
              <a:t>3.3. Chøc n¨ng cña ra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.VnAvant"/>
              </a:rPr>
              <a:t>Trao ®æi chÊt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: ®­îc thùc hiÖn b»ng nhiÒu c¬ chÕ kh¸c nhau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+ Tõ mÑ sang thai: chÊt dinh d­ìng, n­íc, oxy, kh¸ng thÓ, hormon..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+ Tõ con sang mÑ: c¸c chÊt dÞ ho¸, n­íc, carbonic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.VnAvant"/>
              </a:rPr>
              <a:t>Bµi tiÕt hormon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: c¸c hormon h­íng sinh dôc, estrogen &amp; progesteron... do l¸ nu«i hîp bµo tiÕt r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.VnAvant"/>
              </a:rPr>
              <a:t>MiÔn dÞch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: Thai miÔn dÞch </a:t>
            </a:r>
            <a:r>
              <a:rPr b="1" lang="en-US" sz="1800" spc="-1" strike="noStrike">
                <a:solidFill>
                  <a:srgbClr val="ffff00"/>
                </a:solidFill>
                <a:latin typeface=".VnAvant"/>
              </a:rPr>
              <a:t>thô ®éng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do kh¸ng thÓ tõ m¸u mÑ qua </a:t>
            </a:r>
            <a:r>
              <a:rPr b="1" lang="en-US" sz="1800" spc="-1" strike="noStrike">
                <a:solidFill>
                  <a:srgbClr val="ffff00"/>
                </a:solidFill>
                <a:latin typeface=".VnAvant"/>
              </a:rPr>
              <a:t>hµng rµo rau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sang tha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A388-8A79-4F63-A282-D5AC023971E4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533160" y="7617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.VnAvantH"/>
              </a:rPr>
              <a:t>3.4. Chç b¸m cña ra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Rau th­êng b¸m ë 1/3 trªn tö cung (thµnh tr­íc hoÆc sau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NÕu b¸m gÇn lç trong cæ tö cung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rau tiÒn ®¹o</a:t>
            </a:r>
            <a:r>
              <a:rPr b="1" lang="en-US" sz="2000" spc="-1" strike="noStrike">
                <a:solidFill>
                  <a:srgbClr val="ff9900"/>
                </a:solidFill>
                <a:latin typeface=".VnTime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3 lo¹i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+ Rau tiÒn ®¹o </a:t>
            </a:r>
            <a:r>
              <a:rPr b="1" i="1" lang="en-US" sz="2000" spc="-1" strike="noStrike">
                <a:solidFill>
                  <a:srgbClr val="ffffff"/>
                </a:solidFill>
                <a:latin typeface=".VnTime"/>
              </a:rPr>
              <a:t>trung t©m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: bÞt hoµn toµn lç trong èng cæ tö cun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+ Rau tiÒn ®¹o </a:t>
            </a:r>
            <a:r>
              <a:rPr b="1" i="1" lang="en-US" sz="2000" spc="-1" strike="noStrike">
                <a:solidFill>
                  <a:srgbClr val="ffffff"/>
                </a:solidFill>
                <a:latin typeface=".VnTime"/>
              </a:rPr>
              <a:t>bªn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: bÞt 1 phÇn lç trong èng cæ tö cun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+ Rau tiÒn ®¹o </a:t>
            </a:r>
            <a:r>
              <a:rPr b="1" i="1" lang="en-US" sz="2000" spc="-1" strike="noStrike">
                <a:solidFill>
                  <a:srgbClr val="ffffff"/>
                </a:solidFill>
                <a:latin typeface=".VnTime"/>
              </a:rPr>
              <a:t>bê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: b¸m ë bê cu¶ lç trong èng cæ tö cung.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587-B7D7-46CD-85FF-9A8556CB181C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1828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.VnAvantH"/>
              </a:rPr>
              <a:t>4. ®a Thai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.VnAvantH"/>
              </a:rPr>
              <a:t>4.1. Thai cïng trø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1 hay nhiÒu thai ®­îc sinh ra tõ 1 trøng thô tinh bëi tinh trïng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NÕu ph©n ®«i ë giai ®o¹n 2 ph«i bµo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mçi ph«i bµo ph¸t triÓn ®éc lËp thµnh 1 thai. Mçi thai cã mµng èi riªng, mµng ®Öm riªng &amp; rau riª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NÕu ph©n ®«i ë giai ®o¹n ph«i nang, cóc ph«i t¸ch lµm 2 khèi riªng biÖt. Mçi thai cã mµng èi riªng, nh­ng chung nhau 1 mµng ®Öm, 1 khoang ngoµi ph«i, 1 rau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E71-CD16-4A20-8424-C0A8FE41365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.VnAvantH"/>
              </a:rPr>
              <a:t>1. No·n vµ tinh trïng tr­íc khi thô tinh</a:t>
            </a:r>
            <a:br>
              <a:rPr sz="2000"/>
            </a:br>
            <a:br>
              <a:rPr sz="1200"/>
            </a:br>
            <a:r>
              <a:rPr b="1" lang="en-US" sz="2000" spc="-1" strike="noStrike">
                <a:solidFill>
                  <a:srgbClr val="99ff33"/>
                </a:solidFill>
                <a:latin typeface=".VnAvantH"/>
              </a:rPr>
              <a:t>1.1. No·n tr­íc khi thô tinh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Khi tho¸t nang, no·n ®­îc bäc bëi mµng trong suèt &amp; líp tb na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No·n ë kú gi÷a lÇn ph©n chia thø 2 &amp; tiÕp tôc ph©n chia. Cùc cÇu 1 còng ®ang ph©n chi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No·n ®­îc loa vßi trøng høng lÊy, di chuyÓn vÒ phÝa tö cung nhê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+ Sù cuèn theo dßng n­íc mµng bông.</a:t>
            </a:r>
            <a:r>
              <a:rPr b="0" lang="en-US" sz="1800" spc="-1" strike="noStrike">
                <a:solidFill>
                  <a:srgbClr val="ffffff"/>
                </a:solidFill>
                <a:latin typeface=".VnAvan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+ Sù chuyÓn ®éng cña c¸c l«ng ë tÕ bµo biÓu m« vßi trø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+ Sù co bãp cña tÇng c¬ vßi trø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Avant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14A9-ECCF-4BDF-B2AD-879EB5EC7683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990360" y="990360"/>
            <a:ext cx="55623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Sinh ®«i cïng trøng: 2 c¸ thÓ gièng nhau vÒ giíi tÝnh, h×nh th¸i, sinh lý, t©m lý, ®Æc tÝnh di truyÒ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2971800" cy="228456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4800600" y="3124080"/>
            <a:ext cx="3124080" cy="23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9AFA-E400-49A6-B61C-D7D9215576D2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.VnAvantH"/>
              </a:rPr>
              <a:t>4.2. Thai kh¸c trøng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.VnAvan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.VnAvant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Hai (hay nhiÒu) trøng thô tinh bëi 2 (hay nhiÒu) tinh trï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Mçi ph«i cã mµng èi riªng, mµng ®Öm riªng, rau riªng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Th­êng kh¸c giíi tÝnh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.VnAvantH"/>
              </a:rPr>
              <a:t>4.3. Sinh 3, 4, 5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.VnAvant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Sinh 3: 1/76.000, sinh 4:1/670.00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D825-CE8E-4674-9686-84D7662A6699}" type="slidenum">
              <a:t>61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472428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Khi míi phãng thÝch vµo ©m ®¹o, tinh trï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.VnAvant"/>
              </a:rPr>
              <a:t>ch­a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cã kh¶ n¨ng thô tinh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VÒ sau, tinh trïng cã nh÷ng biÕn ®æi cÊu t¹o vµ chøc n¨ng ë ®Çu gióp cho tinh trïng cã kh¶ n¨ng thô tinh (qu¸ tr×nh </a:t>
            </a:r>
            <a:r>
              <a:rPr b="1" lang="en-US" sz="1800" spc="-1" strike="noStrike">
                <a:solidFill>
                  <a:srgbClr val="ccff66"/>
                </a:solidFill>
                <a:latin typeface=".VnAvant"/>
              </a:rPr>
              <a:t>n¨ng lùc ho¸ tinh trïng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Tinh trïng di chuyÓn trong ®­êng sinh dôc n÷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     + Tù di chuyÓn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     + Sù co bãp cña tÇng c¬ ®­êng sin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        dôc n÷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3267000" cy="2573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60948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.VnAvantH"/>
              </a:rPr>
              <a:t>1.2. Tinh trïng tr­íc khi thô tinh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5697-1925-4D42-A854-58EA0379FA0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09120" y="17524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.VnAvantH"/>
              </a:rPr>
              <a:t>2.1. Tinh trïng v­ît qua líp tÕ bµo n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Tinh trïng tiÕt  hyaluronidase ®Ó ph¸ huû acid hyaluronic (g¾n c¸c tÕ bµo nang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ph©n t¸n c¸c tb nang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Tinh trïng tiÕn vµo mµng trong suè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Trong tinh dÞch chøa P cã tÝnh chÊt nh­ hyaluronid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.VnAvantH"/>
              </a:rPr>
              <a:t>2. Qu¸ tr×nh thô tin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181480" y="1828800"/>
            <a:ext cx="3657240" cy="3581280"/>
            <a:chOff x="5181480" y="1828800"/>
            <a:chExt cx="3657240" cy="358128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5414760" y="1828800"/>
              <a:ext cx="334620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181480" y="254484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AvantH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04120" y="4981680"/>
              <a:ext cx="7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AvantH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94400" y="3691080"/>
              <a:ext cx="54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AvantH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204680" y="2113920"/>
              <a:ext cx="54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AvantH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414760" y="3834000"/>
              <a:ext cx="1011600" cy="50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70840" y="1972080"/>
              <a:ext cx="466920" cy="71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749360" y="2687760"/>
              <a:ext cx="933840" cy="46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93840" y="4192200"/>
              <a:ext cx="311040" cy="71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4A35C-402B-4828-90AD-74A4ADB99A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6477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.VnAvantH"/>
              </a:rPr>
              <a:t>2.2. Tinh trïng v­ît qua mµng trong suèt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.VnAvantH"/>
              </a:rPr>
              <a:t>2.2.1. Sù kÕt dÝnh tinh trïng víi no·n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.VnArial"/>
              </a:rPr>
              <a:t>Gi¶ thuyÕt vÒ ph¶n øng gi÷a Fertilysin &amp; kh¸ng Fertilisi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Arial"/>
              </a:rPr>
              <a:t>- Trªn mÆt trøng cã Fertilisin (®Æc hiÖu cho loµi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Arial"/>
              </a:rPr>
              <a:t>Mµng tinh trïng cã chÊt kh¸ng Fertilisi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Arial"/>
              </a:rPr>
              <a:t>Liªn kÕt gi÷a Fertilisin &amp; kh¸ng Fertilisin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Arial"/>
              </a:rPr>
              <a:t> tinh trïng ng­ng kÕt trªn mÆt no·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Arial"/>
              </a:rPr>
              <a:t>- Ph¶n øng gi÷a Fertilysin &amp; kh¸ng Fertilysin = ph¶n øng gi÷a kh¸ng nguyªn &amp; kh¸ng thÓ, cã tÝnh ®Æc hiÖu cho loµi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Arial"/>
              </a:rPr>
              <a:t> No·n ®­îc thô tinh bëi tinh trïng cïng loµi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C950-DF25-499E-B091-9864D210EBA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7:33:45Z</dcterms:created>
  <dc:creator>May1</dc:creator>
  <dc:description/>
  <dc:language>en-US</dc:language>
  <cp:lastModifiedBy>User</cp:lastModifiedBy>
  <dcterms:modified xsi:type="dcterms:W3CDTF">2010-11-26T00:28:05Z</dcterms:modified>
  <cp:revision>125</cp:revision>
  <dc:subject/>
  <dc:title>Ph«i thai häc  ®¹i c­¬ng</dc:title>
</cp:coreProperties>
</file>