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F395-DC6E-473E-B596-0FF06FE1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2C7A-F377-4566-8D92-07FF963F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BA7A-4412-49D0-9B8C-904B9F4C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D5ED-5B5E-453C-876E-53994184E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0042-6DC4-4335-BB30-166BF082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46B9-5DF6-4F0D-AC5B-5A180435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A62C-F714-40B2-8CD0-60B8CDFD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6634-9B7E-4EC6-8EF6-11178A02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6D71-EC58-4302-BEE9-45E926CC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BAF9-8A37-4335-97A0-819DBFDC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1947-8D06-49B8-82D0-A8B6322D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5FEF-5BF5-42A2-8A0A-3B046609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4C19-35EB-4897-9CED-DE9C5A57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0FF6-0C26-4C69-A6B9-74415653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96F3-BD0F-46DD-8B34-2A99C77B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DD4D-61A8-4F3C-81D6-924647F2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DAB7-1D10-4928-B1AB-051D08672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E8DC-5F06-4EAA-B79B-73436518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48BF-D1F4-4F98-96B2-4C4079AD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D60D-6445-4E6C-83FB-C4D506BD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7085-008C-469E-97DD-7BE8B97D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7F8B-4E6D-4334-92A1-7E643AB0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13D6-96B5-4240-BF6D-ADB425D1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600E-27D3-402D-9768-F9F58416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7902-D2B9-4C3E-A9B2-A03A820CD06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E20E-6855-4E22-A4B6-9E9E4AB7847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5280" y="1371240"/>
            <a:ext cx="73152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Bab 1: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Reka Bentuk dan Penghasilan Projek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867280"/>
            <a:ext cx="914400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WWW.ANDREWCHOO.EDU.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 rot="21540000">
            <a:off x="685440" y="1676160"/>
            <a:ext cx="7772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35053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.2.2 Pengika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60020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jenis bahan pengikat yang digunakan untuk mencantumkan dua atau Iebih kepingan logam pada rangka projek secara kekal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perbuat daripada bahan logam yang lembut seperti aluminium atau loyang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aiz ribet ditentukan oleh panjang dan garis pusat batangny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ibet digunakan bersama riveter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352680" y="914400"/>
            <a:ext cx="2667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Ribet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11400" y="1752480"/>
            <a:ext cx="2751120" cy="4114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800600" y="1752480"/>
            <a:ext cx="30639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048120" y="533520"/>
            <a:ext cx="37335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Glu Panas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9280" y="1699920"/>
            <a:ext cx="822348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alah bahan pengikat yang digunakan untuk mencantumkan kayu, papan lapis atau perspek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alam bentuk batang dan mempunyai beberapa saiz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gunakan bersama hot glue gu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t glue gun menggunakan bekalan arus elektrik untuk mencairkan batang glu pana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7720" y="3930480"/>
            <a:ext cx="769644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unakan bahagian belakang mata pisau pemotong untuk menggarit kertas pelapik perspek. Tekan perlahan-laha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utuskan bahagian perspek yang dipotong dengan menekan perspek pada tepi meja atau dengan beralaskan kay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62120" y="1139760"/>
            <a:ext cx="3181320" cy="2413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267080" y="689040"/>
            <a:ext cx="391500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7113600" cy="1733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676520" y="2567160"/>
            <a:ext cx="632448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tuk merivet kepingan logam atau mencantumkan kepingan logam pada rangka atau pemidang projek yang dibuat daripada keluli lembu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gunakan bersama rive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uncungnya dapat ditukar untuk disesuaikan dengan saiz rivet yang digunaka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895480" y="762120"/>
            <a:ext cx="3581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4. Riveter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295280" y="2584080"/>
            <a:ext cx="7313760" cy="37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3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angkah langkah menggunakan riveter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83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(a) Tandakan pusat lubang pada logam yang hendak digerudi dengan menggunakan penebuk pusat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83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(b) Gunakan mata gerudi yang bersaiz sama dengan garis pusat batang rivet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83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(c) Tekan hujung riveter untuk merapatkan cantum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83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(d) Tekan terus hulu riveter sehingga dawai rivet terputu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528624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133720" y="682560"/>
            <a:ext cx="441936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5. Hot Glu Gun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1219320"/>
            <a:ext cx="7772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16765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tuk mencairkan batang glu panas semasa kerja mengglu proj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676520" y="2971800"/>
            <a:ext cx="597204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61760" y="152352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(a) Panaskan glu panas dengan menggunakan hot glue gun selama kira-kira lima minit sehingga cai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77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(b) Pastikan bahan projek yang hendak dicantumkan telah disediakan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77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(c) Tekan tuas penekan pada hot glue gun untuk mengeluarkan glu panas yang telah cair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77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(d) Gunakan muncung hot glue gun untuk proses mengglu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77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(e) Rapatkan bahagian cantuman sehingga glu panas menjadi sejuk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938160"/>
            <a:ext cx="7467480" cy="435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Langkah menggunakan hot glue g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520" y="476280"/>
            <a:ext cx="6892920" cy="728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1.1 Faktor Reka Bentu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52120" y="1599840"/>
            <a:ext cx="4419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) Fungs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) Rupa Bentu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) Kesesuaian Baha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) Kaedah Pembinaa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) Ketahana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) K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) Kemasa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8) Keselamata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9) Nilai Komersi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302840" y="1547280"/>
            <a:ext cx="7993080" cy="11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gunakan untuk melekat kepingan papan lapis, MDF dan mounting boar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362320" y="838080"/>
            <a:ext cx="43434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6. Stapler Gun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6782040" cy="37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3041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1.3.2 Mesi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69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alah mesin mudah alih yang digunakan untuk memotong lurus dan lengkuk pada papan lapis serta MDF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ta pemotong gergaji jig perlu digantikan ikut ketebalan papa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ta gergaji kasar sesuai untuk memotong papan yang lebih tebal dan mata gergaji halus digunakan untuk memotong papan yang lebih nipi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362320" y="838080"/>
            <a:ext cx="4800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Mesin Gergaji Jig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00200" y="60958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pinions.com/hmgd-Shop_Tools-All-Jig_S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23880" y="457200"/>
            <a:ext cx="716292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685800" y="1066680"/>
          <a:ext cx="8153280" cy="5510160"/>
        </p:xfrm>
        <a:graphic>
          <a:graphicData uri="http://schemas.openxmlformats.org/drawingml/2006/table">
            <a:tbl>
              <a:tblPr/>
              <a:tblGrid>
                <a:gridCol w="2423880"/>
                <a:gridCol w="5729400"/>
              </a:tblGrid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ahagia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egunaa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u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nghidupkan motor semasa kerja menggergaji dijalank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emegang (hul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netapkan pegangan semasa proses menggergaj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emand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bagai panduan mengikut garisan pemotongan semasa menggergaj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apa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netapkan gergaji pada benda kerja yang dipot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ab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nyambungkan bekalan elektri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elindung mata pemot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lindung mata pemot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gunakan untuk memasang skru benam sendir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uga untuk menggerudi lubang dengan memasangkan mata gerudi pada rahangny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sin ini dipasang dengan mata pemutar skru mengikut kepala skru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676520" y="878040"/>
            <a:ext cx="6095880" cy="5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Cordless Screwdriver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69608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04920" y="1676520"/>
          <a:ext cx="8458200" cy="4719600"/>
        </p:xfrm>
        <a:graphic>
          <a:graphicData uri="http://schemas.openxmlformats.org/drawingml/2006/table">
            <a:tbl>
              <a:tblPr/>
              <a:tblGrid>
                <a:gridCol w="2793960"/>
                <a:gridCol w="566424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ahagian utam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ungs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1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ulu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megang mesin semasa kerja menskru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ui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nghidupkan motor dan melaras kelajuan pusingan bindu (kelajuan rendah atau kelajuan tinggi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elaras arah pusingan bindu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laraskan pusingan bindu mesin sama ada untuk membuka atau mengetatkan skru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indu dan rahang bindu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megang mata pemutar skru atau mata gerud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ater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mbekalkan arus elektrik kepada mesi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engecas bater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ngecas bateri mesi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engunci bindu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ngetatkan cengkaman pada rahang bindu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143000" y="762120"/>
            <a:ext cx="7848720" cy="64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Mesin pelelas mudah alih (Sander)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72882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14040" y="1752120"/>
            <a:ext cx="79945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 jenis – belt sander, disc sande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ntuk kerja kemasa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erfungsi untuk meratakan dan melicinkan permukaan kayu serta membuang bahagian karat pada keluli sebelum proses kemasan dijalank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ertas las yang sesuai grednya dipasangkan pada penyepit sand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ertas las jenis halus digunakan untuk melicinkan permukaan projek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ertas las khas digunakan untuk membuang karat pada keluli lembu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ertas las gred kasar digunakan untuk melela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43000" y="762120"/>
            <a:ext cx="7848720" cy="64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Mesin pelelas mudah alih (Sander)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304920" y="696960"/>
          <a:ext cx="8686800" cy="5246640"/>
        </p:xfrm>
        <a:graphic>
          <a:graphicData uri="http://schemas.openxmlformats.org/drawingml/2006/table">
            <a:tbl>
              <a:tblPr/>
              <a:tblGrid>
                <a:gridCol w="3028680"/>
                <a:gridCol w="5658120"/>
              </a:tblGrid>
              <a:tr h="84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ahagian Utam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ungs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ulu/Pemega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megang mesin semasa kerja meratakan atau melicinkan proj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u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nghidupkan motor me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engunci Su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nghidupkan suis semasa kerja meratakan atau melicinkan proj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ab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nyalurkan bekalan elektrik kepada me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apa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ahagian yang akan dipasangkan kertas l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enyep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nyepit kertas las pada tapa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3651120" cy="663840"/>
          </a:xfrm>
          <a:prstGeom prst="rect">
            <a:avLst/>
          </a:prstGeom>
          <a:solidFill>
            <a:srgbClr val="ff99cc"/>
          </a:solidFill>
          <a:ln w="9360">
            <a:solidFill>
              <a:srgbClr val="ffcc9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1) Fungs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74674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duk yang dihasilkan mestilah memenuhi fungsi yang dihasratka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apat menyelesaikan masalah dan memenuhi keperluan dan kehendak penggun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1.4 Proses Reka Bentu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60020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4.1 Lukisan Proj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mbuat lakaran proj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nilai dan memilih lakaran yang paling sesua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788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4.2 Pembinaan Proj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ses menguku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ses menand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ses memoto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ses membentuk dan mencantu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1093680"/>
            <a:ext cx="731340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embuat lakaran reka bentuk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entuk lakaran dua dimensi (2D), tiga dimensi (3D), perspekti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karan 2D –unjuran ortografi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karan 3D – lakaran oblik atau isometrik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Kertas lukisan dan kertas grid, pensel HB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17680" y="522360"/>
            <a:ext cx="719280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enilai dan Memilih lakaran yang paling sesuai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599840"/>
            <a:ext cx="7313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bincangan kumpulan tentang bahan, kos, alatan dl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lu ada dimensi yang lengka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925560" y="3200400"/>
            <a:ext cx="806616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301320"/>
            <a:ext cx="55720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1.4.2 Pembinaan Projek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erpandukan kertas proj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atan tangan=pembaris keluli, pita pengukur, sesiku 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057400" y="914400"/>
            <a:ext cx="563868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Proses Mengukur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25520" y="3124080"/>
            <a:ext cx="2469960" cy="2610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048120" y="3701880"/>
            <a:ext cx="2438280" cy="2013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867280" y="3432240"/>
            <a:ext cx="236232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25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ahagian yang hendak dipotong, digerudi, membuat tangga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atan tangan=pensel, sesiku L, pisau penanda, tolok penanda, penggarit dan penebuk pusa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438280" y="609480"/>
            <a:ext cx="464832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Proses menanda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369800" y="1600200"/>
            <a:ext cx="7313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atan tangan=pisau pemotong perspek, gergaji tangan, gergaji puting, gergaji besi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438280" y="749160"/>
            <a:ext cx="487692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Proses memotong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2280" y="3429000"/>
            <a:ext cx="2895840" cy="2217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124080" y="3443400"/>
            <a:ext cx="2667240" cy="2166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6019920" y="3352680"/>
            <a:ext cx="270504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888480"/>
            <a:ext cx="7313400" cy="5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roses membuat dan mencantu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erja-kerja membuat tanggam, mengglu,memaku,memasang skru, merivet dan mereka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Membuat tangg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mbuat cantuman untuk menghasilk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truktur produk. Tanggam temu, tangg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arit terus, tanggam lekap, tanggam berpenetap, tanggam rencong. </a:t>
            </a:r>
            <a:r>
              <a:rPr b="0" lang="en-US" sz="2100" spc="-1" strike="noStrike">
                <a:solidFill>
                  <a:srgbClr val="ff0000"/>
                </a:solidFill>
                <a:latin typeface="Verdana"/>
              </a:rPr>
              <a:t>Tolong lukiskan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Verdana"/>
              </a:rPr>
              <a:t>Senaraikan jenis-jenis cantuman kepingan logam nipis. (m/s 15,16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295280" y="990720"/>
            <a:ext cx="7313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(B)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Menggl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ncantumkan bhg projek spt kayu, MDF, perspek dan mounting bo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lu panas, glu sentu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(C)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Memak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ku kepala rata dan paku pa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aku serong memberikan cengkaman yang lebih kua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486400" y="4224240"/>
            <a:ext cx="301464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369800" y="22860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(D)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Memasang skr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kru benam sendiri untuk mencantumkan logam seperti keluli lembut dan aluminiu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dless screwdriv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(E)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Merive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ncantumkan bahan berasaskan kepingan logam dan keluli lembu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vet digunakan bersama rivet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262320" y="4038480"/>
            <a:ext cx="3062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(F)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Merek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ncantumkan bahan projek berasaskan papan lapis. MDF dan mounting board pada rangka atau pemidang proje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nggunakan stapler gu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048120" y="4191120"/>
            <a:ext cx="320040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4594320" cy="7286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2 ) Rupa Bentu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543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apat menarik perhatian pengguna dr segi bentuk, warna, dan  rekaa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apat menjamin keselesaan dan kesesuaian penggunaanny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3657600"/>
            <a:ext cx="5950080" cy="7286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3) Kesesuaian Bah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4495680"/>
            <a:ext cx="7315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Pemilihan bahan mestilah sesuai, mudah diperoleh, praktikal, tepat dan tidak melebihi kos yang diperuntukka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9320" y="901440"/>
            <a:ext cx="4665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han Pemasanga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5105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perti engsel, breket dan penyangk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ngs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asang bahagian pintu atau penutup proje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una rivet dan skru benam sendi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695920" y="1752480"/>
            <a:ext cx="31338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219320" y="984240"/>
            <a:ext cx="368928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(2)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Breke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asang tetingkat atau para pada bahagian projek untuk menguatkan sambungan pada pepenjuru proje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7148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142640" y="1015920"/>
            <a:ext cx="6497640" cy="39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(3)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Penyangku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nggantung projek pada din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>
            <a:grayscl/>
            <a:lum contrast="12000"/>
          </a:blip>
          <a:stretch/>
        </p:blipFill>
        <p:spPr>
          <a:xfrm>
            <a:off x="3962520" y="2133720"/>
            <a:ext cx="380988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0160" y="888480"/>
            <a:ext cx="3759120" cy="5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.4.3 Kemasa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32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ses terakhir dalam penghasilan sesuatu proj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j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ti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lamat digunak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ebih tahan lam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udah dibersihk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0160" y="901440"/>
            <a:ext cx="54324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han dan alat kemasa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Kertas L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mbersihkan, melicinkan dan menghilangkan tanda atau kesan calar pada permukaan kay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Kertas las jenis kaca dan kertas las garnet == kay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Kertas las wet dan dry (silicon carbide paper) == logam dan plasti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Kain las emery == permukaan loga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533520" y="1027080"/>
          <a:ext cx="8458200" cy="3832200"/>
        </p:xfrm>
        <a:graphic>
          <a:graphicData uri="http://schemas.openxmlformats.org/drawingml/2006/table">
            <a:tbl>
              <a:tblPr/>
              <a:tblGrid>
                <a:gridCol w="1498320"/>
                <a:gridCol w="3200400"/>
                <a:gridCol w="3759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Gred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Jeni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Kegunaa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109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0, 0,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Paling hal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Hal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nghasilkan permukaan kayu yang hal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 ½,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sederhana kas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igunakan sebelum kertas las gred hal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 ½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kas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paling kas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mbersihkan permukaan kayu kasar seperti mengeluarkan permukaan berc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66320" y="1014120"/>
            <a:ext cx="495324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Gosok ikut ira kay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3429000" y="59436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pt.uaair.co.id/waterproff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62120" y="1990800"/>
            <a:ext cx="3752640" cy="2962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010120" y="1866960"/>
            <a:ext cx="3295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69644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92280" y="1066320"/>
            <a:ext cx="829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(B)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Tepung penyumb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nutup dan penyumbat liang pada ira kay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una penyumbat sedia bancuh atau tepung dibancuh dengan air atau pewarna kay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una pengikis atau ka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09680" y="3654360"/>
            <a:ext cx="411480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723888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0200" y="784080"/>
            <a:ext cx="5950080" cy="663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4)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aedah Pembinaa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690732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apat menyelesaikan masalah serta tidak melibatkan proses pembinaan yang rumi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3124080"/>
            <a:ext cx="5138640" cy="663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5)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Ketahan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3809880"/>
            <a:ext cx="6907320" cy="28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seharusnya menepati tujuan atau fungsi reka bentuk itu dibu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Pengguna yakin akan kekukuhan binaan ketika menggunakan produk tersebu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45640" y="990720"/>
            <a:ext cx="7993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(c)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Berus C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nyapu cat lica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(D)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Berus Syel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nyapu syelek, lekar, varnis dan tona kay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705720" cy="15364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590920" y="4800600"/>
            <a:ext cx="50292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845640" y="96156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(E)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Pengik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nyumbat bancuhan tepung penyumb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ngikis lapisan karat pada keluli @ loga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057400" y="3581280"/>
            <a:ext cx="510552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457200" y="1143000"/>
          <a:ext cx="8458200" cy="4384800"/>
        </p:xfrm>
        <a:graphic>
          <a:graphicData uri="http://schemas.openxmlformats.org/drawingml/2006/table">
            <a:tbl>
              <a:tblPr/>
              <a:tblGrid>
                <a:gridCol w="3048120"/>
                <a:gridCol w="2590560"/>
                <a:gridCol w="2819520"/>
              </a:tblGrid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Jenis Kemasa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Bahan pelaru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Bahan yg sesuai digunaka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t licau, cat sembu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urpenti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ayu,logam,plastik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yelek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pirit meti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ayu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Varni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hinn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ayu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ona Kayu (timber tone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urpenti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ayu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mburan lekar jernih (clear lacquer spray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hinn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ayu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Loga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eleka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ayu,plastik,loga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14400" y="938160"/>
            <a:ext cx="8153280" cy="45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lih pasangan kemasan dan pelarut ya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t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Syelek – spirit me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 Lekar –Sprit men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 Cat – Turpen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 Varnis – Turpen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I dan I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I dan I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II dan II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III dan 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1.5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ka Bentuk Proje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8153280" cy="30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5.1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Pernyataan Masalah atau keperlu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ngenal pasti masalah atau keperlua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ngumpul maklumat dan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nyenaraikan pelbagai alternatif penyelesaian masalah dalam lakaran beba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154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60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1.5.2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ancangan, Pembinaan dan Pengubahsuaian Projek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69800" y="1555920"/>
            <a:ext cx="731340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0000"/>
                </a:solidFill>
                <a:uFillTx/>
                <a:latin typeface="Verdana"/>
              </a:rPr>
              <a:t>Perancang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74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enis dan kualiti bahan yang akan digunak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74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Mengenal pasti dan menyenaraikan alatan tangan dan mesin yang hendak digunak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74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mengenal pasti teknik dan kaedah pembinaan yang sesuai dengan bahan yang digunak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74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mengenal pasti kemasan yang sesuai dengan bahan dan proj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371600" y="15238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Verdana"/>
              </a:rPr>
              <a:t>Menyediakan Jadual Kerj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rja lebih teranca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kerja dapat diselesaikan ikut jadual/mas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Membina projek berdasarkan lukisan kerja yang dipilih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Menguji dan menilai proje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Mengubah suai proje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69800" y="977760"/>
            <a:ext cx="696564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1.5.3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endokumentasia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17040" y="149508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3200" indent="-174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Verdana"/>
              </a:rPr>
              <a:t>Mengumpul dan merekod maklumat proj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03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umpul, susun dan failkan semua maklumat dan perancangan proje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3581280"/>
            <a:ext cx="8305560" cy="2226960"/>
          </a:xfrm>
          <a:prstGeom prst="rect">
            <a:avLst/>
          </a:prstGeom>
          <a:solidFill>
            <a:srgbClr val="ffff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ma, pernyataan masalah, lakaran bebas-pelbagai alternatif, lakaran yang dipilih, senarai bahan dan alatan tangan, bahan kemasan, jadual kerja, menguji dan menilai, mengubah suai projek, pengiraan k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074240" y="103788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Verdana"/>
              </a:rPr>
              <a:t>Mengira kos pengeluar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os pengeluara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jumlah wang yg dibelanjakan untuk menghasilkan sesuatu proj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os baha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perbelanjaan untuk membeli bahan mentah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os upa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kos bayaran tenaga kerja untuk menyiapkan ker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os overh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bayaran bil elektrik, gas, air, pengangkutan dan bil telef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1600200"/>
            <a:ext cx="8077320" cy="45972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s pengeluar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kos bahan + Kos upah + kos over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837720"/>
            <a:ext cx="7313400" cy="606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7)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Keselamata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duk yang dihasilkan selamat digunakan,mesra pengguna dan mesra alam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lamat dan tidak mendatangkan mudarat kepada penggun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228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Verdana"/>
              </a:rPr>
              <a:t>Membuat persembahan Proj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77800" indent="0">
              <a:spcBef>
                <a:spcPts val="649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nerangan tentang projek seperti fungsi, jenis bahan,kos, keistimewaan, buku foli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5800" y="3413160"/>
            <a:ext cx="7788240" cy="32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Jadual di atas menunjukkan kos untuk membuat satu unit rak pisau. Hitungkan kos pengeluaran bagi 4 unit rak pisau yang sam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M 7.8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M 8.7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M 31.2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M 34.2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447920" y="990720"/>
          <a:ext cx="7086240" cy="1981080"/>
        </p:xfrm>
        <a:graphic>
          <a:graphicData uri="http://schemas.openxmlformats.org/drawingml/2006/table">
            <a:tbl>
              <a:tblPr/>
              <a:tblGrid>
                <a:gridCol w="3543120"/>
                <a:gridCol w="354312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Butira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Jumlah (RM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os Baha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.8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os upah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.6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os Overhed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4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286000" y="762120"/>
            <a:ext cx="49528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Keluli lembut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676520"/>
            <a:ext cx="784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jenis bahan logam ferus yang dibuat daripada campuran besi dan karb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dah dibentuk dan dipot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dapat dalam pelbagai bentuk serta ketebalan seperti bentuk kepingan, dawai, batang dan bentuk 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uk membuat skru, paku, jeriji pintu, tiang bangunan dan pelbagai  binaan l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20760" y="4419720"/>
          <a:ext cx="7770960" cy="1704960"/>
        </p:xfrm>
        <a:graphic>
          <a:graphicData uri="http://schemas.openxmlformats.org/drawingml/2006/table">
            <a:tbl>
              <a:tblPr/>
              <a:tblGrid>
                <a:gridCol w="3886200"/>
                <a:gridCol w="388476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33cccc"/>
                          </a:solidFill>
                          <a:latin typeface="Verdana"/>
                          <a:ea typeface="Arial"/>
                        </a:rPr>
                        <a:t>Kekuata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33cccc"/>
                          </a:solidFill>
                          <a:latin typeface="Verdana"/>
                          <a:ea typeface="Arial"/>
                        </a:rPr>
                        <a:t>Kelemaha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apat dipateri dengan menggunakan pemateri logam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udah berkarat jika tidak disapu dengan cat licau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371600" y="609480"/>
            <a:ext cx="7086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PVC (polyvinyl chloride)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1676520"/>
            <a:ext cx="7696080" cy="32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peroleh dalam bentuk pa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jenis bahan yang ringan, tahan karat dan mudah dikendalik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iz = berdiameter13 mm, 20 mm, 25 m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 mm, 38 mm dan 50 mm deng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pelbagai keteba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mbungkan dengan menggunakan simen pelarut atau glu PVC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762120" y="2286000"/>
          <a:ext cx="7848360" cy="3263760"/>
        </p:xfrm>
        <a:graphic>
          <a:graphicData uri="http://schemas.openxmlformats.org/drawingml/2006/table">
            <a:tbl>
              <a:tblPr/>
              <a:tblGrid>
                <a:gridCol w="3924360"/>
                <a:gridCol w="392400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33cccc"/>
                          </a:solidFill>
                          <a:latin typeface="Verdana"/>
                          <a:ea typeface="Arial"/>
                        </a:rPr>
                        <a:t>Kekuata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33cccc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1" lang="en-US" sz="2500" spc="-1" strike="noStrike">
                          <a:solidFill>
                            <a:srgbClr val="33cccc"/>
                          </a:solidFill>
                          <a:latin typeface="Verdana"/>
                          <a:ea typeface="Arial"/>
                        </a:rPr>
                        <a:t>Kelemaha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9200" indent="-34920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idak berkar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9200" indent="-34920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ingan dan mudah dikendalik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9200" indent="-34920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udah disambungkan dengan menggunakan soket dan simen pelar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idak tahan kepanas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 txBox="1"/>
          <p:nvPr/>
        </p:nvSpPr>
        <p:spPr>
          <a:xfrm>
            <a:off x="1371600" y="609480"/>
            <a:ext cx="7086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PVC (polyvinyl chloride)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04:57:44Z</dcterms:created>
  <dc:creator>puiwh</dc:creator>
  <dc:description/>
  <cp:keywords/>
  <dc:language>en-US</dc:language>
  <cp:lastModifiedBy>Andrew Choo</cp:lastModifiedBy>
  <dcterms:modified xsi:type="dcterms:W3CDTF">2009-09-19T01:18:45Z</dcterms:modified>
  <cp:revision>5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931033</vt:lpwstr>
  </property>
</Properties>
</file>