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8CE-3A36-46D9-B347-52055276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8C7-EAA4-406A-A9D2-9BA2211A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33F-4618-4061-8F1F-CF0DBBCC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C5F-7FDA-41BC-8862-4355E7B4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6B1-9887-4FF4-8DF7-BE320AEA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F33C-A6CD-46AC-8D1C-5126113E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BB50-DEAB-4159-93D1-CC679A21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E095-D195-4F1D-B1D1-408AEDA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AEC1-9A27-4114-9DA8-3E22F50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B1D-4D5A-4ADF-8BAB-420762D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5C3F-D5F7-4768-B1AB-7E51D6C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1A7-6361-4DDC-9833-9D66E6D8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7DC-3675-47EF-9EF9-FE56AA9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313-EBCC-4E09-9A25-8526DD1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4B1-AB2C-4DEE-BE58-3BBEDDA1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9926-201E-4511-8149-A6E47876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48FC-C6AF-49D3-AC80-C96AB708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CFF-2074-436D-B2F9-86A06659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4C4-C721-48B9-BD83-B9D4DDB6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248-CA2F-462C-AB84-C069AD00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3B4-410D-46DB-A796-62BD5B35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571-54A9-4D56-9FBF-0D38E54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EA3-BE63-4B1C-8E1A-70CDA96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C69-12FC-4DCF-A8B5-9327BF4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338F-D7BA-4B95-ADED-BC73B8EBEC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50EF-2693-47BC-AEA1-C15B8046C4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13712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ab 1: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ka Bentuk dan Penghasilan Projek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WWW.ANDREWCHOO.EDU.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21540000">
            <a:off x="685440" y="167616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35053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2.2 Pengika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jenis bahan pengikat yang digunakan untuk mencantumkan dua atau Iebih kepingan logam pada rangka projek secara kek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perbuat daripada bahan logam yang lembut seperti aluminium atau loyang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iz ribet ditentukan oleh panjang dan garis pusat batangny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bet digunakan bersama rive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52680" y="914400"/>
            <a:ext cx="2667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ibe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1400" y="1752480"/>
            <a:ext cx="275112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0639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048120" y="533520"/>
            <a:ext cx="3733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Glu Pana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22348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alah bahan pengikat yang digunakan untuk mencantumkan kayu, papan lapis atau perspe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lam bentuk batang dan mempunyai beberapa saiz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bersama hot glue gu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t glue gun menggunakan bekalan arus elektrik untuk mencairkan batang glu pan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3930480"/>
            <a:ext cx="76964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unakan bahagian belakang mata pisau pemotong untuk menggarit kertas pelapik perspek. Tekan perlahan-laha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utuskan bahagian perspek yang dipotong dengan menekan perspek pada tepi meja atau dengan beralaskan kay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139760"/>
            <a:ext cx="3181320" cy="241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67080" y="689040"/>
            <a:ext cx="3915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1136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2567160"/>
            <a:ext cx="63244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tuk merivet kepingan logam atau mencantumkan kepingan logam pada rangka atau pemidang projek yang dibuat daripada keluli lemb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bersama riv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ncungnya dapat ditukar untuk disesuaikan dengan saiz rivet yang digunak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95480" y="7621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. Riveter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5280" y="2584080"/>
            <a:ext cx="7313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ngkah langkah menggunakan riveter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a) Tandakan pusat lubang pada logam yang hendak digerudi dengan menggunakan penebuk pusa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b) Gunakan mata gerudi yang bersaiz sama dengan garis pusat batang rive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c) Tekan hujung riveter untuk merapatkan cantu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3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d) Tekan terus hulu riveter sehingga dawai rivet terputu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862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133720" y="682560"/>
            <a:ext cx="44193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5. Hot Glu Gun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6765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uk mencairkan batang glu panas semasa kerja mengglu proj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972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a) Panaskan glu panas dengan menggunakan hot glue gun selama kira-kira lima minit sehingga cai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b) Pastikan bahan projek yang hendak dicantumkan telah disediaka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c) Tekan tuas penekan pada hot glue gun untuk mengeluarkan glu panas yang telah cai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d) Gunakan muncung hot glue gun untuk proses menggl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e) Rapatkan bahagian cantuman sehingga glu panas menjadi seju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938160"/>
            <a:ext cx="7467480" cy="435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Langkah menggunakan hot glue g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476280"/>
            <a:ext cx="6892920" cy="72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1 Faktor Reka Bent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) Fungs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) Rupa Bentu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) Kesesuaian Bah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) Kaedah Pembina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) Ketahan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) K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) Kemas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) Keselamat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) Nilai Komers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02840" y="1547280"/>
            <a:ext cx="79930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untuk melekat kepingan papan lapis, MDF dan mounting 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62320" y="838080"/>
            <a:ext cx="4343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6. Stapler Gun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7820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041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3.2 Mes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alah mesin mudah alih yang digunakan untuk memotong lurus dan lengkuk pada papan lapis serta MDF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a pemotong gergaji jig perlu digantikan ikut ketebalan pap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a gergaji kasar sesuai untuk memotong papan yang lebih tebal dan mata gergaji halus digunakan untuk memotong papan yang lebih nip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362320" y="838080"/>
            <a:ext cx="4800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Mesin Gergaji Jig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0200" y="6095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pinions.com/hmgd-Shop_Tools-All-Jig_S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7162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1066680"/>
          <a:ext cx="8153280" cy="5510160"/>
        </p:xfrm>
        <a:graphic>
          <a:graphicData uri="http://schemas.openxmlformats.org/drawingml/2006/table">
            <a:tbl>
              <a:tblPr/>
              <a:tblGrid>
                <a:gridCol w="2423880"/>
                <a:gridCol w="572940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eguna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motor semasa kerja menggergaji dijalank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megang (hul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etapkan pegangan semasa proses menggerga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man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bagai panduan mengikut garisan pemotongan semasa menggerga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ap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etapkan gergaji pada benda kerja yang dipot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yambungkan bekalan elektr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lindung mata pemot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lindung mata pemot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gunakan untuk memasang skru benam sendi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uga untuk menggerudi lubang dengan memasangkan mata gerudi pada rahangn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sin ini dipasang dengan mata pemutar skru mengikut kepala skr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76520" y="878040"/>
            <a:ext cx="60958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Cordless Screwdriver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696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04920" y="1676520"/>
          <a:ext cx="8458200" cy="4719600"/>
        </p:xfrm>
        <a:graphic>
          <a:graphicData uri="http://schemas.openxmlformats.org/drawingml/2006/table">
            <a:tbl>
              <a:tblPr/>
              <a:tblGrid>
                <a:gridCol w="2793960"/>
                <a:gridCol w="5664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 utam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ungs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ul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egang mesin semasa kerja menskr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motor dan melaras kelajuan pusingan bindu (kelajuan rendah atau kelajuan tinggi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laras arah pusingan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laraskan pusingan bindu mesin sama ada untuk membuka atau mengetatkan skr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indu dan rahang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egang mata pemutar skru atau mata gerud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te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bekalkan arus elektrik kepada mes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gecas bate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ecas bateri mes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gunci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etatkan cengkaman pada rahang bind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762120"/>
            <a:ext cx="78487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Mesin pelelas mudah alih (Sander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28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9945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jenis – belt sander, disc sand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tuk kerja kemasa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rfungsi untuk meratakan dan melicinkan permukaan kayu serta membuang bahagian karat pada keluli sebelum proses kemasan dijalank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yang sesuai grednya dipasangkan pada penyepit sand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jenis halus digunakan untuk melicinkan permukaan projek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khas digunakan untuk membuang karat pada keluli lembu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tas las gred kasar digunakan untuk melel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762120"/>
            <a:ext cx="78487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Mesin pelelas mudah alih (Sander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696960"/>
          <a:ext cx="8686800" cy="5246640"/>
        </p:xfrm>
        <a:graphic>
          <a:graphicData uri="http://schemas.openxmlformats.org/drawingml/2006/table">
            <a:tbl>
              <a:tblPr/>
              <a:tblGrid>
                <a:gridCol w="3028680"/>
                <a:gridCol w="5658120"/>
              </a:tblGrid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 Utam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ungs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ulu/Pemeg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egang mesin semasa kerja meratakan atau melicinkan proj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motor me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gunci Su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idupkan suis semasa kerja meratakan atau melicinkan proj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yalurkan bekalan elektrik kepada me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ap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hagian yang akan dipasangkan kertas 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nyep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yepit kertas las pada tap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3651120" cy="663840"/>
          </a:xfrm>
          <a:prstGeom prst="rect">
            <a:avLst/>
          </a:prstGeom>
          <a:solidFill>
            <a:srgbClr val="ff99cc"/>
          </a:solidFill>
          <a:ln w="9360">
            <a:solidFill>
              <a:srgbClr val="ffcc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) Fung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467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k yang dihasilkan mestilah memenuhi fungsi yang dihasratk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yelesaikan masalah dan memenuhi keperluan dan kehendak penggun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4 Proses Reka Bent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4.1 Lukis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mbuat lakar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ilai dan memilih lakaran yang paling sesu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4.2 Pembina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nguku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nan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moto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membentuk dan mencant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1093680"/>
            <a:ext cx="73134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buat lakaran reka bentu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ntuk lakaran dua dimensi (2D), tiga dimensi (3D), perspekti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karan 2D –unjuran ortograf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karan 3D – lakaran oblik atau isometri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ertas lukisan dan kertas grid, pensel H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7680" y="522360"/>
            <a:ext cx="71928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nilai dan Memilih lakaran yang paling sesua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bincangan kumpulan tentang bahan, kos, alatan d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lu ada dimensi yang lengk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25560" y="3200400"/>
            <a:ext cx="80661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301320"/>
            <a:ext cx="55720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4.2 Pembinaan Proj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rpandukan kertas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tan tangan=pembaris keluli, pita pengukur, sesiku 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057400" y="914400"/>
            <a:ext cx="56386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roses Mengukur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5520" y="3124080"/>
            <a:ext cx="2469960" cy="261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48120" y="3701880"/>
            <a:ext cx="2438280" cy="2013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867280" y="3432240"/>
            <a:ext cx="2362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hagian yang hendak dipotong, digerudi, membuat tangg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tan tangan=pensel, sesiku L, pisau penanda, tolok penanda, penggarit dan penebuk pusa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438280" y="609480"/>
            <a:ext cx="4648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roses menand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tan tangan=pisau pemotong perspek, gergaji tangan, gergaji puting, gergaji bes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38280" y="749160"/>
            <a:ext cx="48769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roses memotong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2895840" cy="221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24080" y="3443400"/>
            <a:ext cx="2667240" cy="216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7050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888480"/>
            <a:ext cx="7313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ses membuat dan mencantu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erja-kerja membuat tanggam, mengglu,memaku,memasang skru, merivet dan mereka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embuat tangg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buat cantuman untuk menghasilk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uktur produk. Tanggam temu, tangg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it terus, tanggam lekap, tanggam berpenetap, tanggam rencong.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Tolong lukiska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Senaraikan jenis-jenis cantuman kepingan logam nipis. (m/s 15,1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990720"/>
            <a:ext cx="7313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ngg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ntumkan bhg projek spt kayu, MDF, perspek dan mounting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u panas, glu sentu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C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ma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ku kepala rata dan paku pa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aku serong memberikan cengkaman yang lebih ku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86400" y="4224240"/>
            <a:ext cx="3014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69800" y="2286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D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masang sk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ru benam sendiri untuk mencantumkan logam seperti keluli lembut dan aluminiu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dless screwdri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E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riv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ntumkan bahan berasaskan kepingan logam dan keluli lemb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et digunakan bersama rive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62320" y="4038480"/>
            <a:ext cx="3062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F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rek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ntumkan bahan projek berasaskan papan lapis. MDF dan mounting board pada rangka atau pemidang proj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ggunakan stapler gu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20040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4594320" cy="728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) Rupa Bent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arik perhatian pengguna dr segi bentuk, warna, dan  reka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jamin keselesaan dan kesesuaian penggunaanny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5950080" cy="728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3) Kesesuaian Ba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4956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Pemilihan bahan mestilah sesuai, mudah diperoleh, praktikal, tepat dan tidak melebihi kos yang diperuntukka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901440"/>
            <a:ext cx="4665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han Pemasang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erti engsel, breket dan penyangk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g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asang bahagian pintu atau penutup proj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na rivet dan skru benam sendi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695920" y="1752480"/>
            <a:ext cx="3133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19320" y="984240"/>
            <a:ext cx="36892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rek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asang tetingkat atau para pada bahagian projek untuk menguatkan sambungan pada pepenjuru proj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714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42640" y="1015920"/>
            <a:ext cx="649764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3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nyangk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ggantung projek pada di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3962520" y="2133720"/>
            <a:ext cx="3809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888480"/>
            <a:ext cx="375912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4.3 Kemas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ses terakhir dalam penghasilan sesuatu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ti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amat digunak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bih tahan la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dah dibersihk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901440"/>
            <a:ext cx="54324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han dan alat kemas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Kertas L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bersihkan, melicinkan dan menghilangkan tanda atau kesan calar pada permukaan kay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rtas las jenis kaca dan kertas las garnet == kay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rtas las wet dan dry (silicon carbide paper) == logam dan plasti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ain las emery == permukaan log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533520" y="1027080"/>
          <a:ext cx="8458200" cy="3832200"/>
        </p:xfrm>
        <a:graphic>
          <a:graphicData uri="http://schemas.openxmlformats.org/drawingml/2006/table">
            <a:tbl>
              <a:tblPr/>
              <a:tblGrid>
                <a:gridCol w="1498320"/>
                <a:gridCol w="3200400"/>
                <a:gridCol w="3759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Gr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Jen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Keguna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0, 0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Paling 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nghasilkan permukaan kayu yang 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½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sederhana ka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gunakan sebelum kertas las gred ha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½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ka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paling kas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mbersihkan permukaan kayu kasar seperti mengeluarkan permukaan berc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1014120"/>
            <a:ext cx="49532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osok ikut ira kay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59436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t.uaair.co.id/waterproff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990800"/>
            <a:ext cx="3752640" cy="2962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10120" y="1866960"/>
            <a:ext cx="3295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96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92280" y="1066320"/>
            <a:ext cx="829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B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Tepung penyumb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utup dan penyumbat liang pada ira kay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na penyumbat sedia bancuh atau tepung dibancuh dengan air atau pewarna kay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na pengikis atau k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09680" y="3654360"/>
            <a:ext cx="4114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72388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784080"/>
            <a:ext cx="5950080" cy="66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aedah Pembina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690732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pat menyelesaikan masalah serta tidak melibatkan proses pembinaan yang rum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124080"/>
            <a:ext cx="5138640" cy="66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5)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Ketahan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09880"/>
            <a:ext cx="690732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seharusnya menepati tujuan atau fungsi reka bentuk itu dibu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Pengguna yakin akan kekukuhan binaan ketika menggunakan produk tersebu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45640" y="990720"/>
            <a:ext cx="799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c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erus C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apu cat lic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D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erus Syel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apu syelek, lekar, varnis dan tona kay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05720" cy="1536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590920" y="4800600"/>
            <a:ext cx="5029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45640" y="96156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E)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ngik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umbat bancuhan tepung penyumb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gikis lapisan karat pada keluli @ log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5105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57200" y="1143000"/>
          <a:ext cx="8458200" cy="4384800"/>
        </p:xfrm>
        <a:graphic>
          <a:graphicData uri="http://schemas.openxmlformats.org/drawingml/2006/table">
            <a:tbl>
              <a:tblPr/>
              <a:tblGrid>
                <a:gridCol w="3048120"/>
                <a:gridCol w="2590560"/>
                <a:gridCol w="28195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Jenis Kema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ahan pelaru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ahan yg sesuai digunak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t licau, cat sembu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pent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,logam,plasti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yele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irit meti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rn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inn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na Kayu (timber to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pent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mburan lekar jernih (clear lacquer spra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inn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og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leka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ayu,plastik,log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938160"/>
            <a:ext cx="81532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ih pasangan kemasan dan pelarut ya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yelek – spirit me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Lekar –Sprit me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 Cat – Turpe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Varnis – Turpe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 dan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 da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I dan I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II dan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ka Bentuk Proje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15328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5.1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ernyataan Masalah atau keperlu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genal pasti masalah atau keperlu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gumpul maklumat dan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nyenaraikan pelbagai alternatif penyelesaian masalah dalam lakaran beb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15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60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1.5.2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ancangan, Pembinaan dan Pengubahsuaian Proj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555920"/>
            <a:ext cx="73134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Perancang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is dan kualiti bahan yang akan digu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Mengenal pasti dan menyenaraikan alatan tangan dan mesin yang hendak digu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mengenal pasti teknik dan kaedah pembinaan yang sesuai dengan bahan yang digu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mengenal pasti kemasan yang sesuai dengan bahan dan proj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Menyediakan Jadual Ker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rja lebih teranca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kerja dapat diselesaikan ikut jadual/ma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embina projek berdasarkan lukisan kerja yang dipili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enguji dan menilai proj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Mengubah suai proj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977760"/>
            <a:ext cx="69656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5.3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ndokumentasi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7040" y="14950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174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Mengumpul dan merekod maklumat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03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umpul, susun dan failkan semua maklumat dan perancangan proj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581280"/>
            <a:ext cx="8305560" cy="22269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ma, pernyataan masalah, lakaran bebas-pelbagai alternatif, lakaran yang dipilih, senarai bahan dan alatan tangan, bahan kemasan, jadual kerja, menguji dan menilai, mengubah suai projek, pengiraan 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74240" y="10378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Mengira kos pengeluar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pengeluar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jumlah wang yg dibelanjakan untuk menghasilkan sesuatu proj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bah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perbelanjaan untuk membeli bahan menta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upa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kos bayaran tenaga kerja untuk menyiapkan ker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os overh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bayaran bil elektrik, gas, air, pengangkutan dan bil telef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600200"/>
            <a:ext cx="8077320" cy="459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s pengelua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kos bahan + Kos upah + kos over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837720"/>
            <a:ext cx="7313400" cy="606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7)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selamat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k yang dihasilkan selamat digunakan,mesra pengguna dan mesra ala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amat dan tidak mendatangkan mudarat kepada penggu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228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Membuat persembahan Proj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7800" indent="0">
              <a:spcBef>
                <a:spcPts val="64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nerangan tentang projek seperti fungsi, jenis bahan,kos, keistimewaan, buku fol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3413160"/>
            <a:ext cx="778824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dual di atas menunjukkan kos untuk membuat satu unit rak pisau. Hitungkan kos pengeluaran bagi 4 unit rak pisau yang sa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7.8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8.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31.2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 34.2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990720"/>
          <a:ext cx="7086240" cy="1981080"/>
        </p:xfrm>
        <a:graphic>
          <a:graphicData uri="http://schemas.openxmlformats.org/drawingml/2006/table">
            <a:tbl>
              <a:tblPr/>
              <a:tblGrid>
                <a:gridCol w="3543120"/>
                <a:gridCol w="354312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utir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Jumlah (RM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os Bah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os upa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os Overh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0" y="762120"/>
            <a:ext cx="4952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Keluli lembu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7652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enis bahan logam ferus yang dibuat daripada campuran besi dan karb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h dibentuk dan dipot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dapat dalam pelbagai bentuk serta ketebalan seperti bentuk kepingan, dawai, batang dan bentuk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membuat skru, paku, jeriji pintu, tiang bangunan dan pelbagai  binaan 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20760" y="4419720"/>
          <a:ext cx="7770960" cy="1704960"/>
        </p:xfrm>
        <a:graphic>
          <a:graphicData uri="http://schemas.openxmlformats.org/drawingml/2006/table">
            <a:tbl>
              <a:tblPr/>
              <a:tblGrid>
                <a:gridCol w="3886200"/>
                <a:gridCol w="38847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kuat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lemah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apat dipateri dengan menggunakan pemateri loga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udah berkarat jika tidak disapu dengan cat lica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6094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VC (polyvinyl chloride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676520"/>
            <a:ext cx="769608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eroleh dalam bentuk pa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enis bahan yang ringan, tahan karat dan mudah dikendali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z = berdiameter13 mm, 20 mm, 25 m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mm, 38 mm dan 50 mm deng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pelbagai keteba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mbungkan dengan menggunakan simen pelarut atau glu PV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62120" y="2286000"/>
          <a:ext cx="7848360" cy="326376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kuat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Kelemah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20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idak berkar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ingan dan mudah dikendalik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udah disambungkan dengan menggunakan soket dan simen pelar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idak tahan kepanas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 txBox="1"/>
          <p:nvPr/>
        </p:nvSpPr>
        <p:spPr>
          <a:xfrm>
            <a:off x="1371600" y="6094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PVC (polyvinyl chloride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4:57:44Z</dcterms:created>
  <dc:creator>puiwh</dc:creator>
  <dc:description/>
  <cp:keywords/>
  <dc:language>en-US</dc:language>
  <cp:lastModifiedBy>Andrew Choo</cp:lastModifiedBy>
  <dcterms:modified xsi:type="dcterms:W3CDTF">2009-09-19T01:18:45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