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A806-22CA-4F7C-BCCD-B2F9A29A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0C61-6A7D-4B24-BC71-3178CD51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A9F0-F820-4D72-BE83-B2EEF186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1995-EAE6-4941-81FF-806B6D6E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861-852F-4765-AD52-1B1A5BDB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21A-839E-4853-AC54-78BF08C4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DA3-43F9-43A0-A5F5-E46FF86C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5A5-89E4-466B-8408-7A3BB236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E22B-D1FA-4198-A540-D574CF67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CD1C-7E47-4886-AEF3-CBC61BD2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E4C3-217B-42D7-B725-E9F31C2E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5A18-17A8-4FF5-94D2-9BA849AA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6DE5-6417-4C9B-91E5-1FADE474331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8:12:14Z</dcterms:modified>
  <cp:revision>24</cp:revision>
  <dc:subject/>
  <dc:title>슬라이드 1</dc:title>
</cp:coreProperties>
</file>