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701-3D84-4320-82E3-34494675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DA7-C3B3-4FE8-89B4-60253F7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095-A6A0-4942-9DE1-ABCABD26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D4F-F9FF-4B1E-86A3-0468E508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CDC-37D1-4476-A810-C39498C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843-B0E7-4E02-A90E-2D4BFCD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043-ACE3-4B78-B0F2-7CCADC41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0D9-F9AC-4181-998F-B70C4F8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BA9-4C12-431E-AC4E-AD4D9A8C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E08-5EF4-459E-9FCC-AE25A8D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8F4-667C-4561-9A8A-FC70386C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484-1731-47D1-AD14-869597DE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0E0F-BB30-48CC-BB3A-2AECCED258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12:14Z</dcterms:modified>
  <cp:revision>24</cp:revision>
  <dc:subject/>
  <dc:title>슬라이드 1</dc:title>
</cp:coreProperties>
</file>