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4CA1-AD45-4F88-8D55-3B18201E88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DC9F-0347-4494-AA6B-79323B0F15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AFD5-6843-456F-BA83-C684DF237F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8E01-12EB-41D7-96CF-3A439E7E9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933C-B537-456E-9B35-67F08160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4DBB-84B3-4A07-9EC2-68BDA3459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1533-D894-49B8-8741-DFEC45616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8487-244A-48AF-B906-022D47825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F0EC-98E4-4F1C-8C88-6BB9A35E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7B5E2-E4F2-4F9B-AF0D-5F55B25D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5318-09A1-4A1F-8FCF-7184D12A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9C14-27D4-48B1-9420-2B6C1A85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3E0C-4A1E-473B-AE7D-D458FF37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9E0B-40C1-4103-A721-A6726036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23A9-503F-4C3A-B26C-81D36674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DE23-C478-4DD1-96EB-D3DEEC1B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85D6-A853-46A9-B49E-74D6900C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C2A3-55C6-4F70-95CA-ACBBE257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F576C-9833-4415-882A-F88CA713B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8614-8D92-4F86-A836-A64689126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119B-3955-46B5-BEA3-DBCA62FE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E17E-37CD-4599-8F3A-797FA949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2C5A-D8A7-4942-B47D-83F0DAD6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B69B-3684-4654-8498-CAF8804E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F212-01BA-4C12-8843-C57E7609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BE18-96C1-4124-B4D9-180C23F1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70F9-FEE0-4A37-993F-45EE455B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5303-4C63-4905-A3DC-0DC3A451AB8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BD5B-9D2A-4044-A0B9-055CFD9A3E9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004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INFEKSI GINEKOLOGI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71680" y="3071520"/>
            <a:ext cx="822960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haje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Lab./SMF Obstetri Ginekolog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FKUB/RSUD Dr. Saiful Anwar Mala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rmal vaginal secre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bawah mikroscop tampa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erficial vaginal epithelial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w white blood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ngecatan gram nampak lactobacill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mberian KOH 10 % tidak dijumpai elemen jam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304920" y="7621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Vaginal dischar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57200" y="2438280"/>
            <a:ext cx="8229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Patologis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Fisiolog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Pembagian dan penyebab cairan vag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4267080" y="11430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Cairan va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1600200" y="1752480"/>
            <a:ext cx="14479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fisiolog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6477120" y="182880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patolog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1523880" y="2438280"/>
            <a:ext cx="13716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sekr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285840" y="3276720"/>
            <a:ext cx="10857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vul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4"/>
          <p:cNvSpPr/>
          <p:nvPr/>
        </p:nvSpPr>
        <p:spPr>
          <a:xfrm>
            <a:off x="214200" y="3886200"/>
            <a:ext cx="776520" cy="32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va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5"/>
          <p:cNvSpPr/>
          <p:nvPr/>
        </p:nvSpPr>
        <p:spPr>
          <a:xfrm>
            <a:off x="214200" y="4419720"/>
            <a:ext cx="776520" cy="295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servi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6"/>
          <p:cNvSpPr/>
          <p:nvPr/>
        </p:nvSpPr>
        <p:spPr>
          <a:xfrm>
            <a:off x="285840" y="5029200"/>
            <a:ext cx="1009440" cy="4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ute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7"/>
          <p:cNvSpPr/>
          <p:nvPr/>
        </p:nvSpPr>
        <p:spPr>
          <a:xfrm>
            <a:off x="500040" y="5867280"/>
            <a:ext cx="1023840" cy="49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u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5"/>
          <p:cNvSpPr/>
          <p:nvPr/>
        </p:nvSpPr>
        <p:spPr>
          <a:xfrm>
            <a:off x="3352680" y="2590920"/>
            <a:ext cx="10670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leko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6"/>
          <p:cNvSpPr/>
          <p:nvPr/>
        </p:nvSpPr>
        <p:spPr>
          <a:xfrm>
            <a:off x="4572000" y="25909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infek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7"/>
          <p:cNvSpPr/>
          <p:nvPr/>
        </p:nvSpPr>
        <p:spPr>
          <a:xfrm>
            <a:off x="5791320" y="259092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neoplas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8"/>
          <p:cNvSpPr/>
          <p:nvPr/>
        </p:nvSpPr>
        <p:spPr>
          <a:xfrm>
            <a:off x="7086600" y="259092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fist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9"/>
          <p:cNvSpPr/>
          <p:nvPr/>
        </p:nvSpPr>
        <p:spPr>
          <a:xfrm>
            <a:off x="8381880" y="2590920"/>
            <a:ext cx="762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lai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5"/>
          <p:cNvSpPr/>
          <p:nvPr/>
        </p:nvSpPr>
        <p:spPr>
          <a:xfrm>
            <a:off x="2362320" y="30481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Waktu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lah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6"/>
          <p:cNvSpPr/>
          <p:nvPr/>
        </p:nvSpPr>
        <p:spPr>
          <a:xfrm>
            <a:off x="2514600" y="3505320"/>
            <a:ext cx="10666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Akil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bal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7"/>
          <p:cNvSpPr/>
          <p:nvPr/>
        </p:nvSpPr>
        <p:spPr>
          <a:xfrm>
            <a:off x="2514600" y="3886200"/>
            <a:ext cx="1066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konge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8"/>
          <p:cNvSpPr/>
          <p:nvPr/>
        </p:nvSpPr>
        <p:spPr>
          <a:xfrm>
            <a:off x="2057400" y="4267080"/>
            <a:ext cx="190512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9"/>
          <p:cNvSpPr/>
          <p:nvPr/>
        </p:nvSpPr>
        <p:spPr>
          <a:xfrm>
            <a:off x="2057400" y="5486400"/>
            <a:ext cx="1905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Adenomatosis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v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0"/>
          <p:cNvSpPr/>
          <p:nvPr/>
        </p:nvSpPr>
        <p:spPr>
          <a:xfrm>
            <a:off x="2438280" y="59436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il 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k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1"/>
          <p:cNvSpPr/>
          <p:nvPr/>
        </p:nvSpPr>
        <p:spPr>
          <a:xfrm>
            <a:off x="2286000" y="647712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embilasan v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9"/>
          <p:cNvSpPr/>
          <p:nvPr/>
        </p:nvSpPr>
        <p:spPr>
          <a:xfrm>
            <a:off x="2357280" y="4267080"/>
            <a:ext cx="197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Peningka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Masa kelenj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servi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3"/>
          <p:cNvSpPr/>
          <p:nvPr/>
        </p:nvSpPr>
        <p:spPr>
          <a:xfrm>
            <a:off x="5257800" y="3352680"/>
            <a:ext cx="1219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Vul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vagini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5"/>
          <p:cNvSpPr/>
          <p:nvPr/>
        </p:nvSpPr>
        <p:spPr>
          <a:xfrm>
            <a:off x="5257800" y="4114800"/>
            <a:ext cx="1219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sevisi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6"/>
          <p:cNvSpPr/>
          <p:nvPr/>
        </p:nvSpPr>
        <p:spPr>
          <a:xfrm>
            <a:off x="5257800" y="5105520"/>
            <a:ext cx="1523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endometri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7"/>
          <p:cNvSpPr/>
          <p:nvPr/>
        </p:nvSpPr>
        <p:spPr>
          <a:xfrm flipV="1" rot="10705800">
            <a:off x="5333760" y="6170760"/>
            <a:ext cx="12189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fek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seku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3"/>
          <p:cNvSpPr/>
          <p:nvPr/>
        </p:nvSpPr>
        <p:spPr>
          <a:xfrm>
            <a:off x="7848720" y="36576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ur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4"/>
          <p:cNvSpPr/>
          <p:nvPr/>
        </p:nvSpPr>
        <p:spPr>
          <a:xfrm>
            <a:off x="7929720" y="4572000"/>
            <a:ext cx="928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fa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67"/>
          <p:cNvSpPr/>
          <p:nvPr/>
        </p:nvSpPr>
        <p:spPr>
          <a:xfrm flipH="1">
            <a:off x="2209680" y="12952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68"/>
          <p:cNvSpPr/>
          <p:nvPr/>
        </p:nvSpPr>
        <p:spPr>
          <a:xfrm>
            <a:off x="2209680" y="1295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9"/>
          <p:cNvSpPr/>
          <p:nvPr/>
        </p:nvSpPr>
        <p:spPr>
          <a:xfrm>
            <a:off x="5715000" y="1371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0"/>
          <p:cNvSpPr/>
          <p:nvPr/>
        </p:nvSpPr>
        <p:spPr>
          <a:xfrm>
            <a:off x="7086600" y="1371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71"/>
          <p:cNvSpPr/>
          <p:nvPr/>
        </p:nvSpPr>
        <p:spPr>
          <a:xfrm>
            <a:off x="3962520" y="2209680"/>
            <a:ext cx="487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72"/>
          <p:cNvSpPr/>
          <p:nvPr/>
        </p:nvSpPr>
        <p:spPr>
          <a:xfrm flipH="1">
            <a:off x="3886200" y="2209680"/>
            <a:ext cx="763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73"/>
          <p:cNvSpPr/>
          <p:nvPr/>
        </p:nvSpPr>
        <p:spPr>
          <a:xfrm>
            <a:off x="502920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74"/>
          <p:cNvSpPr/>
          <p:nvPr/>
        </p:nvSpPr>
        <p:spPr>
          <a:xfrm>
            <a:off x="6324480" y="2209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75"/>
          <p:cNvSpPr/>
          <p:nvPr/>
        </p:nvSpPr>
        <p:spPr>
          <a:xfrm>
            <a:off x="74674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76"/>
          <p:cNvSpPr/>
          <p:nvPr/>
        </p:nvSpPr>
        <p:spPr>
          <a:xfrm>
            <a:off x="88390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7"/>
          <p:cNvSpPr/>
          <p:nvPr/>
        </p:nvSpPr>
        <p:spPr>
          <a:xfrm flipH="1">
            <a:off x="1676520" y="2971800"/>
            <a:ext cx="45720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78"/>
          <p:cNvSpPr/>
          <p:nvPr/>
        </p:nvSpPr>
        <p:spPr>
          <a:xfrm flipH="1">
            <a:off x="1523880" y="61722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79"/>
          <p:cNvSpPr/>
          <p:nvPr/>
        </p:nvSpPr>
        <p:spPr>
          <a:xfrm>
            <a:off x="1295280" y="5257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0"/>
          <p:cNvSpPr/>
          <p:nvPr/>
        </p:nvSpPr>
        <p:spPr>
          <a:xfrm>
            <a:off x="990720" y="45720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81"/>
          <p:cNvSpPr/>
          <p:nvPr/>
        </p:nvSpPr>
        <p:spPr>
          <a:xfrm>
            <a:off x="91440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82"/>
          <p:cNvSpPr/>
          <p:nvPr/>
        </p:nvSpPr>
        <p:spPr>
          <a:xfrm>
            <a:off x="1295280" y="34290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83"/>
          <p:cNvSpPr/>
          <p:nvPr/>
        </p:nvSpPr>
        <p:spPr>
          <a:xfrm>
            <a:off x="220968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84"/>
          <p:cNvSpPr/>
          <p:nvPr/>
        </p:nvSpPr>
        <p:spPr>
          <a:xfrm>
            <a:off x="4952880" y="2971800"/>
            <a:ext cx="7632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85"/>
          <p:cNvSpPr/>
          <p:nvPr/>
        </p:nvSpPr>
        <p:spPr>
          <a:xfrm flipH="1">
            <a:off x="5028840" y="3657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86"/>
          <p:cNvSpPr/>
          <p:nvPr/>
        </p:nvSpPr>
        <p:spPr>
          <a:xfrm flipH="1">
            <a:off x="4952520" y="4419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87"/>
          <p:cNvSpPr/>
          <p:nvPr/>
        </p:nvSpPr>
        <p:spPr>
          <a:xfrm flipH="1">
            <a:off x="502884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88"/>
          <p:cNvSpPr/>
          <p:nvPr/>
        </p:nvSpPr>
        <p:spPr>
          <a:xfrm flipH="1">
            <a:off x="5028840" y="6400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90"/>
          <p:cNvSpPr/>
          <p:nvPr/>
        </p:nvSpPr>
        <p:spPr>
          <a:xfrm flipH="1">
            <a:off x="4267080" y="2971800"/>
            <a:ext cx="7632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91"/>
          <p:cNvSpPr/>
          <p:nvPr/>
        </p:nvSpPr>
        <p:spPr>
          <a:xfrm>
            <a:off x="3657600" y="3276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92"/>
          <p:cNvSpPr/>
          <p:nvPr/>
        </p:nvSpPr>
        <p:spPr>
          <a:xfrm>
            <a:off x="3581280" y="3733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93"/>
          <p:cNvSpPr/>
          <p:nvPr/>
        </p:nvSpPr>
        <p:spPr>
          <a:xfrm>
            <a:off x="35812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94"/>
          <p:cNvSpPr/>
          <p:nvPr/>
        </p:nvSpPr>
        <p:spPr>
          <a:xfrm>
            <a:off x="3962520" y="4724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96"/>
          <p:cNvSpPr/>
          <p:nvPr/>
        </p:nvSpPr>
        <p:spPr>
          <a:xfrm>
            <a:off x="3962520" y="5638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97"/>
          <p:cNvSpPr/>
          <p:nvPr/>
        </p:nvSpPr>
        <p:spPr>
          <a:xfrm>
            <a:off x="3581280" y="6172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98"/>
          <p:cNvSpPr/>
          <p:nvPr/>
        </p:nvSpPr>
        <p:spPr>
          <a:xfrm>
            <a:off x="4038480" y="6629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99"/>
          <p:cNvSpPr/>
          <p:nvPr/>
        </p:nvSpPr>
        <p:spPr>
          <a:xfrm>
            <a:off x="7543800" y="29718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01"/>
          <p:cNvSpPr/>
          <p:nvPr/>
        </p:nvSpPr>
        <p:spPr>
          <a:xfrm>
            <a:off x="762012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02"/>
          <p:cNvSpPr/>
          <p:nvPr/>
        </p:nvSpPr>
        <p:spPr>
          <a:xfrm>
            <a:off x="7543800" y="4800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hysiological leucorrhoe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0" y="838080"/>
            <a:ext cx="8839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eriode Neona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a. Stimulasi estrogen maternal dari vagina, epi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servik dan endomet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b. Menghilang 7 – 10 h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re Menar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a. 6 bulan s/d 1 tahun sebelum menar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b. Karena kenaikan E2 hasil aktivasi por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hipotalamus-hipofi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c. Biasajernih (grey white), non-iritasi, tanpa bau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pus atau pat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d. Terdiri sel epitel vagina yang lepas, transud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vagina, mukosa endoservik &amp; bakteri doderle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dewas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jernih, tdk berba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dipengaruhi  siklus  horm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uses of vaginal dischar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76320" y="915840"/>
          <a:ext cx="8991360" cy="5724720"/>
        </p:xfrm>
        <a:graphic>
          <a:graphicData uri="http://schemas.openxmlformats.org/drawingml/2006/table">
            <a:tbl>
              <a:tblPr/>
              <a:tblGrid>
                <a:gridCol w="4381560"/>
                <a:gridCol w="4609800"/>
              </a:tblGrid>
              <a:tr h="5761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Sexually transmitted infec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amyd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norrhoe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chomo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rpes simplex inf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Other infec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dida inf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terialvagin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xic shock syndr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quamative inflammatory vaginit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Physiolog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gna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rophic vaginit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siologi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Iatrogen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g induc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eign bo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Malignan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vical canc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ometrial canc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ginal canc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stu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omet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matological condi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rvik  yang norm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Licin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idak ada les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Warna merah muda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idak ada nyer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terus norm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mx  abdomen: ttb, supel, tidak nyer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mx bimanual; besar normal, konsistensi kenyal, tidak nyer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nexa norm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mx abdomen: tidak ada masa, tidak nyer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mx bimanual: tidak ada masa , tidak nyer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nyebab infeksi pada organ genetal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anya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Yang terser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ang Traktus genitalis wani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4200" y="914400"/>
            <a:ext cx="51436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radangan alat genitalia dapat terjad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da genitalia ekster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. Labia may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. Vul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. Vagi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italia inter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. Servi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. Uteru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. Adnex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ub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variu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4803840" y="3571920"/>
            <a:ext cx="4340160" cy="2643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6000840" y="1000080"/>
            <a:ext cx="183816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5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Calibri"/>
              </a:rPr>
              <a:t>1.  Bacterial vaginosi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2860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Nonspecific vaginitis ; Gardnerella vagin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Suatu keadaan dimana terjadi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Overgrowth bacteri anaerob (gardnerella vaginalis dan Mycoplasma hominis ) dari &lt; 1% ---  100 -1000 x lebih tinggi dari norm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Tidak didapatkan Lactobacill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Tidak diket penyebab terjadinya keadaan ts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Disepakati bahwa alkalinisasi vagina yang berulang ulang ( pencucian vagina/ frequent sexual intercourse) memegang perana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Setelah hilangnya lactobacillus sangat sukar unt mengembalikan keadaan normal flora vag ---    terjadi recurrence dari B V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Diagn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0" y="99072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Sekret vagina– putih abu dan membentuk lapisan tipis pada dinding vag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PH vagina  &gt; 4,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Microscopi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Lebih 20% epitel adalah clue sel (sel superfial epithel vagina yang banyak ditempeli oleh bakteri umumnya  G . Vaginalis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Penambahan KOH pada sekresi vagina timbul bau tidak sedap ( fishy , amine like odor ) --- Whiff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0" y="45720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Banyak data mengemukakan adanya hubungan antara BV dg keadaan yang merugikan a l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Meningkatnya resiko PID pada  wanita dg B V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Post abortal P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Postoperatif cuff inf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Abnormal cervical histolog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Wanita hamil dg B V –risiko P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Preterm / prematurit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Chorioamnionit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Post caesarean endometrit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Pengobatan / treatmen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Idealnya dg menghambat pertumbuhan bact anaerob dalam vagina tapi bukan lactobacill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Yang effektif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382680">
              <a:spcBef>
                <a:spcPts val="60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Metronidazole (drug of choice) dg dosis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oral 2 x 500mg / hari selama 7 hari.(95%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382680">
              <a:spcBef>
                <a:spcPts val="601"/>
              </a:spcBef>
              <a:buClr>
                <a:srgbClr val="0000ff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Single dose 2 gram oral ( 84%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382680">
              <a:spcBef>
                <a:spcPts val="601"/>
              </a:spcBef>
              <a:buClr>
                <a:srgbClr val="0000ff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Sbg alternative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988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        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1.Metronidazole gel 0,75% intravag 2 x sehari slm 5 har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05080" indent="-334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2.Clindamycin cream 2 % 5 grm intravag at badtime slm 7 har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05080" indent="-334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3.Clindamycin 300 mg oral 2 x sehari slm 7 har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05080" indent="-334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Not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05080" indent="-334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Klinisi senang memakai yg intravag berhubungan dg side effek  systemik yg ditimbulkan mis mual dan rasa kurang enak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05080" indent="-334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Pengobatan parner tidak dianjurk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bacterial_vaginosis"/>
          <p:cNvPicPr/>
          <p:nvPr/>
        </p:nvPicPr>
        <p:blipFill>
          <a:blip r:embed="rId1"/>
          <a:stretch/>
        </p:blipFill>
        <p:spPr>
          <a:xfrm>
            <a:off x="1995480" y="1981080"/>
            <a:ext cx="1190520" cy="1981440"/>
          </a:xfrm>
          <a:prstGeom prst="rect">
            <a:avLst/>
          </a:prstGeom>
          <a:ln w="0">
            <a:noFill/>
          </a:ln>
        </p:spPr>
      </p:pic>
      <p:grpSp>
        <p:nvGrpSpPr>
          <p:cNvPr id="195" name="Group 34"/>
          <p:cNvGrpSpPr/>
          <p:nvPr/>
        </p:nvGrpSpPr>
        <p:grpSpPr>
          <a:xfrm>
            <a:off x="4357800" y="1071720"/>
            <a:ext cx="2437920" cy="4723560"/>
            <a:chOff x="4357800" y="1071720"/>
            <a:chExt cx="2437920" cy="4723560"/>
          </a:xfrm>
        </p:grpSpPr>
        <p:pic>
          <p:nvPicPr>
            <p:cNvPr id="196" name="Picture 22" descr="gardnerella"/>
            <p:cNvPicPr/>
            <p:nvPr/>
          </p:nvPicPr>
          <p:blipFill>
            <a:blip r:embed="rId2"/>
            <a:stretch/>
          </p:blipFill>
          <p:spPr>
            <a:xfrm>
              <a:off x="4357800" y="2641320"/>
              <a:ext cx="2437920" cy="158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28" descr="gardnerella"/>
            <p:cNvPicPr/>
            <p:nvPr/>
          </p:nvPicPr>
          <p:blipFill>
            <a:blip r:embed="rId3"/>
            <a:stretch/>
          </p:blipFill>
          <p:spPr>
            <a:xfrm>
              <a:off x="4357800" y="1071720"/>
              <a:ext cx="2437920" cy="158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31" descr="gardnerella"/>
            <p:cNvPicPr/>
            <p:nvPr/>
          </p:nvPicPr>
          <p:blipFill>
            <a:blip r:embed="rId4"/>
            <a:stretch/>
          </p:blipFill>
          <p:spPr>
            <a:xfrm>
              <a:off x="4357800" y="4211640"/>
              <a:ext cx="2437920" cy="1583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2. candidia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28600" y="76212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Symbol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45% mendpt infeksi dua atau lebih episode pertahu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Symbol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ada yang menjadi chron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Symbol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75% wanita pernah mendpt infeksi ini sekali dalam hidup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Symbol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85 – 90% disebabkan Candida albic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Symbol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Species yg lain: C glabrata dan C tropicali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Symbol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andida :dimorphic fung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Symbol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Jml mikroorganisme sangat menentukan ada tidaknya gx yang ditimbulkan : bila  10</a:t>
            </a:r>
            <a:r>
              <a:rPr b="0" lang="en-US" sz="2400" spc="-1" strike="noStrike" baseline="30000">
                <a:solidFill>
                  <a:srgbClr val="0000ff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/ ml asymptomatric, bila &gt; 10 </a:t>
            </a:r>
            <a:r>
              <a:rPr b="0" lang="en-US" sz="2400" spc="-1" strike="noStrike" baseline="30000">
                <a:solidFill>
                  <a:srgbClr val="0000ff"/>
                </a:solidFill>
                <a:latin typeface="Calibri"/>
              </a:rPr>
              <a:t>4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symptomat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Symbol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Faktor predisposi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Pemakaian antibioti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Diabetes melit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Kehami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7" descr="vaginitis_1"/>
          <p:cNvPicPr/>
          <p:nvPr/>
        </p:nvPicPr>
        <p:blipFill>
          <a:blip r:embed="rId1"/>
          <a:stretch/>
        </p:blipFill>
        <p:spPr>
          <a:xfrm>
            <a:off x="0" y="457200"/>
            <a:ext cx="4495680" cy="3060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yeastinfection2"/>
          <p:cNvPicPr/>
          <p:nvPr/>
        </p:nvPicPr>
        <p:blipFill>
          <a:blip r:embed="rId2"/>
          <a:stretch/>
        </p:blipFill>
        <p:spPr>
          <a:xfrm>
            <a:off x="5043600" y="2719440"/>
            <a:ext cx="32479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Diagnosi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6858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Discharge dapat berupa cairan atau kental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Gatal,Dysparenia, rasa terbakar , rasa sakit &amp; dysuria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ada  pem terlihat erythema dan odema lab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Symptoms  terdiri : vulvar pruritus dan vaginal discharge seperti kej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Vagina erythematous ditempeli discharg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H vagina pada umumnya normal ( &lt; 4.5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Dengan microscope 80% kasus akan nampak adanya elemen  jamur dapat berupa budding yeast, mycelia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Whiff test negati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Untuk memastikan dx dapat dilakukan culture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Treatment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Vulvovaginal candidiasis topical treatment regi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Butoconazole : 2%  cream 5 g intravag selama 3 ha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lotrimaz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1% cream 5 g intravag selama 7 – 14 har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100 mg vag tab  selama 7 har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100 mg vag tab  2 tab selama 3 har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500 mg vag tab single d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Miconaz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2 % cream 5 g intravag selama 7 har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200mg vag supp selama 3 har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100 mg vag supp selama 7 har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Ticonaz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6,5 % oitment 5g  intravag single d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Terconaz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0,4% cream 5 g intravag  selama 7 har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0,8% cream 5 g intravag selama 3 har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80 mg suppositoria  selama 3 har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3. Trichomonia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Penyebab : - Trichomonas vaginalis – parasit berflagella yang ditularkan secara sexu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Transmision rate tinggi :7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Parasit  ini bersifat anaerob dan mempunyai kemampuan membentuk hydrogen yg berikatan dg oksigen shg suasana lingkungannya menjadi anaer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Trophozoid f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60 % pasien BV bersama sama terinfeksi trichomonas vaginal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684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Keluhan ginekologi akibat radang sering dijumpa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Adanya hubungan dunia luar dengan cav peritoni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Pencegahan dan perluasan infeksi akibat adanya pertahanan pada masing masing  tractus genital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Vul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Vagi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Servi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Endometri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Tub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ichomonia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481040"/>
            <a:ext cx="4757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kubasi 3 hr – 4 minggu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50% asimptomat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kret vagina kuning kehijauan, berbusa, lengke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ysuria, dyspareunia, nyeri &amp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atal pd vulv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Vulva kemerahan, edematou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&amp; excoriat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5429160" y="1285920"/>
            <a:ext cx="3071880" cy="25718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"/>
          <p:cNvPicPr/>
          <p:nvPr/>
        </p:nvPicPr>
        <p:blipFill>
          <a:blip r:embed="rId2"/>
          <a:stretch/>
        </p:blipFill>
        <p:spPr>
          <a:xfrm>
            <a:off x="5429160" y="3929040"/>
            <a:ext cx="305748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tricho_vaginalis_tropho_3"/>
          <p:cNvPicPr/>
          <p:nvPr/>
        </p:nvPicPr>
        <p:blipFill>
          <a:blip r:embed="rId1"/>
          <a:stretch/>
        </p:blipFill>
        <p:spPr>
          <a:xfrm>
            <a:off x="152280" y="158760"/>
            <a:ext cx="4267440" cy="29653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tricho_vaginalis_trophozoite_2"/>
          <p:cNvPicPr/>
          <p:nvPr/>
        </p:nvPicPr>
        <p:blipFill>
          <a:blip r:embed="rId2"/>
          <a:stretch/>
        </p:blipFill>
        <p:spPr>
          <a:xfrm>
            <a:off x="4648320" y="380880"/>
            <a:ext cx="4267080" cy="2900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9" descr="tricho_vaginalis_trophozoite_1"/>
          <p:cNvPicPr/>
          <p:nvPr/>
        </p:nvPicPr>
        <p:blipFill>
          <a:blip r:embed="rId3"/>
          <a:stretch/>
        </p:blipFill>
        <p:spPr>
          <a:xfrm>
            <a:off x="1722600" y="4425840"/>
            <a:ext cx="1736640" cy="1359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Diagnosis</a:t>
            </a:r>
            <a:br>
              <a:rPr sz="3600"/>
            </a:br>
            <a:br>
              <a:rPr sz="3600"/>
            </a:br>
            <a:r>
              <a:rPr b="0" lang="en-US" sz="2200" spc="-1" strike="noStrike">
                <a:solidFill>
                  <a:srgbClr val="c0504d"/>
                </a:solidFill>
                <a:latin typeface="Arial"/>
              </a:rPr>
              <a:t>Symptoms sangat ditentukan oleh reaksi local immune factors dan inoculum size. Seringkali asymtomati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220932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Adanya  vaginal discharge prufuse,,purulent &amp; malodorous kadang 2 disertai rasa gatal (vulvar pruritus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Sekret  vagina menetes keluar dari vag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ada penderita dg jumlah parasit yang banyak didapatkan       patchy vaginal er</a:t>
            </a:r>
            <a:r>
              <a:rPr b="0" lang="id-ID" sz="2400" spc="-1" strike="noStrike">
                <a:solidFill>
                  <a:srgbClr val="0000ff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hema dan colpitis mascularis (strawberry cervix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H vagina  &gt; 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Dengan microscope terlihat trichomonas vaginalis dan jumlah leukosit meningk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Didapatkan pula clue c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Whiff test positi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56680"/>
            <a:ext cx="838512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Trea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0" y="121932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326"/>
              </a:spcBef>
              <a:buClr>
                <a:srgbClr val="0000ff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Drug of choice metronidazole </a:t>
            </a:r>
            <a:r>
              <a:rPr b="0" lang="id-ID" sz="2400" spc="-1" strike="noStrike">
                <a:solidFill>
                  <a:srgbClr val="0000ff"/>
                </a:solidFill>
                <a:latin typeface="Calibri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ral single dose atau multidose dengan cure rate 9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26"/>
              </a:spcBef>
              <a:buClr>
                <a:srgbClr val="0000ff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Sexual partner harus dioba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26"/>
              </a:spcBef>
              <a:buClr>
                <a:srgbClr val="0000ff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Metronidazole gel yang sangat efektif untuk BV, tidak diperlukan untuk T 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26"/>
              </a:spcBef>
              <a:buClr>
                <a:srgbClr val="0000ff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ada wanita dg pengobatan pertama tidak ada respone maka diberikan ulangan  dg metronidazol 3 x 500mg /hari selam 7 hari, dan bila ternyata  ulangan ini tidak berhasil berikan single dose 2 gr metronidazole /hari selama  3 – 5 har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26"/>
              </a:spcBef>
              <a:buClr>
                <a:srgbClr val="0000ff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Bila repeated treatment tetap tidak berhasil lakukan culture untuk sensitivity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26"/>
              </a:spcBef>
              <a:buClr>
                <a:srgbClr val="0000ff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pes Simplex Virus Inf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nyakit ulkus genital terbany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pe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HSV-1 (lesi oral &gt;&gt;, lesi genital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HSV-2 (lesi genit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imptomatik – simptomati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tularkan melalui hubungan seks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pes Simplex Virus Inf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48104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jala 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kubasi 1 mingg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si vesikel, erythema, papula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rupture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ulkus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krusta &amp; menyembuh atau infeksi sekund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asa terbakar dan nyeri heb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mam, malaise &amp; cephalg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rcRect l="4391" t="29296" r="67058" b="18947"/>
          <a:stretch/>
        </p:blipFill>
        <p:spPr>
          <a:xfrm>
            <a:off x="5214960" y="1643040"/>
            <a:ext cx="328608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pes Simplex Virus Inf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unitas normal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ertumbuhan virus terhamba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penyembuhan mulai 1-2 h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x awal antiviral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viral lo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paran  prime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ase vesikuler lebih lama, nyeri timbul 7-10 hari, penyembuhan lebih lama (2-3 mingg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paran sekunde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ebih ringan, healing 2 mgg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pes Simplex Virus Inf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6840" y="1481040"/>
            <a:ext cx="3543480" cy="4525920"/>
          </a:xfrm>
          <a:prstGeom prst="rect">
            <a:avLst/>
          </a:prstGeom>
          <a:solidFill>
            <a:srgbClr val="ffff66"/>
          </a:solidFill>
          <a:ln w="28440">
            <a:solidFill>
              <a:srgbClr val="ffc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gnosis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jala dan pemeriksaan klinik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ultur jaring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C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SV-2 antibod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Content Placeholder 9"/>
          <p:cNvSpPr/>
          <p:nvPr/>
        </p:nvSpPr>
        <p:spPr>
          <a:xfrm>
            <a:off x="4286160" y="1500120"/>
            <a:ext cx="4643640" cy="4857840"/>
          </a:xfrm>
          <a:prstGeom prst="rect">
            <a:avLst/>
          </a:prstGeom>
          <a:solidFill>
            <a:srgbClr val="ffff66"/>
          </a:solidFill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api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tiviral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Acyclovir 3 x 400 mg atau 5 x 200 mg (7-10 h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Recurrent : Acyclovir 3 x 400 mg (5 hari) atau 2 x 800 mg (2 h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algetik (NSA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IE : perjalanan &amp; penularan penya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yphi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481040"/>
            <a:ext cx="4400640" cy="452592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MS disebabkan Treponema pallidu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osial-ekonomi rendah, sexual multipartn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esi khas : chancre (cervix, vagina, vulva,anu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Ulkus tidak nyeri dengan tepi meningg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kubasi 3 minggu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esi timbul 10 hari -12 minggu stl papara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anpa Tx , lesi sembuh spontan &gt; 6 minggu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5286240" y="1500120"/>
            <a:ext cx="307188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yphi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285920"/>
            <a:ext cx="8229600" cy="492912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gnosi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api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Doxycycline 2x 100 mg  selama 2 mingg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Tetracycline 4 x 500 mg selama 2 mingg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814392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Cara masuknya kuman dalam trac genital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371240"/>
            <a:ext cx="8153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Coitus : (ST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Trauma akibat perluk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Benda a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Tindakan / pemeriksaan dengan alat tidak ster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ada waktu / sesudah partus / abort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Keadaan umum yang menuru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Hubungan dengan dunia luar lebih terbu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enjalaran radang organ sekit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Haematogen dan limpo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 Lymphogranuloma Venereum (LG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48104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MS 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hlamydia trachomat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Gejala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kubasi 3 hr – 2 mggu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Vesikel/papula  di dinding vagina – cervix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imfadenopati inguinal/femoral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ruptur (Malaise &amp; demam)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groove sig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atal &amp; ulkus rektum dg sekret mucoi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5214960" y="1357200"/>
            <a:ext cx="30099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ymphogranuloma Venereum (LGV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481040"/>
            <a:ext cx="8229600" cy="1519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agnosa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Kultur swab/aspirasi limfonod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PC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Content Placeholder 4"/>
          <p:cNvSpPr/>
          <p:nvPr/>
        </p:nvSpPr>
        <p:spPr>
          <a:xfrm>
            <a:off x="428760" y="3500280"/>
            <a:ext cx="8358120" cy="1928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erapi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Doxycycline 2 x 100 mg (21h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Erythromycin 4 x 500 mg (21h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nococcal Inf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481040"/>
            <a:ext cx="3757680" cy="45259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PMS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Neisseria gonorrho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Gejala 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ekret vagina putih-kuning, purulen, profu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Kelenjar bartholin &amp; skene, uretra, endometrium, tuba fallopi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Evaluasi &amp; terapi partner sex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Abstinensia s/ terapi selesa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Content Placeholder 9"/>
          <p:cNvSpPr/>
          <p:nvPr/>
        </p:nvSpPr>
        <p:spPr>
          <a:xfrm>
            <a:off x="5072040" y="1500120"/>
            <a:ext cx="364320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erapi 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single dos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eftriaxone 125 m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efixime 400 m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iprofloxacin 500 m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loxacine 400 m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vofloxacin 250 m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.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dyloma acumin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uman Papillomavirus (HPV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7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apula datar – verucous 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si eksofiti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erapi 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7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ksisi atau elektrosurgic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7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ryotherapy , Las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7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pikal : Podofilin 0,5% solution / gel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x/hari selama 3 hari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4 hari tx(-)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diulang s/ 4 kal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5857920" y="1285920"/>
            <a:ext cx="30384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vic Inflammatory Dise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eksi organ reproduksi bagian at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gnosi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yeri pelvis/abdomen bagian baw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yeri goyang cerv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ku &amp; nyeri pada rahim dan adnex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kret vagina kekuningan, mucopurul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mam, menggigil, anoreksia, mual-munt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luhan traktus urinari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lvic Inflammatory Dise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rapi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7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erat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M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7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x 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Levofloxacin 1x500 mg (14 h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Ofloxacin 1x400 mg ± metronidazole 2x 500 mg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14 hr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Ceftriaxone 250 mg i.m + Doxycycline 2x100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g ± metronidazole 2x 500 mg (14 hari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7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7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28240" y="609480"/>
            <a:ext cx="89154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tahanan melawan mikro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ural ( Native / Innate Immunity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rier fisik dan kimia 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pite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sekres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 fagosit ( netrofil, makrofa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tein darah (komplemen, mediator rada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okin (regulasi / koordinasi sel-sel Inn. Im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lora normal vagina, lendir servi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ap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ifestasi  infeks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ang  atau lesi pada genetalia ekster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ulvovagin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vis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dometr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nex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ses tuboova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luhan atau gejala yang se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kret  abnorm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i, rada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ye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Bagaimana  organ genetalia yang normal 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rmal vag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ora normal vagina 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erobik dan Anaerobi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.u hydrogen peroxide producing lactobacill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 vagina dibawah 4,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 epitel vagina kaya akan glycogen dan dipengaruhi oleh horman estro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fleksi hormonal dapat dilihat dg cara melihat perbandingan sel epitel vag /  sitologi vagina ; sel basal, sel intermediet, sel superfis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7T00:16:38Z</dcterms:created>
  <dc:creator>BenQ CUSTOMER</dc:creator>
  <dc:description/>
  <dc:language>en-US</dc:language>
  <cp:lastModifiedBy>User</cp:lastModifiedBy>
  <cp:lastPrinted>2013-05-17T21:47:17Z</cp:lastPrinted>
  <dcterms:modified xsi:type="dcterms:W3CDTF">2013-10-05T12:07:38Z</dcterms:modified>
  <cp:revision>46</cp:revision>
  <dc:subject/>
  <dc:title>INFEKSI GINEKOLOGI</dc:title>
</cp:coreProperties>
</file>