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6903-7474-4B0F-A990-041587D29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78F9-A197-4505-BDCB-F37FFA342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AF61-6727-4F48-9DC9-765E08179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597-B321-4C9B-8DD3-37535A52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B6A-1919-4B6C-9777-E29F552B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F44-1394-49BF-94F4-1A9211D4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E77-F54A-4134-BCA4-E8157195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4969-CE8A-4B92-88A3-E73993CB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2887-15A3-4962-9CAE-ACC12D24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6DA4-813E-449A-845A-2F1F51DD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800F-7C36-49CC-B4EF-3BC207ED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F2CF-4C37-4014-A014-E551EB2B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FFFD-7E88-4ED0-BA6B-F5FD946C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4F60-8706-45AB-8010-C06FA9D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8DA-A995-410B-9656-E3769265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19C0-A2C8-45F9-A80C-5D8B1A9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4C50-FB52-4D40-A571-D17CBAC9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F15C-74C0-4FAC-95AA-713FA4FC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72A1-C3D0-4AB9-BE9F-8924DE87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B4F6-7029-43FA-8C97-0ECE5213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0FB-1927-4709-A417-CB8C1A46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5BF-0E1B-482C-A3CB-FC388586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14F-B41B-4B41-BB28-76C94ADF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798-BB1A-49B9-A745-C93E0449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D47-017E-4EE4-9A0A-7CC9BE2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4E9-CCEC-468A-9A9F-4201C62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094-CFD3-4C49-92F6-05A05CF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51C6-2EE1-46F1-9615-7FDDE4CF43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E463-3ED1-4073-BDD3-F15D1DB932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INFEKSI GINEKOLOGI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680" y="307152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haje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Lab./SMF Obstetri Ginekolog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FKUB/RSUD Dr. Saiful Anwar Mal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vaginal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bawah mikroscop tamp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ficial vaginal epithelial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w white blood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gecatan gram nampak lactobac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mberian KOH 10 % tidak dijumpai elemen ja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Vaginal dis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43828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atologi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Fisiolog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embagian dan penyebab cairan vag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267080" y="1143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airan v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600200" y="1752480"/>
            <a:ext cx="1447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fisiolog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477120" y="18288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patolog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523880" y="243828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kr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285840" y="3276720"/>
            <a:ext cx="1085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214200" y="3886200"/>
            <a:ext cx="77652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214200" y="4419720"/>
            <a:ext cx="776520" cy="29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rv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285840" y="5029200"/>
            <a:ext cx="1009440" cy="4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ute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500040" y="5867280"/>
            <a:ext cx="1023840" cy="49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3352680" y="2590920"/>
            <a:ext cx="1067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4572000" y="25909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791320" y="259092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neo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7086600" y="25909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fi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8381880" y="25909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ai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2362320" y="3048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Wakt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a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2514600" y="3505320"/>
            <a:ext cx="1066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Aki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ba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2514600" y="388620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konge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2057400" y="4267080"/>
            <a:ext cx="19051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2057400" y="5486400"/>
            <a:ext cx="1905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Adenomatosi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v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243828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il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2286000" y="647712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mbilasan v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9"/>
          <p:cNvSpPr/>
          <p:nvPr/>
        </p:nvSpPr>
        <p:spPr>
          <a:xfrm>
            <a:off x="2357280" y="4267080"/>
            <a:ext cx="19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Peningk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Masa kelen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rv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3"/>
          <p:cNvSpPr/>
          <p:nvPr/>
        </p:nvSpPr>
        <p:spPr>
          <a:xfrm>
            <a:off x="5257800" y="33526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Vul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vagin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5257800" y="411480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vis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5257800" y="51055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endometr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7"/>
          <p:cNvSpPr/>
          <p:nvPr/>
        </p:nvSpPr>
        <p:spPr>
          <a:xfrm flipV="1" rot="10705800">
            <a:off x="5333760" y="6170760"/>
            <a:ext cx="1218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f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ku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3"/>
          <p:cNvSpPr/>
          <p:nvPr/>
        </p:nvSpPr>
        <p:spPr>
          <a:xfrm>
            <a:off x="784872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4"/>
          <p:cNvSpPr/>
          <p:nvPr/>
        </p:nvSpPr>
        <p:spPr>
          <a:xfrm>
            <a:off x="7929720" y="4572000"/>
            <a:ext cx="92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fa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7"/>
          <p:cNvSpPr/>
          <p:nvPr/>
        </p:nvSpPr>
        <p:spPr>
          <a:xfrm flipH="1">
            <a:off x="2209680" y="1295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8"/>
          <p:cNvSpPr/>
          <p:nvPr/>
        </p:nvSpPr>
        <p:spPr>
          <a:xfrm>
            <a:off x="220968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9"/>
          <p:cNvSpPr/>
          <p:nvPr/>
        </p:nvSpPr>
        <p:spPr>
          <a:xfrm>
            <a:off x="571500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708660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1"/>
          <p:cNvSpPr/>
          <p:nvPr/>
        </p:nvSpPr>
        <p:spPr>
          <a:xfrm>
            <a:off x="3962520" y="22096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2"/>
          <p:cNvSpPr/>
          <p:nvPr/>
        </p:nvSpPr>
        <p:spPr>
          <a:xfrm flipH="1">
            <a:off x="3886200" y="22096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3"/>
          <p:cNvSpPr/>
          <p:nvPr/>
        </p:nvSpPr>
        <p:spPr>
          <a:xfrm>
            <a:off x="50292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4"/>
          <p:cNvSpPr/>
          <p:nvPr/>
        </p:nvSpPr>
        <p:spPr>
          <a:xfrm>
            <a:off x="63244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5"/>
          <p:cNvSpPr/>
          <p:nvPr/>
        </p:nvSpPr>
        <p:spPr>
          <a:xfrm>
            <a:off x="74674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6"/>
          <p:cNvSpPr/>
          <p:nvPr/>
        </p:nvSpPr>
        <p:spPr>
          <a:xfrm>
            <a:off x="8839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7"/>
          <p:cNvSpPr/>
          <p:nvPr/>
        </p:nvSpPr>
        <p:spPr>
          <a:xfrm flipH="1">
            <a:off x="1676520" y="2971800"/>
            <a:ext cx="4572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8"/>
          <p:cNvSpPr/>
          <p:nvPr/>
        </p:nvSpPr>
        <p:spPr>
          <a:xfrm flipH="1">
            <a:off x="1523880" y="6172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9"/>
          <p:cNvSpPr/>
          <p:nvPr/>
        </p:nvSpPr>
        <p:spPr>
          <a:xfrm>
            <a:off x="1295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0"/>
          <p:cNvSpPr/>
          <p:nvPr/>
        </p:nvSpPr>
        <p:spPr>
          <a:xfrm>
            <a:off x="9907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914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129528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3"/>
          <p:cNvSpPr/>
          <p:nvPr/>
        </p:nvSpPr>
        <p:spPr>
          <a:xfrm>
            <a:off x="22096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4"/>
          <p:cNvSpPr/>
          <p:nvPr/>
        </p:nvSpPr>
        <p:spPr>
          <a:xfrm>
            <a:off x="4952880" y="2971800"/>
            <a:ext cx="763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5"/>
          <p:cNvSpPr/>
          <p:nvPr/>
        </p:nvSpPr>
        <p:spPr>
          <a:xfrm flipH="1">
            <a:off x="502884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6"/>
          <p:cNvSpPr/>
          <p:nvPr/>
        </p:nvSpPr>
        <p:spPr>
          <a:xfrm flipH="1">
            <a:off x="49525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7"/>
          <p:cNvSpPr/>
          <p:nvPr/>
        </p:nvSpPr>
        <p:spPr>
          <a:xfrm flipH="1">
            <a:off x="50288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8"/>
          <p:cNvSpPr/>
          <p:nvPr/>
        </p:nvSpPr>
        <p:spPr>
          <a:xfrm flipH="1">
            <a:off x="502884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0"/>
          <p:cNvSpPr/>
          <p:nvPr/>
        </p:nvSpPr>
        <p:spPr>
          <a:xfrm flipH="1">
            <a:off x="4267080" y="2971800"/>
            <a:ext cx="7632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1"/>
          <p:cNvSpPr/>
          <p:nvPr/>
        </p:nvSpPr>
        <p:spPr>
          <a:xfrm>
            <a:off x="36576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2"/>
          <p:cNvSpPr/>
          <p:nvPr/>
        </p:nvSpPr>
        <p:spPr>
          <a:xfrm>
            <a:off x="3581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3"/>
          <p:cNvSpPr/>
          <p:nvPr/>
        </p:nvSpPr>
        <p:spPr>
          <a:xfrm>
            <a:off x="35812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4"/>
          <p:cNvSpPr/>
          <p:nvPr/>
        </p:nvSpPr>
        <p:spPr>
          <a:xfrm>
            <a:off x="3962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6"/>
          <p:cNvSpPr/>
          <p:nvPr/>
        </p:nvSpPr>
        <p:spPr>
          <a:xfrm>
            <a:off x="3962520" y="5638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7"/>
          <p:cNvSpPr/>
          <p:nvPr/>
        </p:nvSpPr>
        <p:spPr>
          <a:xfrm>
            <a:off x="3581280" y="6172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8"/>
          <p:cNvSpPr/>
          <p:nvPr/>
        </p:nvSpPr>
        <p:spPr>
          <a:xfrm>
            <a:off x="403848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9"/>
          <p:cNvSpPr/>
          <p:nvPr/>
        </p:nvSpPr>
        <p:spPr>
          <a:xfrm>
            <a:off x="7543800" y="29718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1"/>
          <p:cNvSpPr/>
          <p:nvPr/>
        </p:nvSpPr>
        <p:spPr>
          <a:xfrm>
            <a:off x="76201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2"/>
          <p:cNvSpPr/>
          <p:nvPr/>
        </p:nvSpPr>
        <p:spPr>
          <a:xfrm>
            <a:off x="75438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ysiological leucorrhoe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0" y="83808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riode Neon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a. Stimulasi estrogen maternal dari vagina, ep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servik dan endomet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b. Menghilang 7 – 10 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 Men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a. 6 bulan s/d 1 tahun sebelum men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b. Karena kenaikan E2 hasil aktivasi po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hipotalamus-hipof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. Biasajernih (grey white), non-iritasi, tanpa bau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s atau pat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d. Terdiri sel epitel vagina yang lepas, transud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vagina, mukosa endoservik &amp; bakteri doderl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dew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jernih, tdk berb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dipengaruhi  siklus  horm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 of vaginal dischar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6320" y="915840"/>
          <a:ext cx="8991360" cy="5724720"/>
        </p:xfrm>
        <a:graphic>
          <a:graphicData uri="http://schemas.openxmlformats.org/drawingml/2006/table">
            <a:tbl>
              <a:tblPr/>
              <a:tblGrid>
                <a:gridCol w="4381560"/>
                <a:gridCol w="4609800"/>
              </a:tblGrid>
              <a:tr h="576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Sexually transmitted inf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amy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orrho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chomo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pes simplex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Other inf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lvagi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xic shock syndr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amative inflammatory vagin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Phys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ophic vagin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olog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atroge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indu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ign 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Maligna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 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metrial 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ginal 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t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ome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matolog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vik  yang no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ci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dak ada les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arna merah mud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dak ada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terus no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x  abdomen: ttb, supel, tidak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x bimanual; besar normal, konsistensi kenyal, tidak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nexa no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x abdomen: tidak ada masa, tidak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x bimanual: tidak ada masa , tidak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nyebab infeksi pada organ genetal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ny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ang ters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ang Traktus genitalis wan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4200" y="914400"/>
            <a:ext cx="5143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dangan alat genitalia dapat terjad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da genitalia eks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Labia may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Vul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Vag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itali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Servi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Uter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Adnex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ub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a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803840" y="3571920"/>
            <a:ext cx="4340160" cy="2643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6000840" y="100008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1.  Bacterial vagino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Nonspecific vaginitis ; Gardnerella vagin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Suatu keadaan dimana terjadi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Overgrowth bacteri anaerob (gardnerella vaginalis dan Mycoplasma hominis ) dari &lt; 1% ---  100 -1000 x lebih tinggi dari norm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idak didapatkan Lactobacil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idak diket penyebab terjadinya keadaan ts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isepakati bahwa alkalinisasi vagina yang berulang ulang ( pencucian vagina/ frequent sexual intercourse) memegang peran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etelah hilangnya lactobacillus sangat sukar unt mengembalikan keadaan normal flora vag ---    terjadi recurrence dari B V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907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Sekret vagina– putih abu dan membentuk lapisan tipis pada dinding vag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H vagina  &gt; 4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icroscopi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Lebih 20% epitel adalah clue sel (sel superfial epithel vagina yang banyak ditempeli oleh bakteri umumnya  G . Vaginali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enambahan KOH pada sekresi vagina timbul bau tidak sedap ( fishy , amine like odor ) --- Whiff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nyak data mengemukakan adanya hubungan antara BV dg keadaan yang merugikan a l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Meningkatnya resiko PID pada  wanita dg B 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ost abortal P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ostoperatif cuff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bnormal cervical histolo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anita hamil dg B V –risiko P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reterm / prematuri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horioamnion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ost caesarean endomet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engobatan / treatm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dealnya dg menghambat pertumbuhan bact anaerob dalam vagina tapi bukan lactobacil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Yang effekti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etronidazole (drug of choice) dg dosi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ral 2 x 500mg / hari selama 7 hari.(95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ff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ingle dose 2 gram oral ( 84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ff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bg alternativ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.Metronidazole gel 0,75% intravag 2 x sehari slm 5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.Clindamycin cream 2 % 5 grm intravag at badtime slm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3.Clindamycin 300 mg oral 2 x sehari slm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No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Klinisi senang memakai yg intravag berhubungan dg side effek  systemik yg ditimbulkan mis mual dan rasa kurang ena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engobatan parner tidak dianjurk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bacterial_vaginosis"/>
          <p:cNvPicPr/>
          <p:nvPr/>
        </p:nvPicPr>
        <p:blipFill>
          <a:blip r:embed="rId1"/>
          <a:stretch/>
        </p:blipFill>
        <p:spPr>
          <a:xfrm>
            <a:off x="1995480" y="1981080"/>
            <a:ext cx="119052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34"/>
          <p:cNvGrpSpPr/>
          <p:nvPr/>
        </p:nvGrpSpPr>
        <p:grpSpPr>
          <a:xfrm>
            <a:off x="4357800" y="1071720"/>
            <a:ext cx="2437920" cy="4723560"/>
            <a:chOff x="4357800" y="1071720"/>
            <a:chExt cx="2437920" cy="4723560"/>
          </a:xfrm>
        </p:grpSpPr>
        <p:pic>
          <p:nvPicPr>
            <p:cNvPr id="196" name="Picture 22" descr="gardnerella"/>
            <p:cNvPicPr/>
            <p:nvPr/>
          </p:nvPicPr>
          <p:blipFill>
            <a:blip r:embed="rId2"/>
            <a:stretch/>
          </p:blipFill>
          <p:spPr>
            <a:xfrm>
              <a:off x="4357800" y="2641320"/>
              <a:ext cx="2437920" cy="15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8" descr="gardnerella"/>
            <p:cNvPicPr/>
            <p:nvPr/>
          </p:nvPicPr>
          <p:blipFill>
            <a:blip r:embed="rId3"/>
            <a:stretch/>
          </p:blipFill>
          <p:spPr>
            <a:xfrm>
              <a:off x="4357800" y="1071720"/>
              <a:ext cx="2437920" cy="15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1" descr="gardnerella"/>
            <p:cNvPicPr/>
            <p:nvPr/>
          </p:nvPicPr>
          <p:blipFill>
            <a:blip r:embed="rId4"/>
            <a:stretch/>
          </p:blipFill>
          <p:spPr>
            <a:xfrm>
              <a:off x="4357800" y="4211640"/>
              <a:ext cx="2437920" cy="158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2. candidi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45% mendpt infeksi dua atau lebih episode pertah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ada yang menjadi chron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75% wanita pernah mendpt infeksi ini sekali dalam hidup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85 – 90% disebabkan Candida albic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pecies yg lain: C glabrata dan C tropicali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andida :dimorphic fu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ml mikroorganisme sangat menentukan ada tidaknya gx yang ditimbulkan : bila  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/ ml asymptomatric, bila &gt; 10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ymptom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aktor predisposi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emakaian antibiot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Diabetes meli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Kehami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vaginitis_1"/>
          <p:cNvPicPr/>
          <p:nvPr/>
        </p:nvPicPr>
        <p:blipFill>
          <a:blip r:embed="rId1"/>
          <a:stretch/>
        </p:blipFill>
        <p:spPr>
          <a:xfrm>
            <a:off x="0" y="457200"/>
            <a:ext cx="4495680" cy="3060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yeastinfection2"/>
          <p:cNvPicPr/>
          <p:nvPr/>
        </p:nvPicPr>
        <p:blipFill>
          <a:blip r:embed="rId2"/>
          <a:stretch/>
        </p:blipFill>
        <p:spPr>
          <a:xfrm>
            <a:off x="5043600" y="2719440"/>
            <a:ext cx="3247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Diagno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685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ischarge dapat berupa cairan atau kental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Gatal,Dysparenia, rasa terbakar , rasa sakit &amp; dysuri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ada  pem terlihat erythema dan odema lab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ymptoms  terdiri : vulvar pruritus dan vaginal discharge seperti ke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Vagina erythematous ditempeli dischar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H vagina pada umumnya normal ( &lt; 4.5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engan microscope 80% kasus akan nampak adanya elemen  jamur dapat berupa budding yeast, myceli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hiff test negat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Untuk memastikan dx dapat dilakukan cultur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eat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Vulvovaginal candidiasis topical treatment regi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utoconazole : 2%  cream 5 g intravag selama 3 ha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lotrim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% cream 5 g intravag selama 7 – 14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00 mg vag tab  selama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00 mg vag tab  2 tab selama 3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500 mg vag tab single d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icon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 % cream 5 g intravag selama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00mg vag supp selama 3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00 mg vag supp selama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icon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6,5 % oitment 5g  intravag single d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rcon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0,4% cream 5 g intravag  selama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0,8% cream 5 g intravag selama 3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80 mg suppositoria  selama 3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3. Trichomoni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enyebab : - Trichomonas vaginalis – parasit berflagella yang ditularkan secara sex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ransmision rate tinggi :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arasit  ini bersifat anaerob dan mempunyai kemampuan membentuk hydrogen yg berikatan dg oksigen shg suasana lingkungannya menjadi anaer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rophozoid 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60 % pasien BV bersama sama terinfeksi trichomonas vagina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Keluhan ginekologi akibat radang sering dijumpa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danya hubungan dunia luar dengan cav periton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encegahan dan perluasan infeksi akibat adanya pertahanan pada masing masing  tractus genita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Vul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Vag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ervi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ndometr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ub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chomoni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8104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kubasi 3 hr – 4 mingg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% asimptoma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kret vagina kuning kehijauan, berbusa, leng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ysuria, dyspareunia, nyeri &amp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atal pd vulv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ulva kemerahan, edematou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amp; excoria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5429160" y="128592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5429160" y="3929040"/>
            <a:ext cx="30574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tricho_vaginalis_tropho_3"/>
          <p:cNvPicPr/>
          <p:nvPr/>
        </p:nvPicPr>
        <p:blipFill>
          <a:blip r:embed="rId1"/>
          <a:stretch/>
        </p:blipFill>
        <p:spPr>
          <a:xfrm>
            <a:off x="152280" y="158760"/>
            <a:ext cx="4267440" cy="2965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tricho_vaginalis_trophozoite_2"/>
          <p:cNvPicPr/>
          <p:nvPr/>
        </p:nvPicPr>
        <p:blipFill>
          <a:blip r:embed="rId2"/>
          <a:stretch/>
        </p:blipFill>
        <p:spPr>
          <a:xfrm>
            <a:off x="4648320" y="380880"/>
            <a:ext cx="4267080" cy="290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tricho_vaginalis_trophozoite_1"/>
          <p:cNvPicPr/>
          <p:nvPr/>
        </p:nvPicPr>
        <p:blipFill>
          <a:blip r:embed="rId3"/>
          <a:stretch/>
        </p:blipFill>
        <p:spPr>
          <a:xfrm>
            <a:off x="1722600" y="4425840"/>
            <a:ext cx="1736640" cy="1359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agnosis</a:t>
            </a:r>
            <a:br>
              <a:rPr sz="3600"/>
            </a:br>
            <a:br>
              <a:rPr sz="3600"/>
            </a:br>
            <a:r>
              <a:rPr b="0" lang="en-US" sz="2200" spc="-1" strike="noStrike">
                <a:solidFill>
                  <a:srgbClr val="c0504d"/>
                </a:solidFill>
                <a:latin typeface="Arial"/>
              </a:rPr>
              <a:t>Symptoms sangat ditentukan oleh reaksi local immune factors dan inoculum size. Seringkali asymtomat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22093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Adanya  vaginal discharge prufuse,,purulent &amp; malodorous kadang 2 disertai rasa gatal (vulvar pruritus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ekret  vagina menetes keluar dari vag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ada penderita dg jumlah parasit yang banyak didapatkan       patchy vaginal er</a:t>
            </a:r>
            <a:r>
              <a:rPr b="0" lang="id-ID" sz="2400" spc="-1" strike="noStrike">
                <a:solidFill>
                  <a:srgbClr val="0000ff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hema dan colpitis mascularis (strawberry cervix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H vagina  &gt;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engan microscope terlihat trichomonas vaginalis dan jumlah leukosit mening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idapatkan pula clue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hiff test posit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6680"/>
            <a:ext cx="83851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219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rug of choice metronidazole </a:t>
            </a:r>
            <a:r>
              <a:rPr b="0" lang="id-ID" sz="24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ral single dose atau multidose dengan cure rate 9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exual partner harus diob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etronidazole gel yang sangat efektif untuk BV, tidak diperlukan untuk T 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ada wanita dg pengobatan pertama tidak ada respone maka diberikan ulangan  dg metronidazol 3 x 500mg /hari selam 7 hari, dan bila ternyata  ulangan ini tidak berhasil berikan single dose 2 gr metronidazole /hari selama  3 – 5 har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ila repeated treatment tetap tidak berhasil lakukan culture untuk sensitivity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pes Simplex Virus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yakit ulkus genital terbany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SV-1 (lesi oral &gt;&gt;, lesi genital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SV-2 (lesi geni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mptomatik – simptoma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tularkan melalui hubungan seks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pes Simplex Virus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4810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jala 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kubasi 1 ming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si vesikel, erythema, papula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uptur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lku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krusta &amp; menyembuh atau infeksi sekun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sa terbakar dan nyeri heb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am, malaise &amp; cephalg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4391" t="29296" r="67058" b="18947"/>
          <a:stretch/>
        </p:blipFill>
        <p:spPr>
          <a:xfrm>
            <a:off x="5214960" y="1643040"/>
            <a:ext cx="32860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pes Simplex Virus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unitas norm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rtumbuhan virus terhamb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penyembuhan mulai 1-2 h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x awal antivi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iral 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aran  prim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se vesikuler lebih lama, nyeri timbul 7-10 hari, penyembuhan lebih lama (2-3 mingg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aran sekund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bih ringan, healing 2 mg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pes Simplex Virus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481040"/>
            <a:ext cx="3543480" cy="45259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gnosi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jala dan pemeriksaan klini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ultur jarin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SV-2 antibo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9"/>
          <p:cNvSpPr/>
          <p:nvPr/>
        </p:nvSpPr>
        <p:spPr>
          <a:xfrm>
            <a:off x="4286160" y="1500120"/>
            <a:ext cx="4643640" cy="485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p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vira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cyclovir 3 x 400 mg atau 5 x 200 mg (7-10 h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Recurrent : Acyclovir 3 x 400 mg (5 hari) atau 2 x 800 mg (2 h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getik (NSA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E : perjalanan &amp; penularan penya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phi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481040"/>
            <a:ext cx="4400640" cy="4525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MS disebabkan Treponema pallidu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sial-ekonomi rendah, sexual multipartn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si khas : chancre (cervix, vagina, vulva,anu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lkus tidak nyeri dengan tepi meningg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kubasi 3 ming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si timbul 10 hari -12 minggu stl papar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anpa Tx , lesi sembuh spontan &gt; 6 ming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5286240" y="1500120"/>
            <a:ext cx="30718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phi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85920"/>
            <a:ext cx="8229600" cy="4929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api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oxycycline 2x 100 mg  selama 2 ming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etracycline 4 x 500 mg selama 2 ming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143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ara masuknya kuman dalam trac genit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7124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itus : (ST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rauma akibat perluk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enda a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indakan / pemeriksaan dengan alat tidak ste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ada waktu / sesudah partus / abor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Keadaan umum yang menu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Hubungan dengan dunia luar lebih terbu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enjalaran radang organ seki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Haematogen dan limp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Lymphogranuloma Venereum (LG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8104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MS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lamydia trachoma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ejal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kubasi 3 hr – 2 mgg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esikel/papula  di dinding vagina – cervi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imfadenopati inguinal/femoral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uptur (Malaise &amp; demam)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roove sig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atal &amp; ulkus rektum dg sekret muco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5214960" y="1357200"/>
            <a:ext cx="3009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ymphogranuloma Venereum (LGV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481040"/>
            <a:ext cx="8229600" cy="1519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a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Kultur swab/aspirasi limfonod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PC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ontent Placeholder 4"/>
          <p:cNvSpPr/>
          <p:nvPr/>
        </p:nvSpPr>
        <p:spPr>
          <a:xfrm>
            <a:off x="428760" y="3500280"/>
            <a:ext cx="8358120" cy="192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erap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oxycycline 2 x 100 mg (21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rythromycin 4 x 500 mg (21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nococcal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81040"/>
            <a:ext cx="3757680" cy="4525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PMS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Neisseria gonorrho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ejala 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kret vagina putih-kuning, purulen, profu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lenjar bartholin &amp; skene, uretra, endometrium, tuba fallopi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Evaluasi &amp; terapi partner s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Abstinensia s/ terapi selesa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Content Placeholder 9"/>
          <p:cNvSpPr/>
          <p:nvPr/>
        </p:nvSpPr>
        <p:spPr>
          <a:xfrm>
            <a:off x="5072040" y="1500120"/>
            <a:ext cx="36432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rapi 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single do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ftriaxone 125 m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fixime 400 m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profloxacin 500 m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loxacine 400 m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ofloxacin 250 m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yloma acumin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Papillomavirus (HPV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pula datar – verucous 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si eksofit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rapi 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ksisi atau elektrosurg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yotherapy , Las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pikal : Podofilin 0,5% solution / gel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x/hari selama 3 hari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4 hari tx(-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iulang s/ 4 kal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857920" y="1285920"/>
            <a:ext cx="30384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vic Inflammatory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ksi organ reproduksi bagian a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yeri pelvis/abdomen bagian baw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yeri goyang cerv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u &amp; nyeri pada rahim dan adnex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kret vagina kekuningan, mucopuru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am, menggigil, anoreksia, mual-munt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luhan traktus urinar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vic Inflammatory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rap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ra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x 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evofloxacin 1x500 mg (14 h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Ofloxacin 1x400 mg ± metronidazole 2x 500 mg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4 hr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eftriaxone 250 mg i.m + Doxycycline 2x1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g ± metronidazole 2x 500 mg (14 har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240" y="6094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tahanan melawan mik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( Native / Innate Immunity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er fisik dan kimia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it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ekres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 fagosit ( netrofil, makrofa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darah (komplemen, mediator rad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okin (regulasi / koordinasi sel-sel Inn. 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ora normal vagina, lendir servi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festasi  infeks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ang  atau lesi pada genetalia eks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ulvovagin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s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met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nex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es tuboova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luhan atau gejala yang 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ret  abno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i, rad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Bagaimana  organ genetalia yang normal 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vag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ra normal vagina 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erobik dan Anaerob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.u hydrogen peroxide producing lactobac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 vagina dibawah 4,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 epitel vagina kaya akan glycogen dan dipengaruhi oleh horman est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ksi hormonal dapat dilihat dg cara melihat perbandingan sel epitel vag /  sitologi vagina ; sel basal, sel intermediet, sel superfi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0:16:38Z</dcterms:created>
  <dc:creator>BenQ CUSTOMER</dc:creator>
  <dc:description/>
  <dc:language>en-US</dc:language>
  <cp:lastModifiedBy>User</cp:lastModifiedBy>
  <cp:lastPrinted>2013-05-17T21:47:17Z</cp:lastPrinted>
  <dcterms:modified xsi:type="dcterms:W3CDTF">2013-10-05T12:07:38Z</dcterms:modified>
  <cp:revision>46</cp:revision>
  <dc:subject/>
  <dc:title>INFEKSI GINEKOLOGI</dc:title>
</cp:coreProperties>
</file>