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A93-2765-4B9C-B53F-92A6E203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5CF-F85F-4C1D-84BE-EA3B0BB9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FA0-7B3D-4AEC-A19D-2634586D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84D-98F5-4543-BD55-EA8F566E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5867-A932-45D6-8B46-9B5846DB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A204-2797-42F0-9608-8413BEA3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73C-D9D2-494D-BECC-C60A196F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8CB2-F8FE-4CC9-893E-D55983A1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4C66-A111-45A0-9256-9289EBAD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4A60-F7B8-49C8-B9EF-EB4EA532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F28-392C-4D64-AF4F-B9BB20A8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AFD0-466C-4B88-8112-5697FEFC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EE10F9-E09F-4A6C-AF94-F5131AEA389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2A56F-74FB-4D7B-AD19-A080ED1CFAE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0:35:32Z</dcterms:created>
  <dc:creator>최봉수</dc:creator>
  <dc:description/>
  <dc:language>en-US</dc:language>
  <cp:lastModifiedBy>맛있다 군만두</cp:lastModifiedBy>
  <dcterms:modified xsi:type="dcterms:W3CDTF">2024-09-24T08:07:28Z</dcterms:modified>
  <cp:revision>3</cp:revision>
  <dc:subject/>
  <dc:title>슬라이드 1</dc:title>
</cp:coreProperties>
</file>