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B30-5151-46D3-8AAB-63EB980A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981-7761-4B8F-ACED-4F44D74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EC3-5E9F-4234-B31A-58BD0885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0C7-5859-41A4-8C70-E7637B48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1AE-1981-4E4D-B1D0-8AEAAA7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3E4-D075-41B0-A4FE-4A6A1C03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982-59F8-440B-9D68-5B6DEDA7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F28-38D5-41D2-ABE6-B93859C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DE1-8A93-4F96-A3EA-29AF37A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F11-4F15-41B3-9E9B-3FD77BD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A67-87A2-4B88-BD24-90F0DFA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897-B90B-45D0-A327-6DDC8B6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6F448-8F06-484F-A4F3-2B9D2C12D1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095F8-13C9-4C36-9C69-695B44B9DAD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0:35:32Z</dcterms:created>
  <dc:creator>최봉수</dc:creator>
  <dc:description/>
  <dc:language>en-US</dc:language>
  <cp:lastModifiedBy>맛있다 군만두</cp:lastModifiedBy>
  <dcterms:modified xsi:type="dcterms:W3CDTF">2024-09-24T08:07:28Z</dcterms:modified>
  <cp:revision>3</cp:revision>
  <dc:subject/>
  <dc:title>슬라이드 1</dc:title>
</cp:coreProperties>
</file>