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CBD3-7C23-47F4-98BB-30D0BE25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D32E-3B00-4FB5-9795-FC7B6360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313A-6585-4172-B44D-E831C2D7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D00C-51D8-47CF-9D0E-D2AF4696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CB04-CFE6-42DB-BC4D-75AA04A2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DD66-DB3D-4553-8185-6FED6358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B684-86E8-48D6-8435-D8CEC4F4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7190-024E-4E55-9CCB-E041B08D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51FE-9FB1-4D3C-AE99-44773E1C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AA16-2D06-4D9B-BC26-49FE828D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1836-E4F7-4A8B-B7F2-947D93D1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0391-B028-49D6-AE8C-A61E9DBF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D643-D9B7-4972-8EDA-E00707EDC019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ALFABET98"/>
              </a:rPr>
              <a:t>SİVİL SAVUNMA GÜNÜ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2 Resim" descr="aptfire_1_.gif"/>
          <p:cNvPicPr/>
          <p:nvPr/>
        </p:nvPicPr>
        <p:blipFill>
          <a:blip r:embed="rId1"/>
          <a:stretch/>
        </p:blipFill>
        <p:spPr>
          <a:xfrm>
            <a:off x="357120" y="57168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43" name="3 Resim" descr="fireman.gif"/>
          <p:cNvPicPr/>
          <p:nvPr/>
        </p:nvPicPr>
        <p:blipFill>
          <a:blip r:embed="rId2"/>
          <a:stretch/>
        </p:blipFill>
        <p:spPr>
          <a:xfrm>
            <a:off x="6643800" y="57168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928800" y="285840"/>
          <a:ext cx="4500360" cy="6286320"/>
        </p:xfrm>
        <a:graphic>
          <a:graphicData uri="http://schemas.openxmlformats.org/drawingml/2006/table">
            <a:tbl>
              <a:tblPr/>
              <a:tblGrid>
                <a:gridCol w="4500360"/>
              </a:tblGrid>
              <a:tr h="341280">
                <a:tc>
                  <a:txBody>
                    <a:bodyPr lIns="59760" rIns="59760" tIns="29880" bIns="29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0000"/>
                          </a:solidFill>
                          <a:latin typeface="ALFABET98"/>
                        </a:rPr>
                        <a:t>SİVİL SAVUN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45040">
                <a:tc>
                  <a:txBody>
                    <a:bodyPr lIns="59760" rIns="5976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Edirne’den Ardahan’a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Samsun’dan İskenderun’a uzanan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Devletin en şefkatli elleridir.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Sivil Savunma.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Savaşta ve barışta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Depremde, selde, yangında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Her tür afette,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Uzanır zorda kalan vatandaşına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Çeker alır ölüm tuzaklarından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Sarar yaralarını.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Sivil halkla beraber 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Sivil halkın yanında 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Karda, kışta her koşulda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Hazırdır göreve.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Karagün dostu,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Görevinin, özgüvenin okuludur</a:t>
                      </a: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Sivil Savunma.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Cihat SOLM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4398840" y="2143080"/>
            <a:ext cx="43880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71720" y="214200"/>
          <a:ext cx="4143240" cy="6554880"/>
        </p:xfrm>
        <a:graphic>
          <a:graphicData uri="http://schemas.openxmlformats.org/drawingml/2006/table">
            <a:tbl>
              <a:tblPr/>
              <a:tblGrid>
                <a:gridCol w="4143240"/>
              </a:tblGrid>
              <a:tr h="393480">
                <a:tc>
                  <a:txBody>
                    <a:bodyPr lIns="62640" rIns="62640" tIns="31320" bIns="3132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ff0000"/>
                          </a:solidFill>
                          <a:latin typeface="ALFABET98"/>
                        </a:rPr>
                        <a:t>SİVİL SAVUN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61400">
                <a:tc>
                  <a:txBody>
                    <a:bodyPr lIns="62640" rIns="62640" tIns="31320" bIns="31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Afet,Savaş Olursa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Yetişir Sivil Savunma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Kurtarır Sivilleri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Yardım Eder Onlara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Savaş Yıkıntı Afette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Veririz Biz Elele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Sivil Savunma İle Birlikte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Mutlu Oluruz Yine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Gelin Paylaşalım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Bu Sıkıntıları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Umutlarla Saralım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Köyü Anılarımızı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Mutluluğun Altında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Yatar Sivil Savunma 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Mutlu Oluruz Tekrar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Sağol Sivil Savunma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4071960" y="192888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357200" y="142920"/>
          <a:ext cx="3927600" cy="6500880"/>
        </p:xfrm>
        <a:graphic>
          <a:graphicData uri="http://schemas.openxmlformats.org/drawingml/2006/table">
            <a:tbl>
              <a:tblPr/>
              <a:tblGrid>
                <a:gridCol w="3927600"/>
              </a:tblGrid>
              <a:tr h="399960">
                <a:tc>
                  <a:txBody>
                    <a:bodyPr lIns="62640" rIns="62640" tIns="31320" bIns="3132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İVİL SAVUN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0920">
                <a:tc>
                  <a:txBody>
                    <a:bodyPr lIns="62640" rIns="62640" tIns="31320" bIns="31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Afet,Savaş Olursa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Yetişir Sivil Savunma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Kurtarır Sivilleri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Yardım Eder Onlara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Savaş Yıkıntı Afette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Veririz Biz Elele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Sivil Savunma İle Birlikte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Mutlu Oluruz Yine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Gelin Paylaşalım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Bu Sıkıntıları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Umutlarla Saralım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Köyü Anılarımızı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Mutluluğun Altında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Yatar Sivil Savunma 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Mutlu Oluruz Tekrar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LFABET98"/>
                        </a:rPr>
                        <a:t>Sağol Sivil Savunma</a:t>
                      </a:r>
                      <a:br>
                        <a:rPr sz="12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640" marR="62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4429080" y="2357280"/>
            <a:ext cx="4346640" cy="28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8:49:50Z</dcterms:created>
  <dc:creator>Hikmet</dc:creator>
  <dc:description/>
  <dc:language>en-US</dc:language>
  <cp:lastModifiedBy>Hikmet</cp:lastModifiedBy>
  <dcterms:modified xsi:type="dcterms:W3CDTF">2008-02-29T02:53:57Z</dcterms:modified>
  <cp:revision>3</cp:revision>
  <dc:subject/>
  <dc:title>SİVİL SAVUNMA GÜNÜ</dc:title>
</cp:coreProperties>
</file>