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D2A-9259-49AC-A37E-246DB592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CEE-1DD0-429F-8FB4-6D4BF9D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D59-3470-4DA9-8DA0-8BF20E2A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790-5AB7-4558-B36E-7FE91243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A54-3923-4E1D-9C71-C818370C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D46-8C92-4C70-9596-24EB45B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2F6-49D5-492D-B6F3-15E22A4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8BB-8425-4354-88CA-C15517A7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B18-0687-48E1-86C3-7FF4260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E8C-6E38-4C61-8709-E7D41C3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C2E-F5C2-4EB4-BCBD-6789DD4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1A3-DA64-402C-B7EE-8E92DC9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080-B9D7-4127-BEF3-2396777EDCD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LFABET98"/>
              </a:rPr>
              <a:t>SİVİL SAVUNMA GÜN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aptfire_1_.gif"/>
          <p:cNvPicPr/>
          <p:nvPr/>
        </p:nvPicPr>
        <p:blipFill>
          <a:blip r:embed="rId1"/>
          <a:stretch/>
        </p:blipFill>
        <p:spPr>
          <a:xfrm>
            <a:off x="357120" y="5716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43" name="3 Resim" descr="fireman.gif"/>
          <p:cNvPicPr/>
          <p:nvPr/>
        </p:nvPicPr>
        <p:blipFill>
          <a:blip r:embed="rId2"/>
          <a:stretch/>
        </p:blipFill>
        <p:spPr>
          <a:xfrm>
            <a:off x="6643800" y="5716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28800" y="285840"/>
          <a:ext cx="4500360" cy="628632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341280">
                <a:tc>
                  <a:txBody>
                    <a:bodyPr lIns="59760" rIns="59760" tIns="29880" bIns="29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LFABET98"/>
                        </a:rPr>
                        <a:t>SİVİL SAVUN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5040">
                <a:tc>
                  <a:txBody>
                    <a:bodyPr lIns="59760" rIns="5976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Edirne’den Ardahan’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msun’dan İskenderun’a uzanan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Devletin en şefkatli elleridir.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ta ve barışt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Depremde, selde, yangınd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Her tür afette,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zanır zorda kalan vatandaşın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Çeker alır ölüm tuzaklarından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rar yaralarını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halkla beraber 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halkın yanında 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arda, kışta her koşuld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Hazırdır göreve.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aragün dostu,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örevinin, özgüvenin okuludur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Cihat SOLM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398840" y="2143080"/>
            <a:ext cx="4388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71720" y="214200"/>
          <a:ext cx="4143240" cy="655488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393480">
                <a:tc>
                  <a:txBody>
                    <a:bodyPr lIns="62640" rIns="62640" tIns="31320" bIns="313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0000"/>
                          </a:solidFill>
                          <a:latin typeface="ALFABET98"/>
                        </a:rPr>
                        <a:t>SİVİL SAVUN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61400">
                <a:tc>
                  <a:txBody>
                    <a:bodyPr lIns="62640" rIns="62640" tIns="31320" bIns="31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Afet,Savaş Olurs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etişir Sivil Savunm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urtarır Sivilleri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rdım Eder Onlara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 Yıkıntı Afet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Veririz Biz Elel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 İle Birlik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Yine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elin Paylaş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Bu Sıkıntıları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mutlarla Sar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öyü Anılarımızı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luğun Altınd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tar Sivil Savunma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Tekrar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ğol Sivil Savunma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07196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7200" y="142920"/>
          <a:ext cx="3927600" cy="65008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399960">
                <a:tc>
                  <a:txBody>
                    <a:bodyPr lIns="62640" rIns="62640" tIns="31320" bIns="313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İVİL SAVUN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0920">
                <a:tc>
                  <a:txBody>
                    <a:bodyPr lIns="62640" rIns="62640" tIns="31320" bIns="31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Afet,Savaş Olurs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etişir Sivil Savunm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urtarır Sivilleri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rdım Eder Onlara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 Yıkıntı Afet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Veririz Biz Elel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 İle Birlik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Yine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elin Paylaş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Bu Sıkıntıları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mutlarla Sar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öyü Anılarımızı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luğun Altınd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tar Sivil Savunma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Tekrar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ğol Sivil Savunma</a:t>
                      </a:r>
                      <a:br>
                        <a:rPr sz="12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429080" y="2357280"/>
            <a:ext cx="434664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49:50Z</dcterms:created>
  <dc:creator>Hikmet</dc:creator>
  <dc:description/>
  <dc:language>en-US</dc:language>
  <cp:lastModifiedBy>Hikmet</cp:lastModifiedBy>
  <dcterms:modified xsi:type="dcterms:W3CDTF">2008-02-29T02:53:57Z</dcterms:modified>
  <cp:revision>3</cp:revision>
  <dc:subject/>
  <dc:title>SİVİL SAVUNMA GÜNÜ</dc:title>
</cp:coreProperties>
</file>