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F67CC-4067-4C4D-B46F-C4C4510AB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E868E-AE89-4B1F-BF9C-E4FC28988669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4FDB-6CD7-4E5B-A166-973E0BF3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F4947-31D1-4791-8CC6-99E49644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73FD-89B9-4577-9317-E46E2A35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4DCCA-CDD0-4A14-9E0E-DE483CFE3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52B2-0D60-4318-8E12-C88E91329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9A1F-612F-4BF7-82CA-7D185B654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ADF4-D1B4-48F7-B10F-77658660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95582-82F8-48EF-9A57-41FD0715A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1873-02A3-497D-897C-241BCC5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1EAF-6164-4892-A72B-D45591E8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A319-A602-4C4F-B35E-4F1FA92E0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9DA6-8305-4F02-A3E3-B4F08FD7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93416-B2FD-4FF8-952F-75CC012F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1B625-955F-48DB-A8E9-CD0D98EB5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7913-E57A-4BED-83A3-3A31DA07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C6CCD-B8C1-42AC-BF72-80906F7D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FDD2-F930-49B8-ADD1-DEC1000D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421C0-AF58-43B9-9462-C004317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0C274-B81D-4846-82F7-3332F2B8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0367E-6B38-48B7-A248-36144B29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EC96B-4523-43FA-A98D-DEC079D64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1521-D9BB-4FCB-8F56-4AFD4258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89C28-0CB9-4370-AD6A-149A39C3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CD174-5B40-4D03-8DDD-33EB0437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D528-C3EE-4981-A994-74856329E1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37BE7-ADD0-48F0-B53A-9A6D3AC72CD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google.com.my/imgres?imgurl=http://www.thecrookstoncollection.com/Collection/medslides/Slides/Splenomegaly-Hairy-cell-Leu.jpg&amp;imgrefurl=http://www.thecrookstoncollection.com/Collection/medslides/Medslides8.htm&amp;h=485&amp;w=400&amp;sz=49&amp;hl=en&amp;start=3&amp;tbnid=k8GKKl0F9pixdM:&amp;tbnh=129&amp;tbnw=106&amp;prev=/images%3Fq%3Dsplenomegaly%26svnum%3D10%26hl%3Den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228600" y="1736640"/>
            <a:ext cx="967752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BỆNH BẠCH CẦU MẠ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ÒNG HẠT 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ê Thị Hoàng M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2" descr="http://www.pathologystudent.com/wp-content/uploads/2009/05/cml-1024x75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6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3" descr="C:\Documents and Settings\FFK\My Documents\My Pictures\Hinh huyet hoc\Leukemia\cml.jpg"/>
          <p:cNvPicPr/>
          <p:nvPr/>
        </p:nvPicPr>
        <p:blipFill>
          <a:blip r:embed="rId1"/>
          <a:stretch/>
        </p:blipFill>
        <p:spPr>
          <a:xfrm>
            <a:off x="3240" y="317520"/>
            <a:ext cx="91342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ẨN ĐOÁN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43" name="Picture 7" descr="wcd%20PBS%20slide"/>
          <p:cNvPicPr/>
          <p:nvPr/>
        </p:nvPicPr>
        <p:blipFill>
          <a:blip r:embed="rId1"/>
          <a:stretch/>
        </p:blipFill>
        <p:spPr>
          <a:xfrm>
            <a:off x="6172200" y="1523880"/>
            <a:ext cx="2971800" cy="102240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144" name="Picture 8" descr="wcd%20BM%20asp"/>
          <p:cNvPicPr/>
          <p:nvPr/>
        </p:nvPicPr>
        <p:blipFill>
          <a:blip r:embed="rId2"/>
          <a:stretch/>
        </p:blipFill>
        <p:spPr>
          <a:xfrm>
            <a:off x="6172200" y="2895480"/>
            <a:ext cx="2971800" cy="1041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DR0000533336"/>
          <p:cNvPicPr/>
          <p:nvPr/>
        </p:nvPicPr>
        <p:blipFill>
          <a:blip r:embed="rId3"/>
          <a:stretch/>
        </p:blipFill>
        <p:spPr>
          <a:xfrm>
            <a:off x="6172200" y="4267080"/>
            <a:ext cx="2971800" cy="1770120"/>
          </a:xfrm>
          <a:prstGeom prst="rect">
            <a:avLst/>
          </a:prstGeom>
          <a:ln w="0">
            <a:noFill/>
          </a:ln>
        </p:spPr>
      </p:pic>
      <p:sp>
        <p:nvSpPr>
          <p:cNvPr id="146" name="Oval 10"/>
          <p:cNvSpPr/>
          <p:nvPr/>
        </p:nvSpPr>
        <p:spPr>
          <a:xfrm>
            <a:off x="228600" y="2666880"/>
            <a:ext cx="4267080" cy="1371600"/>
          </a:xfrm>
          <a:prstGeom prst="ellipse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Arial"/>
              </a:rPr>
              <a:t>LÂM SÀNG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228600" y="609480"/>
          <a:ext cx="8610480" cy="57913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362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iêu chuẩn của WH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iêu chuẩn của Châu Âu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361944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tế bào blast trong máu ngoại biên hoặc trong tủy từ 10 – 19%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basophil trong máu &gt; 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Giảm tiểu cầu (&lt;100 x 10</a:t>
                      </a:r>
                      <a:r>
                        <a:rPr b="0" lang="en-US" sz="2000" spc="-1" strike="noStrike" baseline="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/L) kéo dài không liên quan đến điều tr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ăng tiểu cầu (&gt;1000 x 10</a:t>
                      </a:r>
                      <a:r>
                        <a:rPr b="0" lang="en-US" sz="2000" spc="-1" strike="noStrike" baseline="30000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/L) không đáp ứng điều tr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tế bào blast trong máu ngoại biên hoặc trong tủy từ 15 – 29%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tế bào blast và promyelocyte trong máu ngoại biên hoặc tủy &gt;30%, với blast &lt; 30%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ỉ lệ basophil trong máu &gt; 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Giảm tiểu cầu kéo dài không liên quan đến điều tr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Tăng kích thước lách và tăng số lượng bạch cầu không đáp ứng với điều trị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  <a:tr h="72396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514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514"/>
                          </a:solidFill>
                          <a:latin typeface="Times New Roman"/>
                          <a:ea typeface="Times New Roman"/>
                        </a:rPr>
                        <a:t>Xuất hiện thêm bất thường về di truyền học tế bà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879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HẨN ĐOÁN PHÂN BiỆ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Đa hồng cầu nguyên ph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Đa tiểu cầu nguyên phá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ách to sinh tủ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5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ản ứng giả leucemi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25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ĐIỀU TR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Đặc hiệ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óa trị liệ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sulfa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droxyure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on-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eeve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hép tủy xươ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Điều trị nâng đỡ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yền máu: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CĐ tương đối/ BC &gt;100k/</a:t>
            </a:r>
            <a:r>
              <a:rPr b="1" lang="en-US" sz="2800" spc="-1" strike="noStrike">
                <a:solidFill>
                  <a:srgbClr val="00ffff"/>
                </a:solidFill>
                <a:latin typeface="Symbol"/>
                <a:ea typeface="Symbol"/>
              </a:rPr>
              <a:t>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òng và điều trị tăng acid uri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òng và điều trị tăng độ nhớt máu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  <a:ea typeface="Arial"/>
              </a:rPr>
              <a:t>ĐIỀU TR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401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Điều trị đặc hiệ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Mục tiêu điều trị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3600" indent="-457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ổ điển: lui bệnh về huyết họ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69640" indent="-4572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uyết đồ hoàn toàn bình thường với SLBC &lt;10k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69640" indent="-4572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TC&lt;450k/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69640" indent="-4572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ế bào non dòng tủy trong  máu ngoại vi (-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69640" indent="-457200">
              <a:lnSpc>
                <a:spcPct val="10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ách không 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813600" indent="-457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ới: lui bệnh di truyền tế bào họ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57560" indent="-4575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Điều trị hỗ trợ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ruyền chế phẩm máu, đtrị nhiễm trùng, dinh dưỡng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813600" indent="-45756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Arial"/>
              <a:ea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Giai đoạn mạn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ui bệnh về HH, di truyền tế bào họ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Giai đoạn cấp: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iống leucemie cấ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Ghép tủ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 tốt/ giai đoạn mạ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Tia xạ lách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vai trò hạn chế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Arial"/>
              </a:rPr>
              <a:t>Cắt lác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: hiế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ường lác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ách quá to, chèn é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 </a:t>
            </a:r>
            <a:r>
              <a:rPr b="1" i="1" lang="en-US" sz="24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Busulfan: (Misulban, Myleran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nhóm Alky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tác dụ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 hủy các tế bào gốc trong tủy xương,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lui bệnh lâu dài không cần duy trì thường xuyên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gày nay, 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Busulfan thường chỉ dùng để diệt tủy trong các phác đồ ghép tủy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độc tín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 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suy tủy không hồi phục, viêm mô kẽ phổi, xơ phổi, viêm g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ử vong</a:t>
            </a: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Arial"/>
                <a:ea typeface="Arial"/>
              </a:rPr>
              <a:t>độc tính nhẹ hơn: vô sinh, xạm da, rụng tóc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2400" spc="-1" strike="noStrike" u="sng">
                <a:solidFill>
                  <a:srgbClr val="ffff00"/>
                </a:solidFill>
                <a:uFillTx/>
                <a:latin typeface="VNI-Helve"/>
              </a:rPr>
              <a:t>Hydroxyl Urea</a:t>
            </a:r>
            <a:r>
              <a:rPr b="1" lang="vi-VN" sz="2400" spc="-1" strike="noStrike" u="sng">
                <a:solidFill>
                  <a:srgbClr val="ffff00"/>
                </a:solidFill>
                <a:uFillTx/>
                <a:latin typeface="VNI-Helve"/>
              </a:rPr>
              <a:t>: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VNI-Helve"/>
              </a:rPr>
              <a:t> (Hydrea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söû duïng roäng raõi d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13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taùc duïng nhan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13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caùch duøng ñôn giaûn va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05840" indent="-200880">
              <a:lnSpc>
                <a:spcPct val="13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ít gaây ñoäc tính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(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ít aûnh höôûng leân teá baøo goác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):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 roái loaïn tieâu hoùa nhö noân oùi, tieâu chaûy vaø phaûn öùng soát, dò öùng (ñoû da, ngöùa), ñoâi khi gaây ra tình traïng HC to (MCV:130–140 fl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K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eát quaû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thôøi gian soáng trung bình cuûa nhoùm Busulfan laø 45,4 thaùng so vôùi nhoùm Hydroxyl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Urea laø 58,2 thaùng (P=0,008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-251280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droxyurea (Hydrea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07960" indent="-2008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0mg/kg/24h, uống mỗi 6h đến khi SLBC &lt; 10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07960" indent="-2008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LBC: 50 – 10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: 50mg/kg/24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407960" indent="-20088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LBC: 10 - 2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: 10 – 20mg/kg/24h, duy trì 3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&lt; SLBC &lt;1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6537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ĐỊNH NGHĨ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ệnh ác tính hệ tạo máu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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ác 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bạch cầu đã biệt hó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nhiều và cũng diễn tiến tới tử vong nhưng chậm hơn trong bệnh bạch cầu cấp tính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 u="sng">
                <a:solidFill>
                  <a:srgbClr val="ffff00"/>
                </a:solidFill>
                <a:uFillTx/>
                <a:latin typeface="VNI-Helve"/>
              </a:rPr>
              <a:t>Interferon:</a:t>
            </a: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D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uøng ñuôøng tieâm döôùi da, taùc duïng coù theå keùo daøi 2 –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3 ngaøy, duøng moãi ngaøy hay 3 laàn/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tuaà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Hieän nay, ít đöôïc söû duïng do taùc duïng phuï, chi phí cao vaø ít hieäu quaû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Gleevec</a:t>
            </a:r>
            <a:r>
              <a:rPr b="1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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(Imatinib mesylate)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ức chế Bcr-Abl tyrosin kynas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ung nạp tốt, hiệu quả ca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Lieàu söû duïng: 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3</a:t>
            </a: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00-800 mg/ngaøy</a:t>
            </a: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, thôøi gian söû duïng: töø 2 ñeán 3 naêm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Keát quaû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96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% lui beänh hoaøn toaøn veà maët huyeát hoï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68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% lui beänh hoaøn toaøn veà di truyeàn teá baøo (BN thaát baïi vôùi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	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IFN-</a:t>
            </a:r>
            <a:r>
              <a:rPr b="0" lang="vi-VN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5 - 10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%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bieán maát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 hoaøn toaøn 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gen BCR-AB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400" spc="-1" strike="noStrike">
                <a:solidFill>
                  <a:srgbClr val="ffffff"/>
                </a:solidFill>
                <a:latin typeface="VNI-Helve"/>
              </a:rPr>
              <a:t>Taùc duïng phuï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noân oùi, noåi maãn ôû da, voïp beû</a:t>
            </a: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 </a:t>
            </a: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vaø ñau nhöùc xöông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2000" spc="-1" strike="noStrike">
                <a:solidFill>
                  <a:srgbClr val="ffffff"/>
                </a:solidFill>
                <a:latin typeface="VNI-Helve"/>
              </a:rPr>
              <a:t>thieáu maùu, giaûm BC haït, giaûm TC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NI-Helve"/>
              </a:rPr>
              <a:t>toån thöông gan thöôøng hieám gaëp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NI-Helve"/>
              </a:rPr>
              <a:t>Baát lôïi lôùn nhaát: chi phí ñieàu trò cao (80USD/ ngaøy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ĐIỀU TRỊ CẤP CỨU TĂNG BC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SLBC &gt;100k/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Arial"/>
              </a:rPr>
              <a:t>L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iảm SLB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Đa truyền dịch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iềm hóa nước tiểu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ải acid ur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iảm SLBC (&gt;100k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iết tách B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uố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3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Hydroxyurea (Hydrea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00mg/kg/24h, uống mỗi 6h đến khi SLBC &lt; 10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LBC: 50 – 10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: 50mg/kg/24h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LBC: 10 - 2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: 10 – 20mg/kg/24h, duy trì 3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&lt; SLBC &lt;10k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80520" y="18284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Đa truyền dịch: 2 - 3l/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Kiềm hóa nước tiểu bằng NaH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3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3-5mEq/kg, giữ pH&gt;7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purinol (Zylori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10mg/kg/24h, ngưng khi acid uric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 7mg/dL hoặc SLBC &lt;20k/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uy trì nước tiểu &gt;100 – 150ml/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o dõi nước xuất nhập – ion đồ mỗi 6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VNI-Helve"/>
              </a:rPr>
              <a:t>Ñieàu tr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00"/>
                </a:solidFill>
                <a:latin typeface="VNI-Helve"/>
              </a:rPr>
              <a:t>Gheùp </a:t>
            </a:r>
            <a:r>
              <a:rPr b="1" lang="en-US" sz="2400" spc="-1" strike="noStrike">
                <a:solidFill>
                  <a:srgbClr val="ffff00"/>
                </a:solidFill>
                <a:latin typeface="VNI-Helve"/>
              </a:rPr>
              <a:t>teá baøo goác </a:t>
            </a:r>
            <a:r>
              <a:rPr b="1" lang="vi-VN" sz="2400" spc="-1" strike="noStrike">
                <a:solidFill>
                  <a:srgbClr val="ffff00"/>
                </a:solidFill>
                <a:latin typeface="VNI-Helve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 u="sng">
                <a:solidFill>
                  <a:srgbClr val="66ff33"/>
                </a:solidFill>
                <a:uFillTx/>
                <a:latin typeface="VNI-Helve"/>
              </a:rPr>
              <a:t>Dò gheùp</a:t>
            </a: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VNI-Helve"/>
              </a:rPr>
              <a:t> töø tuûy xöông hoaëc maùu ngoïai vi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vi-VN" sz="2400" spc="-1" strike="noStrike" u="sng">
                <a:solidFill>
                  <a:srgbClr val="66ff33"/>
                </a:solidFill>
                <a:uFillTx/>
                <a:latin typeface="VNI-Helve"/>
              </a:rPr>
              <a:t>Dò gheùp</a:t>
            </a:r>
            <a:r>
              <a:rPr b="0" i="1" lang="en-US" sz="2400" spc="-1" strike="noStrike" u="sng">
                <a:solidFill>
                  <a:srgbClr val="66ff33"/>
                </a:solidFill>
                <a:uFillTx/>
                <a:latin typeface="VNI-Helve"/>
              </a:rPr>
              <a:t> töø teá baøo goác maùu cuoáng roá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Thanks for your attention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71" name="Picture 3" descr="j0284916"/>
          <p:cNvPicPr/>
          <p:nvPr/>
        </p:nvPicPr>
        <p:blipFill>
          <a:blip r:embed="rId1"/>
          <a:stretch/>
        </p:blipFill>
        <p:spPr>
          <a:xfrm>
            <a:off x="1143000" y="1714680"/>
            <a:ext cx="685800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ĐẠI CƯƠN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ội chứng tăng sinh tủy ác tín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ạch cầu mạn dòng hạ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Đa hồng cầu tiên phát (bệnh Vaquez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ch to sinh tủy (xơ hóa tủy nguyên phát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ăng tiểu cầu tiên phá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ễn tiến tự nhiên: 3 giai đoạn – mạn tính, tăng tốc, chuyển cấp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 / Nữ = 1,4/1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ổi: trung niê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NGUYÊN NHÂN VÀ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CƠ CHẾ BỆNH SINH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guyên nhâ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ưa r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ếu tố nguy cơ: tia xạ, thuốc, hóa chấ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ơ chế bệnh sin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Đột biến NST: nst Philadelphia (Phl) 90 – 95% bệnh nhân C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ễn ra trong giai đoạn sớm ở tế bào gốc vạn nă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 trọng trong cơ chế bệnh sinh của CM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5" descr="CDR0000533336"/>
          <p:cNvPicPr/>
          <p:nvPr/>
        </p:nvPicPr>
        <p:blipFill>
          <a:blip r:embed="rId1"/>
          <a:stretch/>
        </p:blipFill>
        <p:spPr>
          <a:xfrm>
            <a:off x="155520" y="46080"/>
            <a:ext cx="89884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-48960" y="1066680"/>
            <a:ext cx="4836600" cy="3568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Mạn tín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ai đoạn “lành tính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ệt mỏi, kém ăn, sụt cân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ếu máu nhẹ - trung bình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ách to: độ III, IV 85-9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an to: &gt;5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ểu hiện gút do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cid uri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ắc mạch và tăng độ nhớt má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5576400" y="2514600"/>
            <a:ext cx="15141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Tăng tố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7187040" y="3657600"/>
            <a:ext cx="19882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Chuyển cấ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Line 8"/>
          <p:cNvSpPr/>
          <p:nvPr/>
        </p:nvSpPr>
        <p:spPr>
          <a:xfrm>
            <a:off x="4724280" y="1066680"/>
            <a:ext cx="83844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Line 11"/>
          <p:cNvSpPr/>
          <p:nvPr/>
        </p:nvSpPr>
        <p:spPr>
          <a:xfrm>
            <a:off x="7086600" y="3048120"/>
            <a:ext cx="763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Line 12"/>
          <p:cNvSpPr/>
          <p:nvPr/>
        </p:nvSpPr>
        <p:spPr>
          <a:xfrm>
            <a:off x="0" y="685800"/>
            <a:ext cx="47242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Line 13"/>
          <p:cNvSpPr/>
          <p:nvPr/>
        </p:nvSpPr>
        <p:spPr>
          <a:xfrm>
            <a:off x="5562720" y="2057400"/>
            <a:ext cx="3581280" cy="0"/>
          </a:xfrm>
          <a:prstGeom prst="line">
            <a:avLst/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1361880" y="182520"/>
            <a:ext cx="18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– 5 nă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84120" y="1477800"/>
            <a:ext cx="281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tháng – 1 nă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5783400" y="4424400"/>
            <a:ext cx="2954160" cy="23493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S đặc trưng BCC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ếu má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uất huyết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hiễm trùng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âm nhiễm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ên lượng rất xấu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054"/>
          <p:cNvSpPr/>
          <p:nvPr/>
        </p:nvSpPr>
        <p:spPr>
          <a:xfrm>
            <a:off x="-31680" y="279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Rectangle 2057"/>
          <p:cNvSpPr/>
          <p:nvPr/>
        </p:nvSpPr>
        <p:spPr>
          <a:xfrm>
            <a:off x="-30240" y="264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056" descr="Splenomegaly-Hairy-cell-Le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867280" y="2855880"/>
            <a:ext cx="3276720" cy="39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-580680" y="898560"/>
            <a:ext cx="7038720" cy="558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áu ngoại vi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hết máu: BC hạt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từ non đến già.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M: nhẹ - TB, HCđẳng sắc, đẳng bà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BC &gt; 50 – 80 x 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/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st và tiền tủy bào &lt;15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C ưa acid và ưa bas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TC &gt;400 x 10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Garamond"/>
              </a:rPr>
              <a:t>9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/L, 50 – 70%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ủy xương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Giàu tế bà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C hạt đủ các lứa tuổi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ỷ lệ M/E &gt;10/1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st và tiền tủy bào &lt;15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NST Phl: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90 – 95% (+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en PAL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(phosphtase kiềm bạch cầu)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DH,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id uric máu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563400" y="236520"/>
            <a:ext cx="36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Giai đoạn mạn tính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6315840" y="2293920"/>
            <a:ext cx="27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Tăng tốc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Garamond"/>
              </a:rPr>
              <a:t>và chuyển cấp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851440" y="3452760"/>
            <a:ext cx="3292560" cy="3751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Máu ngoại vi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st &gt; 2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HC, Hb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LT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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Tủy xương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last &gt;20%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HC và Mẫu TC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Chuyển cấp AML, AL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rcRect l="0" t="0" r="71251" b="0"/>
          <a:stretch/>
        </p:blipFill>
        <p:spPr>
          <a:xfrm>
            <a:off x="3581280" y="304920"/>
            <a:ext cx="1752840" cy="62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9:09:54Z</dcterms:created>
  <dc:creator>Kien</dc:creator>
  <dc:description/>
  <dc:language>en-US</dc:language>
  <cp:lastModifiedBy>HOANGMY</cp:lastModifiedBy>
  <dcterms:modified xsi:type="dcterms:W3CDTF">2012-04-23T05:07:46Z</dcterms:modified>
  <cp:revision>27</cp:revision>
  <dc:subject/>
  <dc:title>BỆNH BẠCH CẦU KINH</dc:title>
</cp:coreProperties>
</file>