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508D-0522-450E-AD59-A627D02BE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F54C-4AF0-4B54-84A1-05AE0C82CC4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C4741-3AF5-4D93-AC56-AC4E3312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F51B-24E7-4DD7-B87B-354DE40A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799E7-51C4-43D5-A4E1-332D98EC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D59A-CCD1-4DFD-A668-10D1DC46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1E04-7594-45AB-AC93-93B86962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0EED-22B2-4465-AD49-5AC44FD8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9045-DF87-4107-BF0C-0D3CFAC4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A4A4-881E-43D6-9556-DACC9CBF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8463-6D80-492D-A91A-E137CBC0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1452-E0C8-4667-83CF-60659BB9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E19C-981A-406E-B7EC-2BDC8CD9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4ABB-D664-4CF9-8688-761F5133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DC90-234E-407E-B775-64492CD9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473D-0314-44F5-A69D-48871326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5A0C-992C-4AA4-9BF0-8762FD4C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F50F-9CA2-4DE2-B807-1A934DF6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09D1-35A3-4B56-92D0-AC64B0FB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E9A1-6416-4885-A4C4-88EFA992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024E-7AD2-49CD-9960-429B1FBC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AF3F8-FC85-44B9-9298-AFC65EED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CAEBB-F82E-4478-B6AC-2C6252D5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81303-BC3E-4297-8D4F-94B334D3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6D62-AAFE-4669-B0E7-405976A4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FBA7-D6A8-41AD-A63A-8BF2B2D5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E0B8-560E-4053-9758-68591D8FD6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411F-E42F-4C9A-A3A1-C7C3EF33E1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.my/imgres?imgurl=http://www.thecrookstoncollection.com/Collection/medslides/Slides/Splenomegaly-Hairy-cell-Leu.jpg&amp;imgrefurl=http://www.thecrookstoncollection.com/Collection/medslides/Medslides8.htm&amp;h=485&amp;w=400&amp;sz=49&amp;hl=en&amp;start=3&amp;tbnid=k8GKKl0F9pixdM:&amp;tbnh=129&amp;tbnw=106&amp;prev=/images%3Fq%3Dsplenomegaly%26svnum%3D10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228600" y="1736640"/>
            <a:ext cx="967752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BỆNH BẠCH CẦU MẠN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DÒNG HẠT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ê Thị Hoàng M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2" descr="http://www.pathologystudent.com/wp-content/uploads/2009/05/cml-1024x7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3" descr="C:\Documents and Settings\FFK\My Documents\My Pictures\Hinh huyet hoc\Leukemia\cml.jpg"/>
          <p:cNvPicPr/>
          <p:nvPr/>
        </p:nvPicPr>
        <p:blipFill>
          <a:blip r:embed="rId1"/>
          <a:stretch/>
        </p:blipFill>
        <p:spPr>
          <a:xfrm>
            <a:off x="3240" y="317520"/>
            <a:ext cx="9134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ẨN ĐOÁ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7" descr="wcd%20PBS%20slide"/>
          <p:cNvPicPr/>
          <p:nvPr/>
        </p:nvPicPr>
        <p:blipFill>
          <a:blip r:embed="rId1"/>
          <a:stretch/>
        </p:blipFill>
        <p:spPr>
          <a:xfrm>
            <a:off x="6172200" y="1523880"/>
            <a:ext cx="2971800" cy="10224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44" name="Picture 8" descr="wcd%20BM%20asp"/>
          <p:cNvPicPr/>
          <p:nvPr/>
        </p:nvPicPr>
        <p:blipFill>
          <a:blip r:embed="rId2"/>
          <a:stretch/>
        </p:blipFill>
        <p:spPr>
          <a:xfrm>
            <a:off x="6172200" y="2895480"/>
            <a:ext cx="2971800" cy="1041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CDR0000533336"/>
          <p:cNvPicPr/>
          <p:nvPr/>
        </p:nvPicPr>
        <p:blipFill>
          <a:blip r:embed="rId3"/>
          <a:stretch/>
        </p:blipFill>
        <p:spPr>
          <a:xfrm>
            <a:off x="6172200" y="4267080"/>
            <a:ext cx="2971800" cy="1770120"/>
          </a:xfrm>
          <a:prstGeom prst="rect">
            <a:avLst/>
          </a:prstGeom>
          <a:ln w="0">
            <a:noFill/>
          </a:ln>
        </p:spPr>
      </p:pic>
      <p:sp>
        <p:nvSpPr>
          <p:cNvPr id="146" name="Oval 10"/>
          <p:cNvSpPr/>
          <p:nvPr/>
        </p:nvSpPr>
        <p:spPr>
          <a:xfrm>
            <a:off x="228600" y="2666880"/>
            <a:ext cx="4267080" cy="13716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Arial"/>
              </a:rPr>
              <a:t>LÂM SÀ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228600" y="609480"/>
          <a:ext cx="8610480" cy="579132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36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iêu chuẩn của WH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iêu chuẩn của Châu Â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</a:tr>
              <a:tr h="3619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ỉ lệ tế bào blast trong máu ngoại biên hoặc trong tủy từ 10 – 19%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ỉ lệ basophil trong máu &gt; 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Giảm tiểu cầu (&lt;100 x 10</a:t>
                      </a:r>
                      <a:r>
                        <a:rPr b="0" lang="en-US" sz="2000" spc="-1" strike="noStrike" baseline="30000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/L) kéo dài không liên quan đến điều tr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ăng tiểu cầu (&gt;1000 x 10</a:t>
                      </a:r>
                      <a:r>
                        <a:rPr b="0" lang="en-US" sz="2000" spc="-1" strike="noStrike" baseline="30000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/L) không đáp ứng điều tr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ỉ lệ tế bào blast trong máu ngoại biên hoặc trong tủy từ 15 – 29%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ỉ lệ tế bào blast và promyelocyte trong máu ngoại biên hoặc tủy &gt;30%, với blast &lt; 30%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ỉ lệ basophil trong máu &gt; 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Giảm tiểu cầu kéo dài không liên quan đến điều tr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</a:tr>
              <a:tr h="10857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ăng kích thước lách và tăng số lượng bạch cầu không đáp ứng với điều tr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</a:tr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Xuất hiện thêm bất thường về di truyền học tế bà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ẨN ĐOÁN PHÂN BiỆ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Đa hồng cầu nguyên ph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Đa tiểu cầu nguyên ph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ách to sinh tủ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ản ứng giả leucem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ĐIỀU TR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Đặc hiệ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óa trị liệ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ulf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xyur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on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eeve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hép tủy xươ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Điều trị nâng đ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yền máu: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CĐ tương đối/ BC &gt;100k/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òng và điều trị tăng acid ur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òng và điều trị tăng độ nhớt má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  <a:ea typeface="Arial"/>
              </a:rPr>
              <a:t>ĐIỀU TR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40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Điều trị đặc hiệ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560" indent="-45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Mục tiêu điều tr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3600" indent="-457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ổ điển: lui bệnh về huyết họ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69640" indent="-4572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uyết đồ hoàn toàn bình thường với SLBC &lt;10k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69640" indent="-4572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LTC&lt;450k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69640" indent="-4572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ế bào non dòng tủy trong  máu ngoại vi (-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69640" indent="-4572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ách không 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13600" indent="-457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ới: lui bệnh di truyền tế bào học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560" indent="-45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Điều trị hỗ trợ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ruyền chế phẩm máu, đtrị nhiễm trùng, dinh dưỡ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3600" indent="-457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Giai đoạn mạ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ui bệnh về HH, di truyền tế bào họ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Giai đoạn cấp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iống leucemie cấ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Ghép tủ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: tốt/ giai đoạn mạ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ia xạ lách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vai trò hạn chế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ắt lá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: hiế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ường lá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ách quá to, chèn é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Busulfan: (Misulban, Myleran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nhóm Alky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tác dụ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 hủy các tế bào gốc trong tủy xương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lui bệnh lâu dài không cần duy trì thường xuyê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gày nay, </a:t>
            </a: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Busulfan thường chỉ dùng để diệt tủy trong các phác đồ ghép tủ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độc tín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suy tủy không hồi phục, viêm mô kẽ phổi, xơ phổi, viêm g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tử vong</a:t>
            </a: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độc tính nhẹ hơn: vô sinh, xạm da, rụng tóc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 u="sng">
                <a:solidFill>
                  <a:srgbClr val="ffff00"/>
                </a:solidFill>
                <a:uFillTx/>
                <a:latin typeface="VNI-Helve"/>
              </a:rPr>
              <a:t>Hydroxyl Urea</a:t>
            </a:r>
            <a:r>
              <a:rPr b="1" lang="vi-VN" sz="2400" spc="-1" strike="noStrike" u="sng">
                <a:solidFill>
                  <a:srgbClr val="ffff00"/>
                </a:solidFill>
                <a:uFillTx/>
                <a:latin typeface="VNI-Helve"/>
              </a:rPr>
              <a:t>: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VNI-Helve"/>
              </a:rPr>
              <a:t> (Hydrea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13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söû duïng roäng raõi d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13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taùc duïng nhan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13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caùch duøng ñôn giaûn va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13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ít gaây ñoäc tính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(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ít aûnh höôûng leân teá baøo goác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):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 roái loaïn tieâu hoùa nhö noân oùi, tieâu chaûy vaø phaûn öùng soát, dò öùng (ñoû da, ngöùa), ñoâi khi gaây ra tình traïng HC to (MCV:130–140 fl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13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K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eát quaû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thôøi gian soáng trung bình cuûa nhoùm Busulfan laø 45,4 thaùng so vôùi nhoùm Hydroxyl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Urea laø 58,2 thaùng (P=0,008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13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ydroxyurea (Hydrea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07960" indent="-20088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0mg/kg/24h, uống mỗi 6h đến khi SLBC &lt; 100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07960" indent="-20088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LBC: 50 – 100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: 50mg/kg/24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07960" indent="-20088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LBC: 10 - 20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: 10 – 20mg/kg/24h, duy trì 3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&lt; SLBC &lt;10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ĐỊNH NGHĨ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ệnh ác tính hệ tạo má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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ác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bạch cầu đã biệt hó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hiều và cũng diễn tiến tới tử vong nhưng chậm hơn trong bệnh bạch cầu cấp tính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ffff00"/>
                </a:solidFill>
                <a:uFillTx/>
                <a:latin typeface="VNI-Helve"/>
              </a:rPr>
              <a:t>Interferon:</a:t>
            </a:r>
            <a:r>
              <a:rPr b="0" lang="vi-VN" sz="24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D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uøng ñuôøng tieâm döôùi da, taùc duïng coù theå keùo daøi 2 –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3 ngaøy, duøng moãi ngaøy hay 3 laàn/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tuaà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Hieän nay, ít đöôïc söû duïng do taùc duïng phuï, chi phí cao vaø ít hieäu qua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Gleevec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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(Imatinib mesylate)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ức chế Bcr-Abl tyrosin kyn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ung nạp tốt, hiệu quả ca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VNI-Helve"/>
              </a:rPr>
              <a:t>Lieàu söû duïng: 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3</a:t>
            </a:r>
            <a:r>
              <a:rPr b="0" lang="vi-VN" sz="2400" spc="-1" strike="noStrike">
                <a:solidFill>
                  <a:srgbClr val="ffffff"/>
                </a:solidFill>
                <a:latin typeface="VNI-Helve"/>
              </a:rPr>
              <a:t>00-800 mg/ngaøy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, thôøi gian söû duïng: töø 2 ñeán 3 naê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VNI-Helve"/>
              </a:rPr>
              <a:t>Keát quaû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96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% lui beänh hoaøn toaøn veà maët huyeát hoï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68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% lui beänh hoaøn toaøn veà di truyeàn teá baøo (BN thaát baïi vôùi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IFN-</a:t>
            </a:r>
            <a:r>
              <a:rPr b="0" lang="vi-VN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5 - 10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%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bieán maát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 hoaøn toaøn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gen BCR-AB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VNI-Helve"/>
              </a:rPr>
              <a:t>Taùc duïng phuï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noân oùi, noåi maãn ôû da, voïp beû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vaø ñau nhöùc xöông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thieáu maùu, giaûm BC haït, giaûm T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toån thöông gan thöôøng hieám gaëp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Baát lôïi lôùn nhaát: chi phí ñieàu trò cao (80USD/ ngaøy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ĐIỀU TRỊ CẤP CỨU TĂNG BC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SLBC &gt;100k/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iảm SLB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Đa truyền dịc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iềm hóa nước tiể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ải acid u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iảm SLBC (&gt;100k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ết tách B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uố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ydroxyurea (Hydrea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0mg/kg/24h, uống mỗi 6h đến khi SLBC &lt; 100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LBC: 50 – 100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: 50mg/kg/24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LBC: 10 - 20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: 10 – 20mg/kg/24h, duy trì 3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&lt; SLBC &lt;10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520" y="18284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Đa truyền dịch: 2 - 3l/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iềm hóa nước tiểu bằng NaH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3-5mEq/kg, giữ pH&gt;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purinol (Zyloric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 10mg/kg/24h, ngưng khi acid uric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7mg/dL hoặc SLBC &lt;20k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uy trì nước tiểu &gt;100 – 150ml/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o dõi nước xuất nhập – ion đồ mỗi 6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NI-Helve"/>
              </a:rPr>
              <a:t>Ñieàu tr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VNI-Helve"/>
              </a:rPr>
              <a:t>Gheùp </a:t>
            </a:r>
            <a:r>
              <a:rPr b="1" lang="en-US" sz="2400" spc="-1" strike="noStrike">
                <a:solidFill>
                  <a:srgbClr val="ffff00"/>
                </a:solidFill>
                <a:latin typeface="VNI-Helve"/>
              </a:rPr>
              <a:t>teá baøo goác </a:t>
            </a:r>
            <a:r>
              <a:rPr b="1" lang="vi-VN" sz="2400" spc="-1" strike="noStrike">
                <a:solidFill>
                  <a:srgbClr val="ffff00"/>
                </a:solidFill>
                <a:latin typeface="VNI-Helv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 u="sng">
                <a:solidFill>
                  <a:srgbClr val="66ff33"/>
                </a:solidFill>
                <a:uFillTx/>
                <a:latin typeface="VNI-Helve"/>
              </a:rPr>
              <a:t>Dò gheùp</a:t>
            </a:r>
            <a:r>
              <a:rPr b="0" i="1" lang="en-US" sz="2400" spc="-1" strike="noStrike" u="sng">
                <a:solidFill>
                  <a:srgbClr val="66ff33"/>
                </a:solidFill>
                <a:uFillTx/>
                <a:latin typeface="VNI-Helve"/>
              </a:rPr>
              <a:t> töø tuûy xöông hoaëc maùu ngoïai v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 u="sng">
                <a:solidFill>
                  <a:srgbClr val="66ff33"/>
                </a:solidFill>
                <a:uFillTx/>
                <a:latin typeface="VNI-Helve"/>
              </a:rPr>
              <a:t>Dò gheùp</a:t>
            </a:r>
            <a:r>
              <a:rPr b="0" i="1" lang="en-US" sz="2400" spc="-1" strike="noStrike" u="sng">
                <a:solidFill>
                  <a:srgbClr val="66ff33"/>
                </a:solidFill>
                <a:uFillTx/>
                <a:latin typeface="VNI-Helve"/>
              </a:rPr>
              <a:t> töø teá baøo goác maùu cuoáng roá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Thanks for your attention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1" name="Picture 3" descr="j0284916"/>
          <p:cNvPicPr/>
          <p:nvPr/>
        </p:nvPicPr>
        <p:blipFill>
          <a:blip r:embed="rId1"/>
          <a:stretch/>
        </p:blipFill>
        <p:spPr>
          <a:xfrm>
            <a:off x="1143000" y="1714680"/>
            <a:ext cx="6858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ĐẠI CƯƠ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ội chứng tăng sinh tủy ác tín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ạch cầu mạn dòng h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Đa hồng cầu tiên phát (bệnh Vaquez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ách to sinh tủy (xơ hóa tủy nguyên phá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ăng tiểu cầu tiên phá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ễn tiến tự nhiên: 3 giai đoạn – mạn tính, tăng tốc, chuyển cấ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 / Nữ = 1,4/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ổi: trung niê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NGUYÊN NHÂN VÀ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Ơ CHẾ BỆNH SINH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guyên nhâ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ưa r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ếu tố nguy cơ: tia xạ, thuốc, hóa chấ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ơ chế bệnh sin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Đột biến NST: nst Philadelphia (Phl) 90 – 95% bệnh nhân C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ễn ra trong giai đoạn sớm ở tế bào gốc vạn nă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 trọng trong cơ chế bệnh sinh của CM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5" descr="CDR0000533336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-48960" y="1066680"/>
            <a:ext cx="4836600" cy="356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ạn tín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ai đoạn “lành tính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ệt mỏi, kém ăn, sụt cân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ếu máu nhẹ - trung bìn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ách to: độ III, IV 85-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n to: &gt;5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ểu hiện gút d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id ur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ắc mạch và tăng độ nhớt má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576400" y="2514600"/>
            <a:ext cx="15141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ăng tố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7187040" y="3657600"/>
            <a:ext cx="19882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huyển cấ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4724280" y="1066680"/>
            <a:ext cx="83844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7086600" y="30481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0" y="685800"/>
            <a:ext cx="472428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5562720" y="2057400"/>
            <a:ext cx="358128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361880" y="182520"/>
            <a:ext cx="18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5 nă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84120" y="1477800"/>
            <a:ext cx="28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tháng – 1 nă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5783400" y="4424400"/>
            <a:ext cx="2954160" cy="234936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 đặc trưng BC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ếu má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uất huyế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hiễm trù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âm nhiễ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ên lượng rất xấ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054"/>
          <p:cNvSpPr/>
          <p:nvPr/>
        </p:nvSpPr>
        <p:spPr>
          <a:xfrm>
            <a:off x="-31680" y="27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2057"/>
          <p:cNvSpPr/>
          <p:nvPr/>
        </p:nvSpPr>
        <p:spPr>
          <a:xfrm>
            <a:off x="-30240" y="264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2056" descr="Splenomegaly-Hairy-cell-Le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855880"/>
            <a:ext cx="327672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-580680" y="898560"/>
            <a:ext cx="703872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áu ngoại v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ết máu: BC hạt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ừ non đến già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M: nhẹ - TB, HCđẳng sắc, đẳng bà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BC &gt; 50 – 80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/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ast và tiền tủy bào &lt;15%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C ưa acid và ưa bas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TC &gt;400 x 10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/L, 50 – 70%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ủy xươn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àu tế bà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C hạt đủ các lứa tuổ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ỷ lệ M/E &gt;10/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ast và tiền tủy bào &lt;15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ST Phl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90 – 95% (+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en P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phosphtase kiềm bạch cầu)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DH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id uric máu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63400" y="236520"/>
            <a:ext cx="36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Garamond"/>
              </a:rPr>
              <a:t>Giai đoạn mạn tín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315840" y="2293920"/>
            <a:ext cx="27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Garamond"/>
              </a:rPr>
              <a:t>Tăng tốc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Garamond"/>
              </a:rPr>
              <a:t>và chuyển cấ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851440" y="3452760"/>
            <a:ext cx="329256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áu ngoại v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ast &gt; 2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HC, H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T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ủy xương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ast &gt;2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C và Mẫu T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uyển cấp AML, A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0" t="0" r="71251" b="0"/>
          <a:stretch/>
        </p:blipFill>
        <p:spPr>
          <a:xfrm>
            <a:off x="3581280" y="304920"/>
            <a:ext cx="175284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9:09:54Z</dcterms:created>
  <dc:creator>Kien</dc:creator>
  <dc:description/>
  <dc:language>en-US</dc:language>
  <cp:lastModifiedBy>HOANGMY</cp:lastModifiedBy>
  <dcterms:modified xsi:type="dcterms:W3CDTF">2012-04-23T05:07:46Z</dcterms:modified>
  <cp:revision>27</cp:revision>
  <dc:subject/>
  <dc:title>BỆNH BẠCH CẦU KINH</dc:title>
</cp:coreProperties>
</file>