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01%20Nummer%201-01.wav" ContentType="audio/x-wav"/>
  <Override PartName="/ppt/media/image1.jpeg" ContentType="image/jpeg"/>
  <Override PartName="/ppt/media/image22.jpeg" ContentType="image/jpeg"/>
  <Override PartName="/ppt/media/image13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B36-8F3D-49CF-992A-7D088D8C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027-2A82-455A-8A78-1712F165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3DA-1560-42B6-AFD5-61EC0316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03CE-ADF4-4D6D-8140-E069B5D9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AC3-8B2D-4CA1-B3E3-2B1D70CF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A04-426E-40D6-BBBE-EC97525D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E66-2D7C-4F6B-859B-9BC53F7E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721F-CCBB-47F8-9947-A0981FC8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357-4634-496F-8480-00EA4511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225-EC67-46CC-B7F5-E6EC4F98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AFC-CFEA-4933-A70F-099DD54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EC8-8A1E-48E8-885B-4BA38E3D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D61A-934A-43CC-AAF9-1A5F69AEF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%20Nummer%201-01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  <p:sndAc>
      <p:stSnd>
        <p:snd r:embed="rId2" name="01%20Nummer%201-01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83720" y="5734080"/>
            <a:ext cx="32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eten, Klaas, 04-10-200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875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875"/>
                            </p:stCondLst>
                            <p:childTnLst>
                              <p:par>
                                <p:cTn id="1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4T14:36:10Z</dcterms:created>
  <dc:creator>klaas</dc:creator>
  <dc:description/>
  <dc:language>en-US</dc:language>
  <cp:lastModifiedBy>Smets</cp:lastModifiedBy>
  <dcterms:modified xsi:type="dcterms:W3CDTF">2008-09-26T03:37:35Z</dcterms:modified>
  <cp:revision>5</cp:revision>
  <dc:subject/>
  <dc:title>PowerPoint-presentatie</dc:title>
</cp:coreProperties>
</file>