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01%20Nummer%201-01.wav" ContentType="audio/x-wav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39B-030B-420C-AD52-18525BD5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0AA-9C8C-44E0-83D1-1986F441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680-7794-4CF5-8830-93403FA2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3DCF-0608-417F-AD74-B347A6B8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7A72-87D0-4532-8F03-0261048A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C7C-DAEE-4236-8C3E-9E26D2F3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825-AB95-495D-A13B-4286AFFF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F44-4CBD-4046-8AB9-381A6DED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8F43-8722-4AB2-A28D-D37D132D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E747-D6C1-425A-93F1-9770A193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A01D-993B-40A1-B66C-538C557C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0B6F-6587-4A2B-879B-406F2D6B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7706-917D-4430-91CB-EF7212242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1%20Nummer%201-0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  <p:sndAc>
      <p:stSnd>
        <p:snd r:embed="rId2" name="01%20Nummer%201-0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83720" y="573408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roeten, Klaas, 04-10-200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875"/>
                            </p:stCondLst>
                            <p:childTnLst>
                              <p:par>
                                <p:cTn id="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875"/>
                            </p:stCondLst>
                            <p:childTnLst>
                              <p:par>
                                <p:cTn id="16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500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4:36:10Z</dcterms:created>
  <dc:creator>klaas</dc:creator>
  <dc:description/>
  <dc:language>en-US</dc:language>
  <cp:lastModifiedBy>Smets</cp:lastModifiedBy>
  <dcterms:modified xsi:type="dcterms:W3CDTF">2008-09-26T03:37:35Z</dcterms:modified>
  <cp:revision>5</cp:revision>
  <dc:subject/>
  <dc:title>PowerPoint-presentatie</dc:title>
</cp:coreProperties>
</file>