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et%20les%20ouiseaux%20chantant.wav" ContentType="audio/x-wav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1.gif" ContentType="image/gif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7B64-8AFB-41B0-96C7-2C017169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6DCE-B25F-47C5-A1D3-45D53C20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415F-2F5D-4F90-88BD-C1847417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144D-CA07-4EF2-BDDB-A1BDA48D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C861-8917-45FD-9229-AE61D765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5DE2-93D1-4DF7-B660-16E491F2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DB42-472C-448F-8A16-40DAF803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EE4A-F516-46F2-8010-08D54789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19AA-2BEE-40F8-9D6B-B3BB6DAB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E0D1-6A49-4E64-86DC-4C142E40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D740-690B-42BE-B02C-366A217B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F12F-B1FE-49D7-BF11-3F5610DC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0C04-9F5B-45D9-A344-9AC4A46D5915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t%20les%20ouiseaux%20chantan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32000" y="549360"/>
            <a:ext cx="6481800" cy="6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n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4000">
    <p:zoom dir="out"/>
    <p:sndAc>
      <p:stSnd>
        <p:snd r:embed="rId2" name="et%20les%20ouiseaux%20chantan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53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95280" y="404640"/>
            <a:ext cx="7705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s het niet kan zo als het moet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oet het maar zo als het k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9000"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539640" y="549360"/>
            <a:ext cx="424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e niet waagt, wie niet valt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7000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755640" y="549360"/>
            <a:ext cx="77058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ld maakt niet gelukkig......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en geld ook niet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8000"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724360" y="2133720"/>
            <a:ext cx="27352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4360" y="1700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044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539640" y="333360"/>
            <a:ext cx="648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en ieder heeft zijn eigen weg te gaan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8000"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1413000"/>
            <a:ext cx="3313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58920" y="2060640"/>
            <a:ext cx="17287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643280" y="5661000"/>
            <a:ext cx="421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loof niet alles wat je denk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6000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39640" y="5229360"/>
            <a:ext cx="806472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televisie maakt van de familie kr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en halve cirk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9000"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619280" y="404640"/>
            <a:ext cx="712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aast je als je tijd hebt,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an heb je tijd als je haast hebt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8000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684360" y="333360"/>
            <a:ext cx="734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s je je kinderen wilt houden,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an je hen beter laten gaa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8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042920" y="5516640"/>
            <a:ext cx="712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s je het antwoord kunt accepteren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un je alles vrage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9000"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258920" y="404640"/>
            <a:ext cx="6337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in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2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slow"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6660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84360" y="5950080"/>
            <a:ext cx="7921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rger u niet, verbaas u slecht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6000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826920" y="260280"/>
            <a:ext cx="76345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oeten maakt dingen moeilijk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llen maakt ze gemakkelijk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8000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755640" y="333360"/>
            <a:ext cx="7129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waarde van een geschenk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ordt niet bepaald door de prij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8000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900000" y="260280"/>
            <a:ext cx="669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en slechte da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s nog geen slecht lev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7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539640" y="404640"/>
            <a:ext cx="8280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iets is onmogelijk voor degene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e het zelf niet hoeft te doe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7000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24000" y="260280"/>
            <a:ext cx="561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e niet hoop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eeft geen morgen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10000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539640" y="5373720"/>
            <a:ext cx="8353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e zich gelukkig voelt met het geluk van anderen,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zit een rijkdom zonder grenzen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10000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684360" y="260280"/>
            <a:ext cx="7848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iemand is zo blind als diegene die niet wil zi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7000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23:14:59Z</dcterms:created>
  <dc:creator>sylvi@</dc:creator>
  <dc:description/>
  <dc:language>en-US</dc:language>
  <cp:lastModifiedBy>Smets</cp:lastModifiedBy>
  <dcterms:modified xsi:type="dcterms:W3CDTF">2010-05-01T04:41:58Z</dcterms:modified>
  <cp:revision>31</cp:revision>
  <dc:subject/>
  <dc:title>Dia 1</dc:title>
</cp:coreProperties>
</file>