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et%20les%20ouiseaux%20chantant.wav" ContentType="audio/x-wav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356-7E5A-42FC-A33E-E75B1C42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470-B5E3-45AC-A75C-C807D11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002-4923-4DF0-980A-80D9E0D9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D4C-626D-48EF-901B-AD48A2F9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E80-FA74-477C-B93F-97DF576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37E-DCB8-49A2-9414-A4B6D4EE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C3A-6C44-4BAE-B91A-59EE754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B7B-7C10-4F74-8F51-3ABC9EDC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A19-CBE7-4C4C-9353-B668F9D8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AA2-41C7-4E0C-A6EA-4877991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EA7-5948-402F-AC72-7FECB91A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B57-1845-4A99-9F46-B6659B5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F47-9052-445B-A4DB-0ED0A93C1354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t%20les%20ouiseaux%20chantan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549360"/>
            <a:ext cx="64818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4000">
    <p:zoom dir="out"/>
    <p:sndAc>
      <p:stSnd>
        <p:snd r:embed="rId2" name="et%20les%20ouiseaux%20chantan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404640"/>
            <a:ext cx="770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 het niet kan zo als het moet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et het maar zo als het k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9640" y="549360"/>
            <a:ext cx="424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e niet waagt, wie niet val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55640" y="549360"/>
            <a:ext cx="7705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ld maakt niet gelukkig.....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en geld ook nie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724360" y="2133720"/>
            <a:ext cx="27352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333360"/>
            <a:ext cx="648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ieder heeft zijn eigen weg te gaa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413000"/>
            <a:ext cx="3313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060640"/>
            <a:ext cx="1728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3280" y="5661000"/>
            <a:ext cx="421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loof niet alles wat je denk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5229360"/>
            <a:ext cx="806472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televisie maakt van de familie k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halve cirk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619280" y="404640"/>
            <a:ext cx="712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ast je als je tijd hebt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n heb je tijd als je haast heb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4360" y="333360"/>
            <a:ext cx="73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 je je kinderen wilt houden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n je hen beter laten gaa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42920" y="5516640"/>
            <a:ext cx="712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 je het antwoord kunt accepteren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un je alles vrag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58920" y="404640"/>
            <a:ext cx="633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5950080"/>
            <a:ext cx="79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ger u niet, verbaas u slecht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260280"/>
            <a:ext cx="76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eten maakt dingen moeilijk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en maakt ze gemakkelijk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55640" y="33336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waarde van een geschenk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dt niet bepaald door de prij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00000" y="260280"/>
            <a:ext cx="669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slechte d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nog geen slecht lev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9640" y="404640"/>
            <a:ext cx="828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ets is onmogelijk voor degene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e het zelf niet hoeft te doe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4000" y="26028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e niet hoop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eft geen morge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39640" y="5373720"/>
            <a:ext cx="8353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e zich gelukkig voelt met het geluk van anderen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zit een rijkdom zonder grenze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260280"/>
            <a:ext cx="784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emand is zo blind als diegene die niet wil z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Smets</cp:lastModifiedBy>
  <dcterms:modified xsi:type="dcterms:W3CDTF">2010-05-01T04:41:58Z</dcterms:modified>
  <cp:revision>31</cp:revision>
  <dc:subject/>
  <dc:title>Dia 1</dc:title>
</cp:coreProperties>
</file>