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2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9.jpeg" ContentType="image/jpeg"/>
  <Override PartName="/ppt/media/image28.png" ContentType="image/png"/>
  <Override PartName="/ppt/media/image16.png" ContentType="image/png"/>
  <Override PartName="/ppt/media/image23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40C1-D746-4AA7-A453-73DF61785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7630-3F7A-480F-9EFF-9951AC2C84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8C9-F281-4CD1-BAB7-1877D59B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A5C-46CC-466D-9ED8-173AC574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68B-D3A1-4405-AB59-91A69CAF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D0D-176A-4463-8AE8-8B7E74E9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973-4A13-40A6-8D23-88D3CA6C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7DC-6047-40BD-94DA-ED3687C6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AFD-9A16-4F03-B5D2-22A094C1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46D-FFAE-4B77-8177-665C413F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FCC-9A55-4021-A308-12F45AB8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5C9F-AEDC-4FDA-921A-FC1B7119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C85-0532-44D7-A56A-A7FC5348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286-3DC9-4194-9E5A-59DB4AA2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3d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7A7C-F905-4E5B-8C0F-229AF52B2E13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14360" y="1352520"/>
            <a:ext cx="8242200" cy="204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f. Dr. Ahmed Saied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3" descr="adenocarcinoma.jpg"/>
          <p:cNvPicPr/>
          <p:nvPr/>
        </p:nvPicPr>
        <p:blipFill>
          <a:blip r:embed="rId2"/>
          <a:stretch/>
        </p:blipFill>
        <p:spPr>
          <a:xfrm>
            <a:off x="1789200" y="2112840"/>
            <a:ext cx="5565600" cy="368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3" descr="Lung_cancer.jpg"/>
          <p:cNvPicPr/>
          <p:nvPr/>
        </p:nvPicPr>
        <p:blipFill>
          <a:blip r:embed="rId2"/>
          <a:stretch/>
        </p:blipFill>
        <p:spPr>
          <a:xfrm>
            <a:off x="3143160" y="1235160"/>
            <a:ext cx="2928960" cy="530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3" descr="Meningioma.jpg"/>
          <p:cNvPicPr/>
          <p:nvPr/>
        </p:nvPicPr>
        <p:blipFill>
          <a:blip r:embed="rId2"/>
          <a:stretch/>
        </p:blipFill>
        <p:spPr>
          <a:xfrm>
            <a:off x="1714680" y="1714680"/>
            <a:ext cx="5757840" cy="444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66916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3" descr="scc.jpg"/>
          <p:cNvPicPr/>
          <p:nvPr/>
        </p:nvPicPr>
        <p:blipFill>
          <a:blip r:embed="rId2"/>
          <a:stretch/>
        </p:blipFill>
        <p:spPr>
          <a:xfrm>
            <a:off x="2101680" y="1600200"/>
            <a:ext cx="4940640" cy="470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ixed tumor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rived from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one germ cell laye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that differentiates into more than one cell typ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best example is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mixed salivary tumor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that contain epithelial structures, myxoid tissue and cartilag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Teratoma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posed of cells that represent the three germinal layers, i.e.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ectoderm, mesoderm and endoderm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se tumors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aris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n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test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ovari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Choristoma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sses formed by mal-development of a tissue not normally found at that sit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best example is pancreatic tissue under the intestinal mucos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Hamartoma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sses of disorganized tissue indigenous to a particular sit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best example is hamartoma of the lung which contains islands of cartilage, bronchi and blood vessels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649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Biology of tumor growth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Differenti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anaplasi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Rate of growth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Local invas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Metastas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Differentiation and anaplasi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Differentiation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the extent which tumor cells resemble normal cell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 </a:t>
            </a: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benig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umors, the cells closely mimic normal cell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 </a:t>
            </a: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malignan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umors, the cells may be </a:t>
            </a:r>
            <a:r>
              <a:rPr b="0" lang="en-US" sz="2400" spc="-1" strike="noStrike">
                <a:solidFill>
                  <a:srgbClr val="c8afd6"/>
                </a:solidFill>
                <a:latin typeface="Book Antiqua"/>
              </a:rPr>
              <a:t>wel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c8afd6"/>
                </a:solidFill>
                <a:latin typeface="Book Antiqua"/>
              </a:rPr>
              <a:t>differentiated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400" spc="-1" strike="noStrike">
                <a:solidFill>
                  <a:srgbClr val="c8afd6"/>
                </a:solidFill>
                <a:latin typeface="Book Antiqua"/>
              </a:rPr>
              <a:t>moderately differentiated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or </a:t>
            </a:r>
            <a:r>
              <a:rPr b="0" lang="en-US" sz="2400" spc="-1" strike="noStrike">
                <a:solidFill>
                  <a:srgbClr val="c8afd6"/>
                </a:solidFill>
                <a:latin typeface="Book Antiqua"/>
              </a:rPr>
              <a:t>undifferentiated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Lack of differentiation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called </a:t>
            </a: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anaplasi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What is a neoplasm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Definition: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uncontrolled, disorderly proliferation of cells, resulting in a ma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Typ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neoplasms according to their behavior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Benig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(mild character, kind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Malignan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(wild, malicious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3" descr="well diff tumor.jpg"/>
          <p:cNvPicPr/>
          <p:nvPr/>
        </p:nvPicPr>
        <p:blipFill>
          <a:blip r:embed="rId2"/>
          <a:stretch/>
        </p:blipFill>
        <p:spPr>
          <a:xfrm>
            <a:off x="1643040" y="1785960"/>
            <a:ext cx="5819760" cy="4365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7892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3" descr="anaplasia.jpg"/>
          <p:cNvPicPr/>
          <p:nvPr/>
        </p:nvPicPr>
        <p:blipFill>
          <a:blip r:embed="rId2"/>
          <a:stretch/>
        </p:blipFill>
        <p:spPr>
          <a:xfrm>
            <a:off x="1500120" y="1703520"/>
            <a:ext cx="6072120" cy="455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Cytologic criteria of anaplasi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Nuclear and cellular pleomorphism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(variation in shape and size of cells and nuclei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Hyperchromasi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dark staining of nuclei which frequently contain nucleoli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Increased N/C ratio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which may becomes 1:1 (normally it is 1:4 or 1:6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Abundant mitos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which reflects proliferative activit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Loss of polarity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r disturbed orientation, leading to disorganized masse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Tumor giant cell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containing a single large polypoid nucleus or multiple nuclei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Dysplasi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means disorderly, but non neoplastic growth of cells. This usually occurs in epithelia, the famous example in uterine cervix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2d050"/>
                </a:solidFill>
                <a:latin typeface="Book Antiqua"/>
              </a:rPr>
              <a:t>Mild and moderate dysplasia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: do not always result in cancer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2d050"/>
                </a:solidFill>
                <a:latin typeface="Book Antiqua"/>
              </a:rPr>
              <a:t>Severe dysplasia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: is considered to be carcinoma in situ or pre-invasive carcinoma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Rates of growth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Most malignant tumor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row more rapid than benign tumor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me cancers </a:t>
            </a: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grow slowl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n enter </a:t>
            </a: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rapid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phas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Other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expand rapidly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rom outsid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umors of </a:t>
            </a: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hormone-sensitiv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issues may be affected by hormonal variatio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Rapidly growing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umors can have a high cell turnover, i.e. rates of </a:t>
            </a: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prolifer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apoptosi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re high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In general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 growth rate of tumors </a:t>
            </a: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correlat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with the </a:t>
            </a: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level of differenti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Local invas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5880" y="2357280"/>
          <a:ext cx="7572240" cy="3429000"/>
        </p:xfrm>
        <a:graphic>
          <a:graphicData uri="http://schemas.openxmlformats.org/drawingml/2006/table">
            <a:tbl>
              <a:tblPr/>
              <a:tblGrid>
                <a:gridCol w="3786120"/>
                <a:gridCol w="378612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Benign tum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Malignant tum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row by expan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row by infilt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ave a capsu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 capsul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 invasion of the capsu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vasion destroys normal tiss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urgical enucleation can be d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urgical enucleation is impossible, but removal with a safety margin is require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etastasi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vasion of the lymphatics, blood vessels and body cavities by tumor cells followed by transport and growth of secondary tumor mass with discontinuity from the primary tumo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s is the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singl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most important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eature distinguishing benign from malignant tumor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Almost all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lignant tumors have the capacity to metastasize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excep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brain tumor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and</a:t>
            </a: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 basal cell carcinom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of the ski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basal cell carc.jpg"/>
          <p:cNvPicPr/>
          <p:nvPr/>
        </p:nvPicPr>
        <p:blipFill>
          <a:blip r:embed="rId2"/>
          <a:stretch/>
        </p:blipFill>
        <p:spPr>
          <a:xfrm>
            <a:off x="2217600" y="1600200"/>
            <a:ext cx="4708800" cy="470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etastasis occurs by many way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read into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body cavities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y seeding surfaces of the pleural, peritoneal, pericardial or subarachnoid spac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rcinoma of the ovary may spread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transperitoneall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o the surface of the liver or other viscer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vasion of </a:t>
            </a: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lymphatic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transportation of tumor cells to the regional lymph nodes and other parts of the body occurs initially in spread of carcinoma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Nomenclatur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Benig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umors: the names of these tumors usually end with the suffix –om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Malignan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umors: are called cancers, and are divided into two main types: </a:t>
            </a: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carcinoma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sarcoma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4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169120" cy="1012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E:\Web path\JPEG4\GI222.JPG"/>
          <p:cNvPicPr/>
          <p:nvPr/>
        </p:nvPicPr>
        <p:blipFill>
          <a:blip r:embed="rId2"/>
          <a:stretch/>
        </p:blipFill>
        <p:spPr>
          <a:xfrm>
            <a:off x="928800" y="1214280"/>
            <a:ext cx="7108560" cy="4668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20840" y="225360"/>
            <a:ext cx="8169120" cy="1000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E:\Web path\JPEG1\NEO058.JPG"/>
          <p:cNvPicPr/>
          <p:nvPr/>
        </p:nvPicPr>
        <p:blipFill>
          <a:blip r:embed="rId2"/>
          <a:stretch/>
        </p:blipFill>
        <p:spPr>
          <a:xfrm>
            <a:off x="1047600" y="1401840"/>
            <a:ext cx="7024680" cy="459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411120"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Book Antiqua"/>
              </a:rPr>
              <a:t>Hematogenous spread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this is typical of all </a:t>
            </a: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sarcoma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but also is the favored route of </a:t>
            </a: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certain carcinomas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s those originating in the kidne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82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8afd6"/>
                </a:solidFill>
                <a:latin typeface="Book Antiqua"/>
              </a:rPr>
              <a:t>Spread follows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pattern of venous flow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82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o, the lung and liver are the most common sites of hematogenous metastases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82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8afd6"/>
                </a:solidFill>
                <a:latin typeface="Book Antiqua"/>
              </a:rPr>
              <a:t>Other sites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f hematogenous spread include brain and bones. 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420840" y="-19080"/>
            <a:ext cx="8405640" cy="1019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E:\Web path\JPEG1\NEO060.JPG"/>
          <p:cNvPicPr/>
          <p:nvPr/>
        </p:nvPicPr>
        <p:blipFill>
          <a:blip r:embed="rId2"/>
          <a:stretch/>
        </p:blipFill>
        <p:spPr>
          <a:xfrm>
            <a:off x="1000080" y="1285920"/>
            <a:ext cx="720108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274680" y="212760"/>
            <a:ext cx="8405640" cy="1012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E:\Web path\JPEG4\LIVER059.JPG"/>
          <p:cNvPicPr/>
          <p:nvPr/>
        </p:nvPicPr>
        <p:blipFill>
          <a:blip r:embed="rId2"/>
          <a:stretch/>
        </p:blipFill>
        <p:spPr>
          <a:xfrm>
            <a:off x="888840" y="1306440"/>
            <a:ext cx="7040880" cy="4622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Carcinoma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arising from epithelial cell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Book Antiqua"/>
              </a:rPr>
              <a:t>Sarcoma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arising from mesenchymal tissues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following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tabl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show nomenclature of most tumors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571680" y="1500120"/>
          <a:ext cx="8001000" cy="485784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  <a:gridCol w="266724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issue of orig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Benig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maligna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ibrous tiss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ibr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ibrosarc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dipose tiss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ip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iposarc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artilag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hondr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hondrosarc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o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ste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steosarc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lood vessel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emangi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ngiosarc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ymph vesse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ymphangi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ymphangiosarc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ening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eningi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vasive meningi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mooth musc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eiomy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eiomyosarc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triated musc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habdomy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habdomyosarc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quamous cells (S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c papill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c 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612720" y="1428840"/>
          <a:ext cx="8031240" cy="5070240"/>
        </p:xfrm>
        <a:graphic>
          <a:graphicData uri="http://schemas.openxmlformats.org/drawingml/2006/table">
            <a:tbl>
              <a:tblPr/>
              <a:tblGrid>
                <a:gridCol w="2676600"/>
                <a:gridCol w="2678040"/>
                <a:gridCol w="2676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issue of orig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Benig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Maligna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79b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landular cell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den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denocarcin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apill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apillary carcinom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ransitional cells (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 c papill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 c 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nal epitheliu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nal tubular ade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nal cell 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spiratory passa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ronchial ade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ronchogenic 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iver ce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iver cell ade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epatocellular carc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lacental epithel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ydatidiform mo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horiocarcin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sticular epithel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------------------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emin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mbryonal 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ixed tum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leomorphic ade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lignant mixed tum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rat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ratocarcinom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d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ymphoid tiss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-------------------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ymphom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cf3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649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The following photos are examples of benign and malignant neoplasm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3" descr="leiomyoma.jpg"/>
          <p:cNvPicPr/>
          <p:nvPr/>
        </p:nvPicPr>
        <p:blipFill>
          <a:blip r:embed="rId2"/>
          <a:stretch/>
        </p:blipFill>
        <p:spPr>
          <a:xfrm>
            <a:off x="2085840" y="1600200"/>
            <a:ext cx="4972320" cy="470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3" descr="thyroid adenoma.jpg"/>
          <p:cNvPicPr/>
          <p:nvPr/>
        </p:nvPicPr>
        <p:blipFill>
          <a:blip r:embed="rId2"/>
          <a:stretch/>
        </p:blipFill>
        <p:spPr>
          <a:xfrm>
            <a:off x="3035160" y="1600200"/>
            <a:ext cx="3073680" cy="470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3:40:05Z</dcterms:created>
  <dc:creator>Prof. Dr. Salah</dc:creator>
  <dc:description/>
  <dc:language>en-US</dc:language>
  <cp:lastModifiedBy>al shamil</cp:lastModifiedBy>
  <dcterms:modified xsi:type="dcterms:W3CDTF">2010-10-16T06:40:32Z</dcterms:modified>
  <cp:revision>48</cp:revision>
  <dc:subject/>
  <dc:title>Neoplasia 1</dc:title>
</cp:coreProperties>
</file>