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9.jpeg" ContentType="image/jpeg"/>
  <Override PartName="/ppt/media/image28.png" ContentType="image/png"/>
  <Override PartName="/ppt/media/image16.png" ContentType="image/png"/>
  <Override PartName="/ppt/media/image23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B14-1419-402B-8656-027BE22F5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9144-1DC0-43E3-ADA2-0FE1DF5EE0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1EF-67E8-4AAC-BEB6-13FC3FAA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F76-DD90-4536-8EFA-060437DF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DC5-1225-4539-99A3-A7D3DCB3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01E-4185-402D-9268-DBE705E9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EB0-4C59-44A2-A992-CD86C369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8F9-71F2-4F6F-A9BC-FFB1F00A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F67-41CB-4003-8D2C-A48A952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C5C-0095-4CC1-9574-C3EFAC92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3D2-9017-41CD-8500-E8E488E1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2C1-822F-456D-B32A-285C262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31C-0CAA-4AB7-8FAC-9194F6C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E5D-37DC-4289-B0F8-B5AB377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3d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58B0-4B70-429A-97BB-3B17C1AF5A2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52520"/>
            <a:ext cx="8242200" cy="204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f. Dr. Ahmed Saie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3" descr="adenocarcinoma.jpg"/>
          <p:cNvPicPr/>
          <p:nvPr/>
        </p:nvPicPr>
        <p:blipFill>
          <a:blip r:embed="rId2"/>
          <a:stretch/>
        </p:blipFill>
        <p:spPr>
          <a:xfrm>
            <a:off x="1789200" y="2112840"/>
            <a:ext cx="5565600" cy="368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3" descr="Lung_cancer.jpg"/>
          <p:cNvPicPr/>
          <p:nvPr/>
        </p:nvPicPr>
        <p:blipFill>
          <a:blip r:embed="rId2"/>
          <a:stretch/>
        </p:blipFill>
        <p:spPr>
          <a:xfrm>
            <a:off x="3143160" y="1235160"/>
            <a:ext cx="2928960" cy="530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3" descr="Meningioma.jpg"/>
          <p:cNvPicPr/>
          <p:nvPr/>
        </p:nvPicPr>
        <p:blipFill>
          <a:blip r:embed="rId2"/>
          <a:stretch/>
        </p:blipFill>
        <p:spPr>
          <a:xfrm>
            <a:off x="1714680" y="1714680"/>
            <a:ext cx="5757840" cy="444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691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3" descr="scc.jpg"/>
          <p:cNvPicPr/>
          <p:nvPr/>
        </p:nvPicPr>
        <p:blipFill>
          <a:blip r:embed="rId2"/>
          <a:stretch/>
        </p:blipFill>
        <p:spPr>
          <a:xfrm>
            <a:off x="2101680" y="1600200"/>
            <a:ext cx="494064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ixed tumo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rived from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one germ cell lay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that differentiates into more than one cell typ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best example is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mixed salivary tumor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that contain epithelial structures, myxoid tissue and cartilag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erat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osed of cells that represent the three germinal layers, i.e.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ectoderm, mesoderm and endoder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se tumors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aris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test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ovar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Chorist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sses formed by mal-development of a tissue not normally found at that sit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best example is pancreatic tissue under the intestinal mucos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Hamart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sses of disorganized tissue indigenous to a particular sit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best example is hamartoma of the lung which contains islands of cartilage, bronchi and blood vessel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49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iology of tumor grow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Differenti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anaplas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Rate of grow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Local invas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Metastas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Differentiation and anaplas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Differentiation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the extent which tumor cells resemble normal cel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benig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umors, the cells closely mimic normal cell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malignan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umors, the cells may be </a:t>
            </a:r>
            <a:r>
              <a:rPr b="0" lang="en-US" sz="2400" spc="-1" strike="noStrike">
                <a:solidFill>
                  <a:srgbClr val="c8afd6"/>
                </a:solidFill>
                <a:latin typeface="Book Antiqua"/>
              </a:rPr>
              <a:t>wel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c8afd6"/>
                </a:solidFill>
                <a:latin typeface="Book Antiqua"/>
              </a:rPr>
              <a:t>differentiat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c8afd6"/>
                </a:solidFill>
                <a:latin typeface="Book Antiqua"/>
              </a:rPr>
              <a:t>moderately differentiat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or </a:t>
            </a:r>
            <a:r>
              <a:rPr b="0" lang="en-US" sz="2400" spc="-1" strike="noStrike">
                <a:solidFill>
                  <a:srgbClr val="c8afd6"/>
                </a:solidFill>
                <a:latin typeface="Book Antiqua"/>
              </a:rPr>
              <a:t>undifferentiat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Lack of differentiation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called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anaplas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What is a neoplas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Definition: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uncontrolled, disorderly proliferation of cells, resulting in a m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Typ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neoplasms according to their behavior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Benig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(mild character, kind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Malignan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(wild, malicious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well diff tumor.jpg"/>
          <p:cNvPicPr/>
          <p:nvPr/>
        </p:nvPicPr>
        <p:blipFill>
          <a:blip r:embed="rId2"/>
          <a:stretch/>
        </p:blipFill>
        <p:spPr>
          <a:xfrm>
            <a:off x="1643040" y="1785960"/>
            <a:ext cx="581976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anaplasia.jpg"/>
          <p:cNvPicPr/>
          <p:nvPr/>
        </p:nvPicPr>
        <p:blipFill>
          <a:blip r:embed="rId2"/>
          <a:stretch/>
        </p:blipFill>
        <p:spPr>
          <a:xfrm>
            <a:off x="1500120" y="1703520"/>
            <a:ext cx="6072120" cy="455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Cytologic criteria of anaplas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Nuclear and cellular pleomorphis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(variation in shape and size of cells and nuclei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Hyperchromasi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dark staining of nuclei which frequently contain nucleol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Increased N/C rati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which may becomes 1:1 (normally it is 1:4 or 1:6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Abundant mitos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which reflects proliferative activit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Loss of polarity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disturbed orientation, leading to disorganized mass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Tumor giant cell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containing a single large polypoid nucleus or multiple nucle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Dysplasi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means disorderly, but non neoplastic growth of cells. This usually occurs in epithelia, the famous example in uterine cervix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Book Antiqua"/>
              </a:rPr>
              <a:t>Mild and moderate dysplasia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: do not always result in cancer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Book Antiqua"/>
              </a:rPr>
              <a:t>Severe dysplasia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: is considered to be carcinoma in situ or pre-invasive carcinoma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Rates of grow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Most malignant tumor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ow more rapid than benign tumo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cancers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grow slowl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enter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rapi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pha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Othe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expand rapidly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om outsid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umors of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hormone-sensitiv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issues may be affected by hormonal vari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Rapidly growing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umors can have a high cell turnover, i.e. rates of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prolifer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apoptosi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re high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In general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 growth rate of tumors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correlat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with the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level of differenti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Local invas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5880" y="2357280"/>
          <a:ext cx="7572240" cy="34290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enign tum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Malignant tum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ow by expa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ow by infilt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ave a capsu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 capsul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 invasion of the capsu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vasion destroys normal t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rgical enucleation can be d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rgical enucleation is impossible, but removal with a safety margin is require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etastasi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vasion of the lymphatics, blood vessels and body cavities by tumor cells followed by transport and growth of secondary tumor mass with discontinuity from the primary tumo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is the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singl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most importan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ature distinguishing benign from malignant tumor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Almost all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lignant tumors have the capacity to metastasize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exce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brain tumor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and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 basal cell carcinom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f the ski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basal cell carc.jpg"/>
          <p:cNvPicPr/>
          <p:nvPr/>
        </p:nvPicPr>
        <p:blipFill>
          <a:blip r:embed="rId2"/>
          <a:stretch/>
        </p:blipFill>
        <p:spPr>
          <a:xfrm>
            <a:off x="2217600" y="1600200"/>
            <a:ext cx="470880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etastasis occurs by many way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read into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body cavitie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seeding surfaces of the pleural, peritoneal, pericardial or subarachnoid spac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rcinoma of the ovary may spread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transperitoneall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the surface of the liver or other viscer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vasion of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lymphatic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transportation of tumor cells to the regional lymph nodes and other parts of the body occurs initially in spread of carcinoma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Nomenclatu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Benig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umors: the names of these tumors usually end with the suffix –om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Malignan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umors: are called cancers, and are divided into two main types: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carcin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sarc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4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169120" cy="1012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E:\Web path\JPEG4\GI222.JPG"/>
          <p:cNvPicPr/>
          <p:nvPr/>
        </p:nvPicPr>
        <p:blipFill>
          <a:blip r:embed="rId2"/>
          <a:stretch/>
        </p:blipFill>
        <p:spPr>
          <a:xfrm>
            <a:off x="928800" y="1214280"/>
            <a:ext cx="710856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20840" y="225360"/>
            <a:ext cx="8169120" cy="100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E:\Web path\JPEG1\NEO058.JPG"/>
          <p:cNvPicPr/>
          <p:nvPr/>
        </p:nvPicPr>
        <p:blipFill>
          <a:blip r:embed="rId2"/>
          <a:stretch/>
        </p:blipFill>
        <p:spPr>
          <a:xfrm>
            <a:off x="1047600" y="1401840"/>
            <a:ext cx="7024680" cy="459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411120"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Hematogenous sprea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this is typical of all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sarcoma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but also is the favored route of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certain carcinoma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 those originating in the kidne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82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8afd6"/>
                </a:solidFill>
                <a:latin typeface="Book Antiqua"/>
              </a:rPr>
              <a:t>Spread follow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pattern of venous flow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82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, the lung and liver are the most common sites of hematogenous metastase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82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8afd6"/>
                </a:solidFill>
                <a:latin typeface="Book Antiqua"/>
              </a:rPr>
              <a:t>Other site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hematogenous spread include brain and bones. 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405640" cy="101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E:\Web path\JPEG1\NEO060.JPG"/>
          <p:cNvPicPr/>
          <p:nvPr/>
        </p:nvPicPr>
        <p:blipFill>
          <a:blip r:embed="rId2"/>
          <a:stretch/>
        </p:blipFill>
        <p:spPr>
          <a:xfrm>
            <a:off x="1000080" y="1285920"/>
            <a:ext cx="720108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274680" y="212760"/>
            <a:ext cx="8405640" cy="1012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E:\Web path\JPEG4\LIVER059.JPG"/>
          <p:cNvPicPr/>
          <p:nvPr/>
        </p:nvPicPr>
        <p:blipFill>
          <a:blip r:embed="rId2"/>
          <a:stretch/>
        </p:blipFill>
        <p:spPr>
          <a:xfrm>
            <a:off x="888840" y="1306440"/>
            <a:ext cx="7040880" cy="462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Carcinoma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arising from epithelial cell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Sarcoma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arising from mesenchymal tissue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following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abl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show nomenclature of most tumors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571680" y="1500120"/>
          <a:ext cx="8001000" cy="485784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issue of orig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enig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malign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brous t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br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brosarc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ipose t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p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p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rtilag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ondr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ondr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o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ste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ste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lood vessel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mangi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ngi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 vess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angi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angi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ning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ningi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vasive meningi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mooth musc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eiomy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eiomy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riated musc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habdomy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habdomy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quamous cells (S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 papill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612720" y="1428840"/>
          <a:ext cx="8031240" cy="5070240"/>
        </p:xfrm>
        <a:graphic>
          <a:graphicData uri="http://schemas.openxmlformats.org/drawingml/2006/table">
            <a:tbl>
              <a:tblPr/>
              <a:tblGrid>
                <a:gridCol w="2676600"/>
                <a:gridCol w="2678040"/>
                <a:gridCol w="2676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issue of orig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enig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Malign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landular cell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e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enocarci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pill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pillary carcinom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itional cells (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 c papill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 c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nal epitheliu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nal tubular ade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nal cell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spiratory pass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ronchial ade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ronchogenic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ver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ver cell ade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patocellular carc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lacental epithel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ydatidiform m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oriocarci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sticular epithel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emi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mbryonal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xed tum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leomorphic ade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lignant mixed tum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rat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ratocarci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oid t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om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49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e following photos are examples of benign and malignant neoplasm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3" descr="leiomyoma.jpg"/>
          <p:cNvPicPr/>
          <p:nvPr/>
        </p:nvPicPr>
        <p:blipFill>
          <a:blip r:embed="rId2"/>
          <a:stretch/>
        </p:blipFill>
        <p:spPr>
          <a:xfrm>
            <a:off x="2085840" y="1600200"/>
            <a:ext cx="497232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thyroid adenoma.jpg"/>
          <p:cNvPicPr/>
          <p:nvPr/>
        </p:nvPicPr>
        <p:blipFill>
          <a:blip r:embed="rId2"/>
          <a:stretch/>
        </p:blipFill>
        <p:spPr>
          <a:xfrm>
            <a:off x="3035160" y="1600200"/>
            <a:ext cx="307368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3:40:05Z</dcterms:created>
  <dc:creator>Prof. Dr. Salah</dc:creator>
  <dc:description/>
  <dc:language>en-US</dc:language>
  <cp:lastModifiedBy>al shamil</cp:lastModifiedBy>
  <dcterms:modified xsi:type="dcterms:W3CDTF">2010-10-16T06:40:32Z</dcterms:modified>
  <cp:revision>48</cp:revision>
  <dc:subject/>
  <dc:title>Neoplasia 1</dc:title>
</cp:coreProperties>
</file>