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D861-385D-42DA-882D-773C5A9C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DF8-34D7-4CCB-A914-B99E6EC0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89F-7298-446D-9E31-AB3168D4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B2A-5C92-4BA6-80C9-CF825505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2DE-0A41-40FA-AB0A-B91CDBC5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173-9020-409C-8EAE-F98A7032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086E-41DD-4708-97E1-F6D07A9A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37F2-ECFE-473F-8937-9CF096BC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3471-7143-49E6-93F7-E6B38E8B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7438-3E87-4B63-B14B-89E9D357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1804-E624-4733-991A-1F4386E4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CEE6-EC4F-4AC1-A214-967267D2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516B2A-AD7A-4819-B11B-85A1FCC2A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D33CF-3719-43C9-A3A8-961C729CEFE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5:33:40Z</dcterms:created>
  <dc:creator>최봉수</dc:creator>
  <dc:description/>
  <dc:language>en-US</dc:language>
  <cp:lastModifiedBy>군만두 맛있다</cp:lastModifiedBy>
  <dcterms:modified xsi:type="dcterms:W3CDTF">2023-07-08T00:39:34Z</dcterms:modified>
  <cp:revision>3</cp:revision>
  <dc:subject/>
  <dc:title>슬라이드 1</dc:title>
</cp:coreProperties>
</file>