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D3C9-55B5-4F1B-9A23-382AE23D7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5934-36A5-43BF-A8F5-ED021475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66DC-E3B1-401B-B9A8-8D68754D0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2B06-A86B-43BB-B255-DBB2768EA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7C8F-F0A5-46B8-BE01-E41AC503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B70C-570C-4E1A-83DA-D2C8474F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6245-C811-4727-AC06-111FE10D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C988-9B43-4AD4-90C6-930C330D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531A-5EF9-4312-96D1-3D80B40E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C4A6-6ECB-4CF9-B75B-D35E651A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1107-2800-4ADE-BD47-3A3FBBC3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5992-9CCC-4A1E-BEBF-CF2598FE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749D80-47FF-4C85-B100-B9030FEDF4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20C50B-04BC-47F8-AFE2-9B57A65F311D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0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1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0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1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0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0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6T15:33:40Z</dcterms:created>
  <dc:creator>최봉수</dc:creator>
  <dc:description/>
  <dc:language>en-US</dc:language>
  <cp:lastModifiedBy>군만두 맛있다</cp:lastModifiedBy>
  <dcterms:modified xsi:type="dcterms:W3CDTF">2023-07-08T00:39:34Z</dcterms:modified>
  <cp:revision>3</cp:revision>
  <dc:subject/>
  <dc:title>슬라이드 1</dc:title>
</cp:coreProperties>
</file>