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407-E9F2-4671-A2CC-2899F2E0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BB6-5A0F-4EA4-A39A-5B30CDD1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968-6BB1-4D02-9513-DA5BA61F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954-36B8-43E2-9D3A-A087CED8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5DF-70B2-4953-9B7C-FA3A0F6F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27E-4D9C-4F91-9190-66365B52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B7D-1AE5-4C77-84AB-CF134DF8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1E4-B3F8-4738-9A7F-1B96AAD3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D67-87F2-4407-A3A8-FB7F9FA1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22C-B394-4AA6-AB74-6725DF5E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2A5-EAA2-408A-AA92-5A9CB16E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85C-C8E1-4511-B95D-9FE3A60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E1301-97C0-4F92-8873-5139886D9F78}" type="slidenum">
              <a: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Bible a večeře Pán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1655640"/>
            <a:ext cx="921528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 u="sng">
                <a:solidFill>
                  <a:srgbClr val="ffff00"/>
                </a:solidFill>
                <a:uFillTx/>
                <a:latin typeface="Arial Narrow"/>
                <a:ea typeface="Times New Roman"/>
              </a:rPr>
              <a:t>1. Proč Kristus ustanovil památku večeře Páně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). Abychom si připomněli smlouvu s Ním a také slavnou budoucno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). Abychom zvěstovali Jeho smrt a jeho přích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). Abychom nezapoměli základ, na kterém stojí naše víra, spasení a nový statut Božích dětí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500" spc="-1" strike="noStrike" u="sng">
                <a:solidFill>
                  <a:srgbClr val="ffffff"/>
                </a:solidFill>
                <a:uFillTx/>
                <a:latin typeface="Arial Narrow"/>
                <a:ea typeface="Arial Narrow"/>
              </a:rPr>
              <a:t>2. Pro koho je  určená Večeře Páně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209520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88840" indent="-55080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kdo patří Pánu Ježíši.  Pro Boží děti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8840" indent="-55080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kdo uvěřil v Krista jako svého Pána a spasitele a na základě této víry, uzavřel smlouvu s Kristem a  byl pokřtě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8840" indent="-55080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kdo žije  ve smíření s Bohem a lidmi okolo seb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 u="sng">
                <a:solidFill>
                  <a:srgbClr val="ffffff"/>
                </a:solidFill>
                <a:uFillTx/>
                <a:latin typeface="Arial Narrow"/>
                <a:ea typeface="Arial Narrow"/>
              </a:rPr>
              <a:t>Večeře Páně NENÍ pro člověka který:</a:t>
            </a: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 fontScale="87000"/>
          </a:bodyPr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je dán do sborové kázně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není ochoten činit pokání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nemá jistotu Božího přijet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VP není pro toho, kdo žije vůči druhým v neodpuštění, pohrdání a posměchu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také není pro toho, kdo pohrdá splečenstvím Božího lidu na této zemi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ani pro toho, kdo není ochoten ze srdce odpustit druhému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ani pro toho, kdo žije v nevyřešeném konfliktu a v hříchu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3. Elementy večeře Páně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Proč chléb a víno a co znamenají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 u="sng">
                <a:solidFill>
                  <a:srgbClr val="ffffff"/>
                </a:solidFill>
                <a:uFillTx/>
                <a:latin typeface="Arial Narrow"/>
              </a:rPr>
              <a:t>4. Co znamená varování ohledně Večeře Páně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>
                <a:solidFill>
                  <a:srgbClr val="ffffff"/>
                </a:solidFill>
                <a:latin typeface="Arial Narrow"/>
              </a:rPr>
              <a:t> „</a:t>
            </a:r>
            <a:r>
              <a:rPr b="1" i="1" lang="cs-CZ" sz="4000" spc="-1" strike="noStrike">
                <a:solidFill>
                  <a:srgbClr val="ffffff"/>
                </a:solidFill>
                <a:latin typeface="Arial Narrow"/>
              </a:rPr>
              <a:t>Kdo by tedy jedl tento chléb a pil kalich Páně </a:t>
            </a:r>
            <a:r>
              <a:rPr b="1" i="1" lang="cs-CZ" sz="4000" spc="-1" strike="noStrike">
                <a:solidFill>
                  <a:srgbClr val="ffff00"/>
                </a:solidFill>
                <a:latin typeface="Arial Narrow"/>
              </a:rPr>
              <a:t>nehodně</a:t>
            </a:r>
            <a:r>
              <a:rPr b="1" i="1" lang="cs-CZ" sz="4000" spc="-1" strike="noStrike">
                <a:solidFill>
                  <a:srgbClr val="ffffff"/>
                </a:solidFill>
                <a:latin typeface="Arial Narrow"/>
              </a:rPr>
              <a:t>, proviní se proti tělu a krvi Páně.“ 1 K 11:2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1T15:05:17Z</dcterms:created>
  <dc:creator>Nick Lica</dc:creator>
  <dc:description/>
  <dc:language>en-US</dc:language>
  <cp:lastModifiedBy>Nick Lica</cp:lastModifiedBy>
  <dcterms:modified xsi:type="dcterms:W3CDTF">2016-06-01T15:18:36Z</dcterms:modified>
  <cp:revision>1</cp:revision>
  <dc:subject/>
  <dc:title/>
</cp:coreProperties>
</file>