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B91-2FED-425F-95E7-5A30FBD4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998-4F7A-46F2-91D0-8868354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415-3B6C-4528-A3DC-AAAA7ECE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97A-9EE9-408E-9DE1-181A1F57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EA9-F0E6-4949-B77E-10A08D56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E51-A86F-4329-9294-16351FF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889-C3C9-42E8-ADCA-CE127A3F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82B-3E78-4723-8352-2704C605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D88-F397-46DF-8158-533EEF3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CBB-76A3-4BD4-9862-95BE0B94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68A-995E-444F-AE84-E8C4FC73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D24-F17E-4CC9-8917-9BEC5B8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7A1F-6AEE-4C76-81F5-468A218CB54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1:11:00Z</dcterms:modified>
  <cp:revision>25</cp:revision>
  <dc:subject/>
  <dc:title>슬라이드 1</dc:title>
</cp:coreProperties>
</file>