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6E6-878B-4FEC-A541-2C7FDAFE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05C-CBD1-44EB-909B-7E373B8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3F7-4945-4845-BC26-4C0CA2AD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858-E1DB-4BDA-B911-6B06B06C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2BC-874A-4D1E-B10D-335C4B42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EFB-602F-453E-BA7C-7613EC0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DA4-CE63-4915-B7D2-37FB37A1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E46-008F-4125-87C7-57F88182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BBE-8485-47C4-BCBC-DB69009B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1B6-817A-4395-8857-EFC649E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C14-822B-41C4-88F6-E9789524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23B-3D3F-49B5-83FF-DFE7AE1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F1CD-7833-44E0-BD63-10224F7A21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11:00Z</dcterms:modified>
  <cp:revision>25</cp:revision>
  <dc:subject/>
  <dc:title>슬라이드 1</dc:title>
</cp:coreProperties>
</file>