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gif" ContentType="image/gi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A524-E828-48C2-B057-B3781EE41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41EE-CA59-4199-A9AC-15E091EA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94B2-ECDA-4E9A-9589-5D84B6F5A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1FD4-89FC-4555-8663-65ADF65B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4E4-8A1C-4B21-A597-182E28C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E0C9-C297-4244-8385-5953BCC0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9DB5-1EB0-4315-B14C-7F5AD6FC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F3E4-290B-4BF8-9F4F-2B54C8E22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58ACA-8654-4C7F-9BA4-96D19E76C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67C4-D618-41E4-B20C-33173AAA6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FBDE-B3C8-4E29-92F4-46F019CAA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33B-BBA6-43BA-8A79-C4A594B3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6320-0832-48E7-A13F-24B667ECA6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7T12:35:24Z</dcterms:created>
  <dc:creator>Audouard Valérie</dc:creator>
  <dc:description/>
  <dc:language>en-US</dc:language>
  <cp:lastModifiedBy>Smets</cp:lastModifiedBy>
  <dcterms:modified xsi:type="dcterms:W3CDTF">2009-03-17T20:26:45Z</dcterms:modified>
  <cp:revision>3</cp:revision>
  <dc:subject/>
  <dc:title>Aucun titre de diapositive</dc:title>
</cp:coreProperties>
</file>