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gif" ContentType="image/gi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F2A7-6F3A-42E3-9AD3-F315BC8DD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4A8D-AF75-401A-B665-D739A333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ADD6-6D89-439D-B0D1-FD3DE64E8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B35E-47DA-423F-9034-017656C69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84DD-7793-4D1D-80CD-6027A1AE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A6B1-FAB7-4147-A9BC-585DB4B1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DB0C-28EE-427D-A3A3-4C147B7D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D211-C44A-492D-89B6-20F6F1E0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7B29-046B-40DC-B523-0D179C85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85E3-0C13-4FDD-AD94-84FC6AEF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3AC2-3D9C-46B7-BD03-02D57626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96AB-D44B-42AE-8DC7-12F2FCF2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A082-0E3A-4C1C-B99E-E71098546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12:35:24Z</dcterms:created>
  <dc:creator>Audouard Valérie</dc:creator>
  <dc:description/>
  <dc:language>en-US</dc:language>
  <cp:lastModifiedBy>Smets</cp:lastModifiedBy>
  <dcterms:modified xsi:type="dcterms:W3CDTF">2009-03-17T20:26:45Z</dcterms:modified>
  <cp:revision>3</cp:revision>
  <dc:subject/>
  <dc:title>Aucun titre de diapositive</dc:title>
</cp:coreProperties>
</file>