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7B1-09B1-4E79-8893-C94EC383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079-4743-43CD-92E7-F6D8C5D2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023-B8CB-464B-ADC1-A7438432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6A3-7D01-4E3E-8598-274D4D4F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E89-F07A-423E-A381-2E0A8808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B8C-84C9-4959-BADA-DD588225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68D-C614-4455-A184-47240645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8FA-92BE-47EC-BF8F-A7AF7F45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5A8-BC96-4843-9E69-B0F5FA99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5DC-56B3-41F6-A69F-65565677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FA5-8F37-4BB7-B5AF-FF1238CD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0D9-F849-4037-AE75-51914F8E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C8596-8D27-4CAA-83CC-51F80D79C8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47DA6-E15A-4378-BCBA-C0B4C447695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08:50Z</dcterms:created>
  <dc:creator>최봉수</dc:creator>
  <dc:description/>
  <dc:language>en-US</dc:language>
  <cp:lastModifiedBy>맛있다 군만두</cp:lastModifiedBy>
  <dcterms:modified xsi:type="dcterms:W3CDTF">2024-10-01T03:11:48Z</dcterms:modified>
  <cp:revision>3</cp:revision>
  <dc:subject/>
  <dc:title>슬라이드 1</dc:title>
</cp:coreProperties>
</file>