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6A6-AB30-40DD-AFA5-793380D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A46-D00D-41B3-A2C0-084F0FD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CB3-6A05-432D-BF8F-2ED3811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39E-6615-4D62-AE11-F963CC36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8A3-D5B8-447A-835D-205406D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93D-C6A5-4DFA-8416-72B0ABD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D46-A44B-4669-A4B2-BB5C493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1D7-7892-4C8E-A1AB-F2B8ABE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38F-F9B2-4AAF-9D75-C039919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301-0955-4097-BD76-7D90B53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D00-03E1-4B89-8853-886B392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758-2E4A-4540-9620-642C73A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B392A-FE5A-4F71-B557-161B211FE0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1FF86-91B9-4BC1-A6F9-D30BC9CC68E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08:50Z</dcterms:created>
  <dc:creator>최봉수</dc:creator>
  <dc:description/>
  <dc:language>en-US</dc:language>
  <cp:lastModifiedBy>맛있다 군만두</cp:lastModifiedBy>
  <dcterms:modified xsi:type="dcterms:W3CDTF">2024-10-01T03:11:48Z</dcterms:modified>
  <cp:revision>3</cp:revision>
  <dc:subject/>
  <dc:title>슬라이드 1</dc:title>
</cp:coreProperties>
</file>