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D65-22F2-4FA8-9996-CEE8998B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60F-C922-4DE9-A8B1-8C6EEDFF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80D-2318-44B8-9005-7030F54C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B98-E9E1-42D3-AC4D-64C12C39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2BC-658C-4F83-9378-1EF82B35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938-62BF-4E6D-98E7-DD7B1E73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C6D-79C5-43D4-99AC-5EC364A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5B6-B9A6-4FFB-890C-3C3CEE4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693-B644-4559-958A-E17A4ED1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92E-67EA-43C0-AFDF-FB71D4DD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E33-7E95-4F4A-B1FA-5EB6993D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FD4-7321-49F5-B325-941FCCB0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F6D6-7F4B-436D-AFA1-047D1D35A7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928"/>
          <a:stretch/>
        </p:blipFill>
        <p:spPr>
          <a:xfrm>
            <a:off x="0" y="260280"/>
            <a:ext cx="8889840" cy="628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941720"/>
            <a:ext cx="8964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78040" y="-150840"/>
            <a:ext cx="5586480" cy="71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501920"/>
            <a:ext cx="604836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201080" cy="54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7921" b="0"/>
          <a:stretch/>
        </p:blipFill>
        <p:spPr>
          <a:xfrm>
            <a:off x="395280" y="1197000"/>
            <a:ext cx="8055000" cy="40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669" t="0" r="0" b="0"/>
          <a:stretch/>
        </p:blipFill>
        <p:spPr>
          <a:xfrm>
            <a:off x="1757520" y="1371600"/>
            <a:ext cx="5989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233"/>
          <a:stretch/>
        </p:blipFill>
        <p:spPr>
          <a:xfrm>
            <a:off x="1042920" y="1125360"/>
            <a:ext cx="734400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4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2666"/>
          <a:stretch/>
        </p:blipFill>
        <p:spPr>
          <a:xfrm>
            <a:off x="1403280" y="1055520"/>
            <a:ext cx="6985080" cy="45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437"/>
          <a:stretch/>
        </p:blipFill>
        <p:spPr>
          <a:xfrm>
            <a:off x="1476360" y="690480"/>
            <a:ext cx="619128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3465"/>
          <a:stretch/>
        </p:blipFill>
        <p:spPr>
          <a:xfrm>
            <a:off x="762120" y="888840"/>
            <a:ext cx="7619760" cy="43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543"/>
          <a:stretch/>
        </p:blipFill>
        <p:spPr>
          <a:xfrm>
            <a:off x="2286000" y="380880"/>
            <a:ext cx="457200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507960" y="380880"/>
            <a:ext cx="8128080" cy="57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5328"/>
          <a:stretch/>
        </p:blipFill>
        <p:spPr>
          <a:xfrm>
            <a:off x="101520" y="50760"/>
            <a:ext cx="894096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3812" r="0" b="0"/>
          <a:stretch/>
        </p:blipFill>
        <p:spPr>
          <a:xfrm>
            <a:off x="1366920" y="376200"/>
            <a:ext cx="641016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5436"/>
          <a:stretch/>
        </p:blipFill>
        <p:spPr>
          <a:xfrm>
            <a:off x="1189080" y="1111320"/>
            <a:ext cx="676584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6479"/>
          <a:stretch/>
        </p:blipFill>
        <p:spPr>
          <a:xfrm>
            <a:off x="1219320" y="1206360"/>
            <a:ext cx="6705360" cy="41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448"/>
          <a:stretch/>
        </p:blipFill>
        <p:spPr>
          <a:xfrm>
            <a:off x="-304920" y="-299880"/>
            <a:ext cx="9753840" cy="735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2126"/>
          <a:stretch/>
        </p:blipFill>
        <p:spPr>
          <a:xfrm>
            <a:off x="2033640" y="-380880"/>
            <a:ext cx="5076720" cy="745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34960" y="1130400"/>
            <a:ext cx="627408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6562" r="0" b="0"/>
          <a:stretch/>
        </p:blipFill>
        <p:spPr>
          <a:xfrm>
            <a:off x="914400" y="1046160"/>
            <a:ext cx="731520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6210" b="0"/>
          <a:stretch/>
        </p:blipFill>
        <p:spPr>
          <a:xfrm>
            <a:off x="684360" y="425520"/>
            <a:ext cx="7494480" cy="617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166680"/>
            <a:ext cx="975384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95160"/>
            <a:ext cx="7315200" cy="54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1482840"/>
            <a:ext cx="525636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890"/>
          <a:stretch/>
        </p:blipFill>
        <p:spPr>
          <a:xfrm>
            <a:off x="2428920" y="571680"/>
            <a:ext cx="428616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66680" y="-100080"/>
            <a:ext cx="9477360" cy="705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6:32:25Z</dcterms:created>
  <dc:creator>Vera</dc:creator>
  <dc:description/>
  <dc:language>en-US</dc:language>
  <cp:lastModifiedBy>Smets</cp:lastModifiedBy>
  <dcterms:modified xsi:type="dcterms:W3CDTF">2011-02-28T18:54:20Z</dcterms:modified>
  <cp:revision>4</cp:revision>
  <dc:subject/>
  <dc:title>Snímek 1</dc:title>
</cp:coreProperties>
</file>