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36.gif" ContentType="image/gif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2.jpeg" ContentType="image/jpeg"/>
  <Override PartName="/ppt/media/image23.jpeg" ContentType="image/jpeg"/>
  <Override PartName="/ppt/media/image10.jpeg" ContentType="image/jpeg"/>
  <Override PartName="/ppt/media/image8.jpeg" ContentType="image/jpeg"/>
  <Override PartName="/ppt/media/image37.gif" ContentType="image/gif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35.png" ContentType="image/pn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F33AE-75B0-4296-98B0-8F7C24B72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80267-400A-4816-B517-260325099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A08B5-1BEF-408E-B02F-F0D438778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D74D9-667B-4DC7-8E8A-59E9A18DF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CD69C-77CF-4A17-A9BB-311B9C2EE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3DDE0-100F-4681-B507-5C8B9331D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B703D-6B32-4D42-AC63-5BF1E9820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C076C-889B-4C1D-8EBB-845D3D8C8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24B57-64EF-45E4-B6C0-991CFF59C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93E1E-A718-4AF3-9585-DE1A3F81C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4329A-2328-42CB-B221-BB3ADCFDA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D3A4A-3361-4C3D-8894-F2E8CEFCD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10B0B-1216-4863-B4CF-53B1EC50673F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png"/><Relationship Id="rId3" Type="http://schemas.openxmlformats.org/officeDocument/2006/relationships/image" Target="../media/image36.gif"/><Relationship Id="rId4" Type="http://schemas.openxmlformats.org/officeDocument/2006/relationships/image" Target="../media/image36.gif"/><Relationship Id="rId5" Type="http://schemas.openxmlformats.org/officeDocument/2006/relationships/image" Target="../media/image37.gif"/><Relationship Id="rId6" Type="http://schemas.openxmlformats.org/officeDocument/2006/relationships/image" Target="../media/image37.gif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0" t="0" r="0" b="5928"/>
          <a:stretch/>
        </p:blipFill>
        <p:spPr>
          <a:xfrm>
            <a:off x="0" y="260280"/>
            <a:ext cx="8889840" cy="62848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4941720"/>
            <a:ext cx="896472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403280" y="1052640"/>
            <a:ext cx="6350040" cy="476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778040" y="-150840"/>
            <a:ext cx="5586480" cy="715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332000" y="1501920"/>
            <a:ext cx="6048360" cy="4151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397160" y="1047600"/>
            <a:ext cx="6349680" cy="4762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116000" y="765000"/>
            <a:ext cx="7201080" cy="5405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0" t="0" r="7921" b="0"/>
          <a:stretch/>
        </p:blipFill>
        <p:spPr>
          <a:xfrm>
            <a:off x="395280" y="1197000"/>
            <a:ext cx="8055000" cy="401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rcRect l="5669" t="0" r="0" b="0"/>
          <a:stretch/>
        </p:blipFill>
        <p:spPr>
          <a:xfrm>
            <a:off x="1757520" y="1371600"/>
            <a:ext cx="598932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rcRect l="0" t="0" r="0" b="15233"/>
          <a:stretch/>
        </p:blipFill>
        <p:spPr>
          <a:xfrm>
            <a:off x="1042920" y="1125360"/>
            <a:ext cx="7344000" cy="455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85840" y="223920"/>
            <a:ext cx="8572320" cy="641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95280" y="297000"/>
            <a:ext cx="8497800" cy="6373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rcRect l="0" t="0" r="0" b="12666"/>
          <a:stretch/>
        </p:blipFill>
        <p:spPr>
          <a:xfrm>
            <a:off x="1403280" y="1055520"/>
            <a:ext cx="6985080" cy="4569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rcRect l="0" t="0" r="0" b="4437"/>
          <a:stretch/>
        </p:blipFill>
        <p:spPr>
          <a:xfrm>
            <a:off x="1476360" y="690480"/>
            <a:ext cx="6191280" cy="5234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rcRect l="0" t="0" r="0" b="13465"/>
          <a:stretch/>
        </p:blipFill>
        <p:spPr>
          <a:xfrm>
            <a:off x="762120" y="888840"/>
            <a:ext cx="7619760" cy="4395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rcRect l="0" t="0" r="0" b="3543"/>
          <a:stretch/>
        </p:blipFill>
        <p:spPr>
          <a:xfrm>
            <a:off x="2286000" y="380880"/>
            <a:ext cx="4572000" cy="588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rcRect l="0" t="0" r="0" b="5906"/>
          <a:stretch/>
        </p:blipFill>
        <p:spPr>
          <a:xfrm>
            <a:off x="507960" y="380880"/>
            <a:ext cx="8128080" cy="5735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rcRect l="0" t="0" r="0" b="5328"/>
          <a:stretch/>
        </p:blipFill>
        <p:spPr>
          <a:xfrm>
            <a:off x="101520" y="50760"/>
            <a:ext cx="8940960" cy="6396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rcRect l="0" t="3812" r="0" b="0"/>
          <a:stretch/>
        </p:blipFill>
        <p:spPr>
          <a:xfrm>
            <a:off x="1366920" y="376200"/>
            <a:ext cx="6410160" cy="635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rcRect l="0" t="0" r="0" b="5436"/>
          <a:stretch/>
        </p:blipFill>
        <p:spPr>
          <a:xfrm>
            <a:off x="1189080" y="1111320"/>
            <a:ext cx="6765840" cy="438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rcRect l="0" t="0" r="0" b="6479"/>
          <a:stretch/>
        </p:blipFill>
        <p:spPr>
          <a:xfrm>
            <a:off x="1219320" y="1206360"/>
            <a:ext cx="6705360" cy="415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rcRect l="0" t="0" r="0" b="1448"/>
          <a:stretch/>
        </p:blipFill>
        <p:spPr>
          <a:xfrm>
            <a:off x="-304920" y="-299880"/>
            <a:ext cx="9753840" cy="7350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rcRect l="0" t="0" r="0" b="2126"/>
          <a:stretch/>
        </p:blipFill>
        <p:spPr>
          <a:xfrm>
            <a:off x="2033640" y="-380880"/>
            <a:ext cx="5076720" cy="745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4360" y="512640"/>
            <a:ext cx="7632720" cy="572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434960" y="1130400"/>
            <a:ext cx="6274080" cy="459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rcRect l="0" t="6562" r="0" b="0"/>
          <a:stretch/>
        </p:blipFill>
        <p:spPr>
          <a:xfrm>
            <a:off x="914400" y="1046160"/>
            <a:ext cx="7315200" cy="5126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rcRect l="0" t="0" r="6210" b="0"/>
          <a:stretch/>
        </p:blipFill>
        <p:spPr>
          <a:xfrm>
            <a:off x="684360" y="425520"/>
            <a:ext cx="7494480" cy="617544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1403280" y="5921280"/>
            <a:ext cx="6337440" cy="936720"/>
          </a:xfrm>
          <a:prstGeom prst="octagon">
            <a:avLst>
              <a:gd name="adj" fmla="val 29287"/>
            </a:avLst>
          </a:prstGeom>
          <a:blipFill rotWithShape="0">
            <a:blip r:embed="rId2">
              <a:alphaModFix amt="48000"/>
            </a:blip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2556000" y="6308640"/>
            <a:ext cx="4533840" cy="3430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latin typeface="Poor Richard"/>
              </a:rPr>
              <a:t>www.free-powerpoints.goedbegin.be</a:t>
            </a:r>
            <a:endParaRPr b="1" lang="en-US" sz="2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latin typeface="Poor Richard"/>
              <a:ea typeface="Poor Richard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1692360" y="6093000"/>
            <a:ext cx="5952960" cy="1998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latin typeface="Bookman Old Style"/>
              </a:rPr>
              <a:t>voor meer dan 2500 Powerpoints, click op onderstaande hyperlink</a:t>
            </a:r>
            <a:endParaRPr b="1" lang="en-US" sz="1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stretch/>
              </a:blipFill>
              <a:latin typeface="Bookman Old Style"/>
              <a:ea typeface="Bookman Old Style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autoRev="1" nodeType="after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2" dur="500" fill="hold"/>
                                        <p:tgtEl>
                                          <p:spTgt spid="7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3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" dur="250" autoRev="1" fill="hold"/>
                                        <p:tgtEl>
                                          <p:spTgt spid="7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-304920" y="166680"/>
            <a:ext cx="9753840" cy="652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914400" y="695160"/>
            <a:ext cx="7315200" cy="5467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908000" y="1482840"/>
            <a:ext cx="5256360" cy="394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rcRect l="0" t="0" r="0" b="1890"/>
          <a:stretch/>
        </p:blipFill>
        <p:spPr>
          <a:xfrm>
            <a:off x="2428920" y="571680"/>
            <a:ext cx="4286160" cy="5607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-166680" y="-100080"/>
            <a:ext cx="9477360" cy="70581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5T16:32:25Z</dcterms:created>
  <dc:creator>Vera</dc:creator>
  <dc:description/>
  <dc:language>en-US</dc:language>
  <cp:lastModifiedBy>Smets</cp:lastModifiedBy>
  <dcterms:modified xsi:type="dcterms:W3CDTF">2011-02-28T18:54:20Z</dcterms:modified>
  <cp:revision>4</cp:revision>
  <dc:subject/>
  <dc:title>Snímek 1</dc:title>
</cp:coreProperties>
</file>